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0.wmf" ContentType="image/x-wmf"/>
  <Override PartName="/ppt/media/image5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3.gif" ContentType="image/gif"/>
  <Override PartName="/ppt/media/image2.wmf" ContentType="image/x-wmf"/>
  <Override PartName="/ppt/media/image2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4.png" ContentType="image/png"/>
  <Override PartName="/ppt/media/image19.gif" ContentType="image/gif"/>
  <Override PartName="/ppt/media/image1.gif" ContentType="image/gif"/>
  <Override PartName="/ppt/media/image20.gif" ContentType="image/gif"/>
  <Override PartName="/ppt/media/image18.gif" ContentType="image/gif"/>
  <Override PartName="/ppt/media/image17.wmf" ContentType="image/x-wmf"/>
  <Override PartName="/ppt/media/image14.gif" ContentType="image/gif"/>
  <Override PartName="/ppt/media/image16.wmf" ContentType="image/x-wmf"/>
  <Override PartName="/ppt/media/image27.gif" ContentType="image/gif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D577-22ED-46DE-B0AF-30442656E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4466-C8E7-4F95-BE8E-1F092BC9A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896A-DE7E-4A06-95BE-723B34C47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6B2E-A016-4AD6-A60A-416ECD91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B89D-DF5B-4CA4-8661-A0B0AE0F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968A-D20D-4D8B-82C2-ECF0584B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FE6F-B7E2-439E-932D-5ED5F036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6BB6-CB7A-4F3D-AE5C-D5667B6B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7329-C997-4BB0-9F01-AF353CFE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0FEF-A892-485E-B58A-AF2AD421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F19B-EE1C-47C9-9ADE-ACA122DE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D589-6078-4BEA-9DAE-426E7A6F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5B32-AEDD-4CFD-8FB0-62EEC935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6423-DCC1-435A-9897-B58892C3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DE2B-B5DD-4986-8872-A27229A8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5181-E097-4154-B732-C694032D6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3.wmf"/><Relationship Id="rId4" Type="http://schemas.openxmlformats.org/officeDocument/2006/relationships/image" Target="../media/image14.gi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gif"/><Relationship Id="rId9" Type="http://schemas.openxmlformats.org/officeDocument/2006/relationships/image" Target="../media/image19.gif"/><Relationship Id="rId10" Type="http://schemas.openxmlformats.org/officeDocument/2006/relationships/image" Target="../media/image20.gif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1.wmf"/><Relationship Id="rId4" Type="http://schemas.openxmlformats.org/officeDocument/2006/relationships/image" Target="../media/image6.wmf"/><Relationship Id="rId5" Type="http://schemas.openxmlformats.org/officeDocument/2006/relationships/image" Target="../media/image4.wm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1.wmf"/><Relationship Id="rId4" Type="http://schemas.openxmlformats.org/officeDocument/2006/relationships/image" Target="../media/image18.gif"/><Relationship Id="rId5" Type="http://schemas.openxmlformats.org/officeDocument/2006/relationships/image" Target="../media/image20.gi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1.wmf"/><Relationship Id="rId4" Type="http://schemas.openxmlformats.org/officeDocument/2006/relationships/image" Target="../media/image7.wmf"/><Relationship Id="rId5" Type="http://schemas.openxmlformats.org/officeDocument/2006/relationships/image" Target="../media/image16.wm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6600"/>
                </a:solidFill>
                <a:latin typeface="Comic Sans MS"/>
              </a:rPr>
              <a:t>Les s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71592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Comic Sans MS"/>
              </a:rPr>
              <a:t>Year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40720" y="5013360"/>
            <a:ext cx="919080" cy="9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332000" y="1125360"/>
            <a:ext cx="6264360" cy="5465520"/>
          </a:xfrm>
          <a:prstGeom prst="rect">
            <a:avLst/>
          </a:prstGeom>
          <a:noFill/>
          <a:ln w="28440">
            <a:solidFill>
              <a:srgbClr val="008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Comic Sans MS"/>
              </a:rPr>
              <a:t>Football is bo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Comic Sans MS"/>
              </a:rPr>
              <a:t>2. Tennis is excellen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Comic Sans MS"/>
              </a:rPr>
              <a:t>3. Rugby is danger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Comic Sans MS"/>
              </a:rPr>
              <a:t>4. Cycling is rubb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Comic Sans MS"/>
              </a:rPr>
              <a:t>5. Gymnastics is inter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thinking"/>
          <p:cNvPicPr/>
          <p:nvPr/>
        </p:nvPicPr>
        <p:blipFill>
          <a:blip r:embed="rId1"/>
          <a:stretch/>
        </p:blipFill>
        <p:spPr>
          <a:xfrm>
            <a:off x="7956720" y="2924280"/>
            <a:ext cx="939600" cy="10522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233" name="Text Box 4"/>
          <p:cNvSpPr/>
          <p:nvPr/>
        </p:nvSpPr>
        <p:spPr>
          <a:xfrm>
            <a:off x="1476360" y="15228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Translate the following sentences in 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1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037200"/>
            <a:ext cx="826920" cy="820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88360" y="6107040"/>
            <a:ext cx="755640" cy="750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ani_thinkingcap"/>
          <p:cNvPicPr/>
          <p:nvPr/>
        </p:nvPicPr>
        <p:blipFill>
          <a:blip r:embed="rId4"/>
          <a:stretch/>
        </p:blipFill>
        <p:spPr>
          <a:xfrm rot="21375600">
            <a:off x="323640" y="259920"/>
            <a:ext cx="66816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9"/>
          <p:cNvSpPr/>
          <p:nvPr/>
        </p:nvSpPr>
        <p:spPr>
          <a:xfrm>
            <a:off x="468360" y="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Level 3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4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0560" y="6159600"/>
            <a:ext cx="703440" cy="698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107040"/>
            <a:ext cx="755640" cy="7509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7"/>
          <p:cNvSpPr/>
          <p:nvPr/>
        </p:nvSpPr>
        <p:spPr>
          <a:xfrm>
            <a:off x="395280" y="551664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ype your answers in ENGLISH into the box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8" descr="MCj03974900000[1]"/>
          <p:cNvPicPr/>
          <p:nvPr/>
        </p:nvPicPr>
        <p:blipFill>
          <a:blip r:embed="rId3"/>
          <a:stretch/>
        </p:blipFill>
        <p:spPr>
          <a:xfrm>
            <a:off x="324000" y="1341360"/>
            <a:ext cx="2879640" cy="154296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19"/>
          <p:cNvSpPr/>
          <p:nvPr/>
        </p:nvSpPr>
        <p:spPr>
          <a:xfrm>
            <a:off x="4427640" y="981000"/>
            <a:ext cx="4464000" cy="1513080"/>
          </a:xfrm>
          <a:prstGeom prst="wedgeRoundRectCallout">
            <a:avLst>
              <a:gd name="adj1" fmla="val -97509"/>
              <a:gd name="adj2" fmla="val 33212"/>
              <a:gd name="adj3" fmla="val 16667"/>
            </a:avLst>
          </a:prstGeom>
          <a:solidFill>
            <a:srgbClr val="ccff99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onjour! Je m’appelle Laur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’adore le tennis, c’est super. Je n’aime pas le basket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parce qu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c’est ennuyeux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mai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j’aime la na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Level 4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3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12200" y="6230880"/>
            <a:ext cx="631800" cy="627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0" y="6178320"/>
            <a:ext cx="684360" cy="6793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7"/>
          <p:cNvSpPr/>
          <p:nvPr/>
        </p:nvSpPr>
        <p:spPr>
          <a:xfrm>
            <a:off x="826920" y="646128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ype your answers in ENGLISH into the box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8" descr="j0396714[1]"/>
          <p:cNvPicPr/>
          <p:nvPr/>
        </p:nvPicPr>
        <p:blipFill>
          <a:blip r:embed="rId3"/>
          <a:stretch/>
        </p:blipFill>
        <p:spPr>
          <a:xfrm>
            <a:off x="468360" y="1268280"/>
            <a:ext cx="2305080" cy="199260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19"/>
          <p:cNvSpPr/>
          <p:nvPr/>
        </p:nvSpPr>
        <p:spPr>
          <a:xfrm>
            <a:off x="4500720" y="765000"/>
            <a:ext cx="4464000" cy="2880000"/>
          </a:xfrm>
          <a:prstGeom prst="wedgeRoundRectCallout">
            <a:avLst>
              <a:gd name="adj1" fmla="val -118597"/>
              <a:gd name="adj2" fmla="val -18523"/>
              <a:gd name="adj3" fmla="val 16667"/>
            </a:avLst>
          </a:prstGeom>
          <a:solidFill>
            <a:srgbClr val="ccff99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onjour! Je m’appelle Frédéric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e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j’ai douze ans. J’habite au Sénégal en Afr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’adore le foot, c’est super.  Je joue au foot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avec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on frère Gérard. Je n’aime pas le judo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parce qu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c’est nul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mai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j’aime le rugby.  Je joue au rugby le samedi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avec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mes copains, c'est dangereux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mai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c’est super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Vocabulai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324000" y="981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k at the previous slides: what do the words below mean?  Use a dictionary if you’re not 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-360" y="6037200"/>
            <a:ext cx="826920" cy="820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88360" y="6107040"/>
            <a:ext cx="755640" cy="750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ani_thinkingcap"/>
          <p:cNvPicPr/>
          <p:nvPr/>
        </p:nvPicPr>
        <p:blipFill>
          <a:blip r:embed="rId3"/>
          <a:stretch/>
        </p:blipFill>
        <p:spPr>
          <a:xfrm rot="424200">
            <a:off x="8028000" y="404280"/>
            <a:ext cx="668160" cy="98136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Comic Sans MS"/>
              </a:rPr>
              <a:t>Writing task level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e yourself and say what sports you like and dislike. Don’t       forget to give an opinion about th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0" y="6178320"/>
            <a:ext cx="684360" cy="679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59640" y="6178680"/>
            <a:ext cx="684360" cy="679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ani_thinkingcap"/>
          <p:cNvPicPr/>
          <p:nvPr/>
        </p:nvPicPr>
        <p:blipFill>
          <a:blip r:embed="rId3"/>
          <a:stretch/>
        </p:blipFill>
        <p:spPr>
          <a:xfrm rot="424200">
            <a:off x="8172360" y="333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If you have successfully completed the previous slide, you have achieved level 4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Mr%20Men"/>
          <p:cNvPicPr/>
          <p:nvPr/>
        </p:nvPicPr>
        <p:blipFill>
          <a:blip r:embed="rId1"/>
          <a:stretch/>
        </p:blipFill>
        <p:spPr>
          <a:xfrm>
            <a:off x="4140360" y="3645000"/>
            <a:ext cx="774720" cy="941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a12.gif"/>
          <p:cNvPicPr/>
          <p:nvPr/>
        </p:nvPicPr>
        <p:blipFill>
          <a:blip r:embed="rId2"/>
          <a:stretch/>
        </p:blipFill>
        <p:spPr>
          <a:xfrm>
            <a:off x="3635280" y="5300640"/>
            <a:ext cx="1905120" cy="66672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5"/>
          <p:cNvSpPr/>
          <p:nvPr/>
        </p:nvSpPr>
        <p:spPr>
          <a:xfrm>
            <a:off x="4859280" y="3429000"/>
            <a:ext cx="1728720" cy="792000"/>
          </a:xfrm>
          <a:prstGeom prst="wedgeEllipseCallout">
            <a:avLst>
              <a:gd name="adj1" fmla="val -62763"/>
              <a:gd name="adj2" fmla="val 25148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Comic Sans MS"/>
              </a:rPr>
              <a:t>Excelle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7" descr="j0364154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"/>
          <p:cNvSpPr/>
          <p:nvPr/>
        </p:nvSpPr>
        <p:spPr>
          <a:xfrm>
            <a:off x="34920" y="158760"/>
            <a:ext cx="5613480" cy="6699240"/>
          </a:xfrm>
          <a:custGeom>
            <a:avLst/>
            <a:gdLst>
              <a:gd name="textAreaLeft" fmla="*/ 0 w 5613480"/>
              <a:gd name="textAreaRight" fmla="*/ 5613840 w 5613480"/>
              <a:gd name="textAreaTop" fmla="*/ 0 h 6699240"/>
              <a:gd name="textAreaBottom" fmla="*/ 6699600 h 6699240"/>
            </a:gdLst>
            <a:ahLst/>
            <a:rect l="textAreaLeft" t="textAreaTop" r="textAreaRight" b="textAreaBottom"/>
            <a:pathLst>
              <a:path w="3536" h="4220">
                <a:moveTo>
                  <a:pt x="2312" y="4220"/>
                </a:moveTo>
                <a:lnTo>
                  <a:pt x="2295" y="4218"/>
                </a:lnTo>
                <a:lnTo>
                  <a:pt x="2282" y="4214"/>
                </a:lnTo>
                <a:lnTo>
                  <a:pt x="2271" y="4210"/>
                </a:lnTo>
                <a:lnTo>
                  <a:pt x="2261" y="4205"/>
                </a:lnTo>
                <a:lnTo>
                  <a:pt x="2254" y="4199"/>
                </a:lnTo>
                <a:lnTo>
                  <a:pt x="2248" y="4190"/>
                </a:lnTo>
                <a:lnTo>
                  <a:pt x="2243" y="4182"/>
                </a:lnTo>
                <a:lnTo>
                  <a:pt x="2241" y="4169"/>
                </a:lnTo>
                <a:lnTo>
                  <a:pt x="2271" y="4139"/>
                </a:lnTo>
                <a:lnTo>
                  <a:pt x="2310" y="4104"/>
                </a:lnTo>
                <a:lnTo>
                  <a:pt x="2353" y="4065"/>
                </a:lnTo>
                <a:lnTo>
                  <a:pt x="2401" y="4027"/>
                </a:lnTo>
                <a:lnTo>
                  <a:pt x="2444" y="3986"/>
                </a:lnTo>
                <a:lnTo>
                  <a:pt x="2480" y="3945"/>
                </a:lnTo>
                <a:lnTo>
                  <a:pt x="2511" y="3904"/>
                </a:lnTo>
                <a:lnTo>
                  <a:pt x="2526" y="3865"/>
                </a:lnTo>
                <a:lnTo>
                  <a:pt x="2498" y="3837"/>
                </a:lnTo>
                <a:lnTo>
                  <a:pt x="2480" y="3809"/>
                </a:lnTo>
                <a:lnTo>
                  <a:pt x="2472" y="3781"/>
                </a:lnTo>
                <a:lnTo>
                  <a:pt x="2467" y="3753"/>
                </a:lnTo>
                <a:lnTo>
                  <a:pt x="2467" y="3723"/>
                </a:lnTo>
                <a:lnTo>
                  <a:pt x="2470" y="3693"/>
                </a:lnTo>
                <a:lnTo>
                  <a:pt x="2472" y="3659"/>
                </a:lnTo>
                <a:lnTo>
                  <a:pt x="2472" y="3622"/>
                </a:lnTo>
                <a:lnTo>
                  <a:pt x="2480" y="3517"/>
                </a:lnTo>
                <a:lnTo>
                  <a:pt x="2487" y="3428"/>
                </a:lnTo>
                <a:lnTo>
                  <a:pt x="2493" y="3310"/>
                </a:lnTo>
                <a:lnTo>
                  <a:pt x="2502" y="3110"/>
                </a:lnTo>
                <a:lnTo>
                  <a:pt x="2511" y="3054"/>
                </a:lnTo>
                <a:lnTo>
                  <a:pt x="2521" y="3000"/>
                </a:lnTo>
                <a:lnTo>
                  <a:pt x="2532" y="2944"/>
                </a:lnTo>
                <a:lnTo>
                  <a:pt x="2543" y="2888"/>
                </a:lnTo>
                <a:lnTo>
                  <a:pt x="2551" y="2832"/>
                </a:lnTo>
                <a:lnTo>
                  <a:pt x="2562" y="2778"/>
                </a:lnTo>
                <a:lnTo>
                  <a:pt x="2571" y="2725"/>
                </a:lnTo>
                <a:lnTo>
                  <a:pt x="2577" y="2673"/>
                </a:lnTo>
                <a:lnTo>
                  <a:pt x="2508" y="2673"/>
                </a:lnTo>
                <a:lnTo>
                  <a:pt x="2448" y="2673"/>
                </a:lnTo>
                <a:lnTo>
                  <a:pt x="2394" y="2673"/>
                </a:lnTo>
                <a:lnTo>
                  <a:pt x="2347" y="2675"/>
                </a:lnTo>
                <a:lnTo>
                  <a:pt x="2302" y="2675"/>
                </a:lnTo>
                <a:lnTo>
                  <a:pt x="2259" y="2675"/>
                </a:lnTo>
                <a:lnTo>
                  <a:pt x="2218" y="2675"/>
                </a:lnTo>
                <a:lnTo>
                  <a:pt x="2177" y="2675"/>
                </a:lnTo>
                <a:lnTo>
                  <a:pt x="2134" y="2677"/>
                </a:lnTo>
                <a:lnTo>
                  <a:pt x="2088" y="2677"/>
                </a:lnTo>
                <a:lnTo>
                  <a:pt x="2037" y="2677"/>
                </a:lnTo>
                <a:lnTo>
                  <a:pt x="1983" y="2679"/>
                </a:lnTo>
                <a:lnTo>
                  <a:pt x="1920" y="2679"/>
                </a:lnTo>
                <a:lnTo>
                  <a:pt x="1852" y="2682"/>
                </a:lnTo>
                <a:lnTo>
                  <a:pt x="1772" y="2682"/>
                </a:lnTo>
                <a:lnTo>
                  <a:pt x="1681" y="2684"/>
                </a:lnTo>
                <a:lnTo>
                  <a:pt x="1675" y="2686"/>
                </a:lnTo>
                <a:lnTo>
                  <a:pt x="1671" y="2686"/>
                </a:lnTo>
                <a:lnTo>
                  <a:pt x="1664" y="2688"/>
                </a:lnTo>
                <a:lnTo>
                  <a:pt x="1660" y="2690"/>
                </a:lnTo>
                <a:lnTo>
                  <a:pt x="1673" y="2725"/>
                </a:lnTo>
                <a:lnTo>
                  <a:pt x="1686" y="2763"/>
                </a:lnTo>
                <a:lnTo>
                  <a:pt x="1701" y="2806"/>
                </a:lnTo>
                <a:lnTo>
                  <a:pt x="1714" y="2849"/>
                </a:lnTo>
                <a:lnTo>
                  <a:pt x="1725" y="2895"/>
                </a:lnTo>
                <a:lnTo>
                  <a:pt x="1731" y="2938"/>
                </a:lnTo>
                <a:lnTo>
                  <a:pt x="1731" y="2979"/>
                </a:lnTo>
                <a:lnTo>
                  <a:pt x="1725" y="3017"/>
                </a:lnTo>
                <a:lnTo>
                  <a:pt x="1716" y="3019"/>
                </a:lnTo>
                <a:lnTo>
                  <a:pt x="1707" y="3022"/>
                </a:lnTo>
                <a:lnTo>
                  <a:pt x="1697" y="3026"/>
                </a:lnTo>
                <a:lnTo>
                  <a:pt x="1688" y="3030"/>
                </a:lnTo>
                <a:lnTo>
                  <a:pt x="1697" y="3127"/>
                </a:lnTo>
                <a:lnTo>
                  <a:pt x="1714" y="3226"/>
                </a:lnTo>
                <a:lnTo>
                  <a:pt x="1729" y="3329"/>
                </a:lnTo>
                <a:lnTo>
                  <a:pt x="1725" y="3437"/>
                </a:lnTo>
                <a:lnTo>
                  <a:pt x="1705" y="3441"/>
                </a:lnTo>
                <a:lnTo>
                  <a:pt x="1690" y="3446"/>
                </a:lnTo>
                <a:lnTo>
                  <a:pt x="1677" y="3450"/>
                </a:lnTo>
                <a:lnTo>
                  <a:pt x="1666" y="3452"/>
                </a:lnTo>
                <a:lnTo>
                  <a:pt x="1653" y="3454"/>
                </a:lnTo>
                <a:lnTo>
                  <a:pt x="1641" y="3458"/>
                </a:lnTo>
                <a:lnTo>
                  <a:pt x="1623" y="3463"/>
                </a:lnTo>
                <a:lnTo>
                  <a:pt x="1602" y="3467"/>
                </a:lnTo>
                <a:lnTo>
                  <a:pt x="1600" y="3553"/>
                </a:lnTo>
                <a:lnTo>
                  <a:pt x="1597" y="3637"/>
                </a:lnTo>
                <a:lnTo>
                  <a:pt x="1595" y="3723"/>
                </a:lnTo>
                <a:lnTo>
                  <a:pt x="1593" y="3809"/>
                </a:lnTo>
                <a:lnTo>
                  <a:pt x="1619" y="3809"/>
                </a:lnTo>
                <a:lnTo>
                  <a:pt x="1645" y="3811"/>
                </a:lnTo>
                <a:lnTo>
                  <a:pt x="1666" y="3814"/>
                </a:lnTo>
                <a:lnTo>
                  <a:pt x="1684" y="3820"/>
                </a:lnTo>
                <a:lnTo>
                  <a:pt x="1699" y="3833"/>
                </a:lnTo>
                <a:lnTo>
                  <a:pt x="1709" y="3850"/>
                </a:lnTo>
                <a:lnTo>
                  <a:pt x="1716" y="3876"/>
                </a:lnTo>
                <a:lnTo>
                  <a:pt x="1716" y="3910"/>
                </a:lnTo>
                <a:lnTo>
                  <a:pt x="1703" y="3934"/>
                </a:lnTo>
                <a:lnTo>
                  <a:pt x="1686" y="3958"/>
                </a:lnTo>
                <a:lnTo>
                  <a:pt x="1666" y="3981"/>
                </a:lnTo>
                <a:lnTo>
                  <a:pt x="1645" y="4003"/>
                </a:lnTo>
                <a:lnTo>
                  <a:pt x="1621" y="4027"/>
                </a:lnTo>
                <a:lnTo>
                  <a:pt x="1597" y="4048"/>
                </a:lnTo>
                <a:lnTo>
                  <a:pt x="1578" y="4070"/>
                </a:lnTo>
                <a:lnTo>
                  <a:pt x="1559" y="4091"/>
                </a:lnTo>
                <a:lnTo>
                  <a:pt x="1537" y="4098"/>
                </a:lnTo>
                <a:lnTo>
                  <a:pt x="1518" y="4100"/>
                </a:lnTo>
                <a:lnTo>
                  <a:pt x="1498" y="4102"/>
                </a:lnTo>
                <a:lnTo>
                  <a:pt x="1479" y="4100"/>
                </a:lnTo>
                <a:lnTo>
                  <a:pt x="1462" y="4096"/>
                </a:lnTo>
                <a:lnTo>
                  <a:pt x="1445" y="4089"/>
                </a:lnTo>
                <a:lnTo>
                  <a:pt x="1429" y="4080"/>
                </a:lnTo>
                <a:lnTo>
                  <a:pt x="1414" y="4068"/>
                </a:lnTo>
                <a:lnTo>
                  <a:pt x="1412" y="4033"/>
                </a:lnTo>
                <a:lnTo>
                  <a:pt x="1410" y="3999"/>
                </a:lnTo>
                <a:lnTo>
                  <a:pt x="1408" y="3971"/>
                </a:lnTo>
                <a:lnTo>
                  <a:pt x="1408" y="3943"/>
                </a:lnTo>
                <a:lnTo>
                  <a:pt x="1414" y="3917"/>
                </a:lnTo>
                <a:lnTo>
                  <a:pt x="1423" y="3891"/>
                </a:lnTo>
                <a:lnTo>
                  <a:pt x="1438" y="3867"/>
                </a:lnTo>
                <a:lnTo>
                  <a:pt x="1460" y="3844"/>
                </a:lnTo>
                <a:lnTo>
                  <a:pt x="1470" y="3751"/>
                </a:lnTo>
                <a:lnTo>
                  <a:pt x="1477" y="3659"/>
                </a:lnTo>
                <a:lnTo>
                  <a:pt x="1477" y="3568"/>
                </a:lnTo>
                <a:lnTo>
                  <a:pt x="1470" y="3480"/>
                </a:lnTo>
                <a:lnTo>
                  <a:pt x="1449" y="3478"/>
                </a:lnTo>
                <a:lnTo>
                  <a:pt x="1427" y="3478"/>
                </a:lnTo>
                <a:lnTo>
                  <a:pt x="1406" y="3476"/>
                </a:lnTo>
                <a:lnTo>
                  <a:pt x="1386" y="3474"/>
                </a:lnTo>
                <a:lnTo>
                  <a:pt x="1367" y="3471"/>
                </a:lnTo>
                <a:lnTo>
                  <a:pt x="1350" y="3469"/>
                </a:lnTo>
                <a:lnTo>
                  <a:pt x="1337" y="3469"/>
                </a:lnTo>
                <a:lnTo>
                  <a:pt x="1328" y="3469"/>
                </a:lnTo>
                <a:lnTo>
                  <a:pt x="1322" y="3532"/>
                </a:lnTo>
                <a:lnTo>
                  <a:pt x="1313" y="3592"/>
                </a:lnTo>
                <a:lnTo>
                  <a:pt x="1302" y="3654"/>
                </a:lnTo>
                <a:lnTo>
                  <a:pt x="1296" y="3715"/>
                </a:lnTo>
                <a:lnTo>
                  <a:pt x="1292" y="3732"/>
                </a:lnTo>
                <a:lnTo>
                  <a:pt x="1287" y="3745"/>
                </a:lnTo>
                <a:lnTo>
                  <a:pt x="1283" y="3762"/>
                </a:lnTo>
                <a:lnTo>
                  <a:pt x="1283" y="3783"/>
                </a:lnTo>
                <a:lnTo>
                  <a:pt x="1341" y="3809"/>
                </a:lnTo>
                <a:lnTo>
                  <a:pt x="1369" y="3837"/>
                </a:lnTo>
                <a:lnTo>
                  <a:pt x="1373" y="3870"/>
                </a:lnTo>
                <a:lnTo>
                  <a:pt x="1361" y="3904"/>
                </a:lnTo>
                <a:lnTo>
                  <a:pt x="1335" y="3941"/>
                </a:lnTo>
                <a:lnTo>
                  <a:pt x="1300" y="3975"/>
                </a:lnTo>
                <a:lnTo>
                  <a:pt x="1264" y="4009"/>
                </a:lnTo>
                <a:lnTo>
                  <a:pt x="1229" y="4040"/>
                </a:lnTo>
                <a:lnTo>
                  <a:pt x="1197" y="4046"/>
                </a:lnTo>
                <a:lnTo>
                  <a:pt x="1167" y="4052"/>
                </a:lnTo>
                <a:lnTo>
                  <a:pt x="1139" y="4052"/>
                </a:lnTo>
                <a:lnTo>
                  <a:pt x="1117" y="4048"/>
                </a:lnTo>
                <a:lnTo>
                  <a:pt x="1098" y="4040"/>
                </a:lnTo>
                <a:lnTo>
                  <a:pt x="1083" y="4025"/>
                </a:lnTo>
                <a:lnTo>
                  <a:pt x="1074" y="3999"/>
                </a:lnTo>
                <a:lnTo>
                  <a:pt x="1070" y="3966"/>
                </a:lnTo>
                <a:lnTo>
                  <a:pt x="1072" y="3941"/>
                </a:lnTo>
                <a:lnTo>
                  <a:pt x="1074" y="3915"/>
                </a:lnTo>
                <a:lnTo>
                  <a:pt x="1076" y="3889"/>
                </a:lnTo>
                <a:lnTo>
                  <a:pt x="1083" y="3867"/>
                </a:lnTo>
                <a:lnTo>
                  <a:pt x="1089" y="3846"/>
                </a:lnTo>
                <a:lnTo>
                  <a:pt x="1100" y="3829"/>
                </a:lnTo>
                <a:lnTo>
                  <a:pt x="1117" y="3816"/>
                </a:lnTo>
                <a:lnTo>
                  <a:pt x="1139" y="3807"/>
                </a:lnTo>
                <a:lnTo>
                  <a:pt x="1154" y="3751"/>
                </a:lnTo>
                <a:lnTo>
                  <a:pt x="1167" y="3695"/>
                </a:lnTo>
                <a:lnTo>
                  <a:pt x="1178" y="3639"/>
                </a:lnTo>
                <a:lnTo>
                  <a:pt x="1186" y="3583"/>
                </a:lnTo>
                <a:lnTo>
                  <a:pt x="1193" y="3527"/>
                </a:lnTo>
                <a:lnTo>
                  <a:pt x="1195" y="3471"/>
                </a:lnTo>
                <a:lnTo>
                  <a:pt x="1197" y="3415"/>
                </a:lnTo>
                <a:lnTo>
                  <a:pt x="1195" y="3359"/>
                </a:lnTo>
                <a:lnTo>
                  <a:pt x="1180" y="3357"/>
                </a:lnTo>
                <a:lnTo>
                  <a:pt x="1165" y="3351"/>
                </a:lnTo>
                <a:lnTo>
                  <a:pt x="1152" y="3347"/>
                </a:lnTo>
                <a:lnTo>
                  <a:pt x="1139" y="3340"/>
                </a:lnTo>
                <a:lnTo>
                  <a:pt x="1128" y="3334"/>
                </a:lnTo>
                <a:lnTo>
                  <a:pt x="1115" y="3327"/>
                </a:lnTo>
                <a:lnTo>
                  <a:pt x="1106" y="3321"/>
                </a:lnTo>
                <a:lnTo>
                  <a:pt x="1096" y="3314"/>
                </a:lnTo>
                <a:lnTo>
                  <a:pt x="1102" y="3265"/>
                </a:lnTo>
                <a:lnTo>
                  <a:pt x="1109" y="3207"/>
                </a:lnTo>
                <a:lnTo>
                  <a:pt x="1113" y="3153"/>
                </a:lnTo>
                <a:lnTo>
                  <a:pt x="1106" y="3112"/>
                </a:lnTo>
                <a:lnTo>
                  <a:pt x="1100" y="3112"/>
                </a:lnTo>
                <a:lnTo>
                  <a:pt x="1094" y="3112"/>
                </a:lnTo>
                <a:lnTo>
                  <a:pt x="1089" y="3112"/>
                </a:lnTo>
                <a:lnTo>
                  <a:pt x="1085" y="3112"/>
                </a:lnTo>
                <a:lnTo>
                  <a:pt x="1081" y="3110"/>
                </a:lnTo>
                <a:lnTo>
                  <a:pt x="1078" y="3108"/>
                </a:lnTo>
                <a:lnTo>
                  <a:pt x="1076" y="3106"/>
                </a:lnTo>
                <a:lnTo>
                  <a:pt x="1074" y="3103"/>
                </a:lnTo>
                <a:lnTo>
                  <a:pt x="1070" y="3002"/>
                </a:lnTo>
                <a:lnTo>
                  <a:pt x="1061" y="2903"/>
                </a:lnTo>
                <a:lnTo>
                  <a:pt x="1050" y="2804"/>
                </a:lnTo>
                <a:lnTo>
                  <a:pt x="1038" y="2707"/>
                </a:lnTo>
                <a:lnTo>
                  <a:pt x="1016" y="2703"/>
                </a:lnTo>
                <a:lnTo>
                  <a:pt x="992" y="2701"/>
                </a:lnTo>
                <a:lnTo>
                  <a:pt x="962" y="2701"/>
                </a:lnTo>
                <a:lnTo>
                  <a:pt x="932" y="2701"/>
                </a:lnTo>
                <a:lnTo>
                  <a:pt x="902" y="2703"/>
                </a:lnTo>
                <a:lnTo>
                  <a:pt x="874" y="2705"/>
                </a:lnTo>
                <a:lnTo>
                  <a:pt x="846" y="2707"/>
                </a:lnTo>
                <a:lnTo>
                  <a:pt x="824" y="2710"/>
                </a:lnTo>
                <a:lnTo>
                  <a:pt x="799" y="2742"/>
                </a:lnTo>
                <a:lnTo>
                  <a:pt x="786" y="2761"/>
                </a:lnTo>
                <a:lnTo>
                  <a:pt x="790" y="2787"/>
                </a:lnTo>
                <a:lnTo>
                  <a:pt x="811" y="2828"/>
                </a:lnTo>
                <a:lnTo>
                  <a:pt x="816" y="2856"/>
                </a:lnTo>
                <a:lnTo>
                  <a:pt x="814" y="2880"/>
                </a:lnTo>
                <a:lnTo>
                  <a:pt x="809" y="2895"/>
                </a:lnTo>
                <a:lnTo>
                  <a:pt x="801" y="2903"/>
                </a:lnTo>
                <a:lnTo>
                  <a:pt x="790" y="2903"/>
                </a:lnTo>
                <a:lnTo>
                  <a:pt x="775" y="2897"/>
                </a:lnTo>
                <a:lnTo>
                  <a:pt x="758" y="2884"/>
                </a:lnTo>
                <a:lnTo>
                  <a:pt x="736" y="2860"/>
                </a:lnTo>
                <a:lnTo>
                  <a:pt x="734" y="2860"/>
                </a:lnTo>
                <a:lnTo>
                  <a:pt x="732" y="2860"/>
                </a:lnTo>
                <a:lnTo>
                  <a:pt x="730" y="2860"/>
                </a:lnTo>
                <a:lnTo>
                  <a:pt x="727" y="2862"/>
                </a:lnTo>
                <a:lnTo>
                  <a:pt x="719" y="2882"/>
                </a:lnTo>
                <a:lnTo>
                  <a:pt x="712" y="2903"/>
                </a:lnTo>
                <a:lnTo>
                  <a:pt x="706" y="2925"/>
                </a:lnTo>
                <a:lnTo>
                  <a:pt x="699" y="2944"/>
                </a:lnTo>
                <a:lnTo>
                  <a:pt x="691" y="2963"/>
                </a:lnTo>
                <a:lnTo>
                  <a:pt x="680" y="2979"/>
                </a:lnTo>
                <a:lnTo>
                  <a:pt x="663" y="2991"/>
                </a:lnTo>
                <a:lnTo>
                  <a:pt x="641" y="3000"/>
                </a:lnTo>
                <a:lnTo>
                  <a:pt x="635" y="2981"/>
                </a:lnTo>
                <a:lnTo>
                  <a:pt x="633" y="2966"/>
                </a:lnTo>
                <a:lnTo>
                  <a:pt x="633" y="2953"/>
                </a:lnTo>
                <a:lnTo>
                  <a:pt x="633" y="2938"/>
                </a:lnTo>
                <a:lnTo>
                  <a:pt x="618" y="2944"/>
                </a:lnTo>
                <a:lnTo>
                  <a:pt x="605" y="2959"/>
                </a:lnTo>
                <a:lnTo>
                  <a:pt x="592" y="2979"/>
                </a:lnTo>
                <a:lnTo>
                  <a:pt x="583" y="2994"/>
                </a:lnTo>
                <a:lnTo>
                  <a:pt x="577" y="2991"/>
                </a:lnTo>
                <a:lnTo>
                  <a:pt x="570" y="2991"/>
                </a:lnTo>
                <a:lnTo>
                  <a:pt x="562" y="2991"/>
                </a:lnTo>
                <a:lnTo>
                  <a:pt x="555" y="2991"/>
                </a:lnTo>
                <a:lnTo>
                  <a:pt x="553" y="2953"/>
                </a:lnTo>
                <a:lnTo>
                  <a:pt x="562" y="2920"/>
                </a:lnTo>
                <a:lnTo>
                  <a:pt x="572" y="2890"/>
                </a:lnTo>
                <a:lnTo>
                  <a:pt x="585" y="2858"/>
                </a:lnTo>
                <a:lnTo>
                  <a:pt x="575" y="2862"/>
                </a:lnTo>
                <a:lnTo>
                  <a:pt x="564" y="2869"/>
                </a:lnTo>
                <a:lnTo>
                  <a:pt x="555" y="2873"/>
                </a:lnTo>
                <a:lnTo>
                  <a:pt x="544" y="2875"/>
                </a:lnTo>
                <a:lnTo>
                  <a:pt x="536" y="2880"/>
                </a:lnTo>
                <a:lnTo>
                  <a:pt x="525" y="2882"/>
                </a:lnTo>
                <a:lnTo>
                  <a:pt x="516" y="2882"/>
                </a:lnTo>
                <a:lnTo>
                  <a:pt x="506" y="2882"/>
                </a:lnTo>
                <a:lnTo>
                  <a:pt x="510" y="2847"/>
                </a:lnTo>
                <a:lnTo>
                  <a:pt x="525" y="2821"/>
                </a:lnTo>
                <a:lnTo>
                  <a:pt x="547" y="2800"/>
                </a:lnTo>
                <a:lnTo>
                  <a:pt x="572" y="2781"/>
                </a:lnTo>
                <a:lnTo>
                  <a:pt x="603" y="2766"/>
                </a:lnTo>
                <a:lnTo>
                  <a:pt x="631" y="2748"/>
                </a:lnTo>
                <a:lnTo>
                  <a:pt x="656" y="2729"/>
                </a:lnTo>
                <a:lnTo>
                  <a:pt x="678" y="2705"/>
                </a:lnTo>
                <a:lnTo>
                  <a:pt x="676" y="2701"/>
                </a:lnTo>
                <a:lnTo>
                  <a:pt x="674" y="2699"/>
                </a:lnTo>
                <a:lnTo>
                  <a:pt x="671" y="2694"/>
                </a:lnTo>
                <a:lnTo>
                  <a:pt x="671" y="2692"/>
                </a:lnTo>
                <a:lnTo>
                  <a:pt x="643" y="2692"/>
                </a:lnTo>
                <a:lnTo>
                  <a:pt x="613" y="2692"/>
                </a:lnTo>
                <a:lnTo>
                  <a:pt x="579" y="2692"/>
                </a:lnTo>
                <a:lnTo>
                  <a:pt x="542" y="2692"/>
                </a:lnTo>
                <a:lnTo>
                  <a:pt x="504" y="2694"/>
                </a:lnTo>
                <a:lnTo>
                  <a:pt x="465" y="2694"/>
                </a:lnTo>
                <a:lnTo>
                  <a:pt x="424" y="2694"/>
                </a:lnTo>
                <a:lnTo>
                  <a:pt x="381" y="2694"/>
                </a:lnTo>
                <a:lnTo>
                  <a:pt x="338" y="2697"/>
                </a:lnTo>
                <a:lnTo>
                  <a:pt x="295" y="2697"/>
                </a:lnTo>
                <a:lnTo>
                  <a:pt x="252" y="2697"/>
                </a:lnTo>
                <a:lnTo>
                  <a:pt x="211" y="2699"/>
                </a:lnTo>
                <a:lnTo>
                  <a:pt x="170" y="2699"/>
                </a:lnTo>
                <a:lnTo>
                  <a:pt x="129" y="2699"/>
                </a:lnTo>
                <a:lnTo>
                  <a:pt x="90" y="2699"/>
                </a:lnTo>
                <a:lnTo>
                  <a:pt x="53" y="2699"/>
                </a:lnTo>
                <a:lnTo>
                  <a:pt x="47" y="2692"/>
                </a:lnTo>
                <a:lnTo>
                  <a:pt x="43" y="2688"/>
                </a:lnTo>
                <a:lnTo>
                  <a:pt x="36" y="2686"/>
                </a:lnTo>
                <a:lnTo>
                  <a:pt x="28" y="2682"/>
                </a:lnTo>
                <a:lnTo>
                  <a:pt x="15" y="2279"/>
                </a:lnTo>
                <a:lnTo>
                  <a:pt x="13" y="1879"/>
                </a:lnTo>
                <a:lnTo>
                  <a:pt x="15" y="1481"/>
                </a:lnTo>
                <a:lnTo>
                  <a:pt x="17" y="1083"/>
                </a:lnTo>
                <a:lnTo>
                  <a:pt x="4" y="831"/>
                </a:lnTo>
                <a:lnTo>
                  <a:pt x="0" y="579"/>
                </a:lnTo>
                <a:lnTo>
                  <a:pt x="0" y="327"/>
                </a:lnTo>
                <a:lnTo>
                  <a:pt x="2" y="80"/>
                </a:lnTo>
                <a:lnTo>
                  <a:pt x="15" y="71"/>
                </a:lnTo>
                <a:lnTo>
                  <a:pt x="41" y="62"/>
                </a:lnTo>
                <a:lnTo>
                  <a:pt x="73" y="56"/>
                </a:lnTo>
                <a:lnTo>
                  <a:pt x="112" y="52"/>
                </a:lnTo>
                <a:lnTo>
                  <a:pt x="150" y="47"/>
                </a:lnTo>
                <a:lnTo>
                  <a:pt x="189" y="45"/>
                </a:lnTo>
                <a:lnTo>
                  <a:pt x="219" y="41"/>
                </a:lnTo>
                <a:lnTo>
                  <a:pt x="243" y="39"/>
                </a:lnTo>
                <a:lnTo>
                  <a:pt x="264" y="39"/>
                </a:lnTo>
                <a:lnTo>
                  <a:pt x="299" y="37"/>
                </a:lnTo>
                <a:lnTo>
                  <a:pt x="344" y="37"/>
                </a:lnTo>
                <a:lnTo>
                  <a:pt x="398" y="34"/>
                </a:lnTo>
                <a:lnTo>
                  <a:pt x="463" y="32"/>
                </a:lnTo>
                <a:lnTo>
                  <a:pt x="532" y="30"/>
                </a:lnTo>
                <a:lnTo>
                  <a:pt x="609" y="26"/>
                </a:lnTo>
                <a:lnTo>
                  <a:pt x="691" y="24"/>
                </a:lnTo>
                <a:lnTo>
                  <a:pt x="775" y="19"/>
                </a:lnTo>
                <a:lnTo>
                  <a:pt x="861" y="17"/>
                </a:lnTo>
                <a:lnTo>
                  <a:pt x="949" y="13"/>
                </a:lnTo>
                <a:lnTo>
                  <a:pt x="1035" y="11"/>
                </a:lnTo>
                <a:lnTo>
                  <a:pt x="1122" y="9"/>
                </a:lnTo>
                <a:lnTo>
                  <a:pt x="1203" y="4"/>
                </a:lnTo>
                <a:lnTo>
                  <a:pt x="1281" y="2"/>
                </a:lnTo>
                <a:lnTo>
                  <a:pt x="1354" y="0"/>
                </a:lnTo>
                <a:lnTo>
                  <a:pt x="1408" y="0"/>
                </a:lnTo>
                <a:lnTo>
                  <a:pt x="1462" y="0"/>
                </a:lnTo>
                <a:lnTo>
                  <a:pt x="1516" y="0"/>
                </a:lnTo>
                <a:lnTo>
                  <a:pt x="1569" y="2"/>
                </a:lnTo>
                <a:lnTo>
                  <a:pt x="1623" y="2"/>
                </a:lnTo>
                <a:lnTo>
                  <a:pt x="1677" y="2"/>
                </a:lnTo>
                <a:lnTo>
                  <a:pt x="1731" y="4"/>
                </a:lnTo>
                <a:lnTo>
                  <a:pt x="1785" y="6"/>
                </a:lnTo>
                <a:lnTo>
                  <a:pt x="1839" y="6"/>
                </a:lnTo>
                <a:lnTo>
                  <a:pt x="1892" y="9"/>
                </a:lnTo>
                <a:lnTo>
                  <a:pt x="1948" y="11"/>
                </a:lnTo>
                <a:lnTo>
                  <a:pt x="2002" y="13"/>
                </a:lnTo>
                <a:lnTo>
                  <a:pt x="2056" y="13"/>
                </a:lnTo>
                <a:lnTo>
                  <a:pt x="2110" y="15"/>
                </a:lnTo>
                <a:lnTo>
                  <a:pt x="2164" y="17"/>
                </a:lnTo>
                <a:lnTo>
                  <a:pt x="2218" y="19"/>
                </a:lnTo>
                <a:lnTo>
                  <a:pt x="2271" y="22"/>
                </a:lnTo>
                <a:lnTo>
                  <a:pt x="2327" y="26"/>
                </a:lnTo>
                <a:lnTo>
                  <a:pt x="2381" y="28"/>
                </a:lnTo>
                <a:lnTo>
                  <a:pt x="2435" y="30"/>
                </a:lnTo>
                <a:lnTo>
                  <a:pt x="2489" y="32"/>
                </a:lnTo>
                <a:lnTo>
                  <a:pt x="2545" y="34"/>
                </a:lnTo>
                <a:lnTo>
                  <a:pt x="2599" y="39"/>
                </a:lnTo>
                <a:lnTo>
                  <a:pt x="2653" y="41"/>
                </a:lnTo>
                <a:lnTo>
                  <a:pt x="2709" y="43"/>
                </a:lnTo>
                <a:lnTo>
                  <a:pt x="2762" y="47"/>
                </a:lnTo>
                <a:lnTo>
                  <a:pt x="2816" y="49"/>
                </a:lnTo>
                <a:lnTo>
                  <a:pt x="2872" y="52"/>
                </a:lnTo>
                <a:lnTo>
                  <a:pt x="2926" y="56"/>
                </a:lnTo>
                <a:lnTo>
                  <a:pt x="2982" y="58"/>
                </a:lnTo>
                <a:lnTo>
                  <a:pt x="3036" y="62"/>
                </a:lnTo>
                <a:lnTo>
                  <a:pt x="3092" y="65"/>
                </a:lnTo>
                <a:lnTo>
                  <a:pt x="3094" y="108"/>
                </a:lnTo>
                <a:lnTo>
                  <a:pt x="3092" y="164"/>
                </a:lnTo>
                <a:lnTo>
                  <a:pt x="3085" y="217"/>
                </a:lnTo>
                <a:lnTo>
                  <a:pt x="3079" y="263"/>
                </a:lnTo>
                <a:lnTo>
                  <a:pt x="3083" y="661"/>
                </a:lnTo>
                <a:lnTo>
                  <a:pt x="3085" y="869"/>
                </a:lnTo>
                <a:lnTo>
                  <a:pt x="3088" y="953"/>
                </a:lnTo>
                <a:lnTo>
                  <a:pt x="3090" y="984"/>
                </a:lnTo>
                <a:lnTo>
                  <a:pt x="3109" y="1001"/>
                </a:lnTo>
                <a:lnTo>
                  <a:pt x="3122" y="1014"/>
                </a:lnTo>
                <a:lnTo>
                  <a:pt x="3133" y="1029"/>
                </a:lnTo>
                <a:lnTo>
                  <a:pt x="3150" y="1048"/>
                </a:lnTo>
                <a:lnTo>
                  <a:pt x="3163" y="1095"/>
                </a:lnTo>
                <a:lnTo>
                  <a:pt x="3169" y="1154"/>
                </a:lnTo>
                <a:lnTo>
                  <a:pt x="3169" y="1216"/>
                </a:lnTo>
                <a:lnTo>
                  <a:pt x="3163" y="1281"/>
                </a:lnTo>
                <a:lnTo>
                  <a:pt x="3146" y="1343"/>
                </a:lnTo>
                <a:lnTo>
                  <a:pt x="3122" y="1397"/>
                </a:lnTo>
                <a:lnTo>
                  <a:pt x="3088" y="1438"/>
                </a:lnTo>
                <a:lnTo>
                  <a:pt x="3040" y="1466"/>
                </a:lnTo>
                <a:lnTo>
                  <a:pt x="3034" y="1498"/>
                </a:lnTo>
                <a:lnTo>
                  <a:pt x="3029" y="1537"/>
                </a:lnTo>
                <a:lnTo>
                  <a:pt x="3032" y="1573"/>
                </a:lnTo>
                <a:lnTo>
                  <a:pt x="3049" y="1605"/>
                </a:lnTo>
                <a:lnTo>
                  <a:pt x="3060" y="1623"/>
                </a:lnTo>
                <a:lnTo>
                  <a:pt x="3070" y="1644"/>
                </a:lnTo>
                <a:lnTo>
                  <a:pt x="3081" y="1666"/>
                </a:lnTo>
                <a:lnTo>
                  <a:pt x="3092" y="1689"/>
                </a:lnTo>
                <a:lnTo>
                  <a:pt x="3141" y="1700"/>
                </a:lnTo>
                <a:lnTo>
                  <a:pt x="3182" y="1717"/>
                </a:lnTo>
                <a:lnTo>
                  <a:pt x="3221" y="1739"/>
                </a:lnTo>
                <a:lnTo>
                  <a:pt x="3256" y="1767"/>
                </a:lnTo>
                <a:lnTo>
                  <a:pt x="3288" y="1801"/>
                </a:lnTo>
                <a:lnTo>
                  <a:pt x="3318" y="1840"/>
                </a:lnTo>
                <a:lnTo>
                  <a:pt x="3350" y="1883"/>
                </a:lnTo>
                <a:lnTo>
                  <a:pt x="3383" y="1930"/>
                </a:lnTo>
                <a:lnTo>
                  <a:pt x="3396" y="1956"/>
                </a:lnTo>
                <a:lnTo>
                  <a:pt x="3406" y="1984"/>
                </a:lnTo>
                <a:lnTo>
                  <a:pt x="3419" y="2012"/>
                </a:lnTo>
                <a:lnTo>
                  <a:pt x="3430" y="2042"/>
                </a:lnTo>
                <a:lnTo>
                  <a:pt x="3441" y="2073"/>
                </a:lnTo>
                <a:lnTo>
                  <a:pt x="3449" y="2105"/>
                </a:lnTo>
                <a:lnTo>
                  <a:pt x="3460" y="2135"/>
                </a:lnTo>
                <a:lnTo>
                  <a:pt x="3471" y="2165"/>
                </a:lnTo>
                <a:lnTo>
                  <a:pt x="3469" y="2178"/>
                </a:lnTo>
                <a:lnTo>
                  <a:pt x="3462" y="2191"/>
                </a:lnTo>
                <a:lnTo>
                  <a:pt x="3452" y="2204"/>
                </a:lnTo>
                <a:lnTo>
                  <a:pt x="3439" y="2217"/>
                </a:lnTo>
                <a:lnTo>
                  <a:pt x="3424" y="2227"/>
                </a:lnTo>
                <a:lnTo>
                  <a:pt x="3408" y="2238"/>
                </a:lnTo>
                <a:lnTo>
                  <a:pt x="3396" y="2247"/>
                </a:lnTo>
                <a:lnTo>
                  <a:pt x="3383" y="2255"/>
                </a:lnTo>
                <a:lnTo>
                  <a:pt x="3372" y="2292"/>
                </a:lnTo>
                <a:lnTo>
                  <a:pt x="3363" y="2322"/>
                </a:lnTo>
                <a:lnTo>
                  <a:pt x="3352" y="2350"/>
                </a:lnTo>
                <a:lnTo>
                  <a:pt x="3342" y="2376"/>
                </a:lnTo>
                <a:lnTo>
                  <a:pt x="3329" y="2400"/>
                </a:lnTo>
                <a:lnTo>
                  <a:pt x="3312" y="2423"/>
                </a:lnTo>
                <a:lnTo>
                  <a:pt x="3292" y="2449"/>
                </a:lnTo>
                <a:lnTo>
                  <a:pt x="3269" y="2477"/>
                </a:lnTo>
                <a:lnTo>
                  <a:pt x="3266" y="2490"/>
                </a:lnTo>
                <a:lnTo>
                  <a:pt x="3262" y="2499"/>
                </a:lnTo>
                <a:lnTo>
                  <a:pt x="3258" y="2507"/>
                </a:lnTo>
                <a:lnTo>
                  <a:pt x="3247" y="2518"/>
                </a:lnTo>
                <a:lnTo>
                  <a:pt x="3253" y="2544"/>
                </a:lnTo>
                <a:lnTo>
                  <a:pt x="3269" y="2580"/>
                </a:lnTo>
                <a:lnTo>
                  <a:pt x="3284" y="2626"/>
                </a:lnTo>
                <a:lnTo>
                  <a:pt x="3297" y="2673"/>
                </a:lnTo>
                <a:lnTo>
                  <a:pt x="3318" y="2860"/>
                </a:lnTo>
                <a:lnTo>
                  <a:pt x="3335" y="3050"/>
                </a:lnTo>
                <a:lnTo>
                  <a:pt x="3348" y="3239"/>
                </a:lnTo>
                <a:lnTo>
                  <a:pt x="3352" y="3433"/>
                </a:lnTo>
                <a:lnTo>
                  <a:pt x="3344" y="3629"/>
                </a:lnTo>
                <a:lnTo>
                  <a:pt x="3340" y="3738"/>
                </a:lnTo>
                <a:lnTo>
                  <a:pt x="3335" y="3799"/>
                </a:lnTo>
                <a:lnTo>
                  <a:pt x="3331" y="3848"/>
                </a:lnTo>
                <a:lnTo>
                  <a:pt x="3322" y="3859"/>
                </a:lnTo>
                <a:lnTo>
                  <a:pt x="3316" y="3863"/>
                </a:lnTo>
                <a:lnTo>
                  <a:pt x="3312" y="3867"/>
                </a:lnTo>
                <a:lnTo>
                  <a:pt x="3303" y="3872"/>
                </a:lnTo>
                <a:lnTo>
                  <a:pt x="3309" y="3891"/>
                </a:lnTo>
                <a:lnTo>
                  <a:pt x="3329" y="3919"/>
                </a:lnTo>
                <a:lnTo>
                  <a:pt x="3359" y="3953"/>
                </a:lnTo>
                <a:lnTo>
                  <a:pt x="3391" y="3990"/>
                </a:lnTo>
                <a:lnTo>
                  <a:pt x="3426" y="4027"/>
                </a:lnTo>
                <a:lnTo>
                  <a:pt x="3460" y="4061"/>
                </a:lnTo>
                <a:lnTo>
                  <a:pt x="3486" y="4089"/>
                </a:lnTo>
                <a:lnTo>
                  <a:pt x="3505" y="4106"/>
                </a:lnTo>
                <a:lnTo>
                  <a:pt x="3518" y="4126"/>
                </a:lnTo>
                <a:lnTo>
                  <a:pt x="3529" y="4145"/>
                </a:lnTo>
                <a:lnTo>
                  <a:pt x="3536" y="4169"/>
                </a:lnTo>
                <a:lnTo>
                  <a:pt x="3536" y="4195"/>
                </a:lnTo>
                <a:lnTo>
                  <a:pt x="3512" y="4205"/>
                </a:lnTo>
                <a:lnTo>
                  <a:pt x="3488" y="4212"/>
                </a:lnTo>
                <a:lnTo>
                  <a:pt x="3462" y="4214"/>
                </a:lnTo>
                <a:lnTo>
                  <a:pt x="3436" y="4210"/>
                </a:lnTo>
                <a:lnTo>
                  <a:pt x="3408" y="4203"/>
                </a:lnTo>
                <a:lnTo>
                  <a:pt x="3380" y="4192"/>
                </a:lnTo>
                <a:lnTo>
                  <a:pt x="3352" y="4179"/>
                </a:lnTo>
                <a:lnTo>
                  <a:pt x="3325" y="4162"/>
                </a:lnTo>
                <a:lnTo>
                  <a:pt x="3297" y="4147"/>
                </a:lnTo>
                <a:lnTo>
                  <a:pt x="3269" y="4128"/>
                </a:lnTo>
                <a:lnTo>
                  <a:pt x="3241" y="4111"/>
                </a:lnTo>
                <a:lnTo>
                  <a:pt x="3217" y="4093"/>
                </a:lnTo>
                <a:lnTo>
                  <a:pt x="3191" y="4076"/>
                </a:lnTo>
                <a:lnTo>
                  <a:pt x="3169" y="4061"/>
                </a:lnTo>
                <a:lnTo>
                  <a:pt x="3148" y="4046"/>
                </a:lnTo>
                <a:lnTo>
                  <a:pt x="3129" y="4035"/>
                </a:lnTo>
                <a:lnTo>
                  <a:pt x="3124" y="3990"/>
                </a:lnTo>
                <a:lnTo>
                  <a:pt x="3118" y="3930"/>
                </a:lnTo>
                <a:lnTo>
                  <a:pt x="3109" y="3872"/>
                </a:lnTo>
                <a:lnTo>
                  <a:pt x="3094" y="3837"/>
                </a:lnTo>
                <a:lnTo>
                  <a:pt x="3109" y="3654"/>
                </a:lnTo>
                <a:lnTo>
                  <a:pt x="3122" y="3471"/>
                </a:lnTo>
                <a:lnTo>
                  <a:pt x="3133" y="3288"/>
                </a:lnTo>
                <a:lnTo>
                  <a:pt x="3137" y="3106"/>
                </a:lnTo>
                <a:lnTo>
                  <a:pt x="3129" y="3035"/>
                </a:lnTo>
                <a:lnTo>
                  <a:pt x="3120" y="2959"/>
                </a:lnTo>
                <a:lnTo>
                  <a:pt x="3103" y="2886"/>
                </a:lnTo>
                <a:lnTo>
                  <a:pt x="3077" y="2828"/>
                </a:lnTo>
                <a:lnTo>
                  <a:pt x="3040" y="2817"/>
                </a:lnTo>
                <a:lnTo>
                  <a:pt x="2999" y="2809"/>
                </a:lnTo>
                <a:lnTo>
                  <a:pt x="2954" y="2802"/>
                </a:lnTo>
                <a:lnTo>
                  <a:pt x="2911" y="2802"/>
                </a:lnTo>
                <a:lnTo>
                  <a:pt x="2866" y="2804"/>
                </a:lnTo>
                <a:lnTo>
                  <a:pt x="2827" y="2813"/>
                </a:lnTo>
                <a:lnTo>
                  <a:pt x="2793" y="2830"/>
                </a:lnTo>
                <a:lnTo>
                  <a:pt x="2765" y="2854"/>
                </a:lnTo>
                <a:lnTo>
                  <a:pt x="2741" y="2953"/>
                </a:lnTo>
                <a:lnTo>
                  <a:pt x="2726" y="3056"/>
                </a:lnTo>
                <a:lnTo>
                  <a:pt x="2715" y="3164"/>
                </a:lnTo>
                <a:lnTo>
                  <a:pt x="2711" y="3273"/>
                </a:lnTo>
                <a:lnTo>
                  <a:pt x="2709" y="3385"/>
                </a:lnTo>
                <a:lnTo>
                  <a:pt x="2711" y="3495"/>
                </a:lnTo>
                <a:lnTo>
                  <a:pt x="2715" y="3603"/>
                </a:lnTo>
                <a:lnTo>
                  <a:pt x="2722" y="3706"/>
                </a:lnTo>
                <a:lnTo>
                  <a:pt x="2730" y="3738"/>
                </a:lnTo>
                <a:lnTo>
                  <a:pt x="2739" y="3771"/>
                </a:lnTo>
                <a:lnTo>
                  <a:pt x="2747" y="3803"/>
                </a:lnTo>
                <a:lnTo>
                  <a:pt x="2756" y="3837"/>
                </a:lnTo>
                <a:lnTo>
                  <a:pt x="2734" y="3878"/>
                </a:lnTo>
                <a:lnTo>
                  <a:pt x="2730" y="3921"/>
                </a:lnTo>
                <a:lnTo>
                  <a:pt x="2732" y="3969"/>
                </a:lnTo>
                <a:lnTo>
                  <a:pt x="2730" y="4022"/>
                </a:lnTo>
                <a:lnTo>
                  <a:pt x="2717" y="4035"/>
                </a:lnTo>
                <a:lnTo>
                  <a:pt x="2702" y="4046"/>
                </a:lnTo>
                <a:lnTo>
                  <a:pt x="2687" y="4057"/>
                </a:lnTo>
                <a:lnTo>
                  <a:pt x="2674" y="4065"/>
                </a:lnTo>
                <a:lnTo>
                  <a:pt x="2659" y="4074"/>
                </a:lnTo>
                <a:lnTo>
                  <a:pt x="2644" y="4080"/>
                </a:lnTo>
                <a:lnTo>
                  <a:pt x="2629" y="4087"/>
                </a:lnTo>
                <a:lnTo>
                  <a:pt x="2614" y="4091"/>
                </a:lnTo>
                <a:lnTo>
                  <a:pt x="2584" y="4115"/>
                </a:lnTo>
                <a:lnTo>
                  <a:pt x="2549" y="4139"/>
                </a:lnTo>
                <a:lnTo>
                  <a:pt x="2511" y="4160"/>
                </a:lnTo>
                <a:lnTo>
                  <a:pt x="2470" y="4179"/>
                </a:lnTo>
                <a:lnTo>
                  <a:pt x="2429" y="4197"/>
                </a:lnTo>
                <a:lnTo>
                  <a:pt x="2390" y="4210"/>
                </a:lnTo>
                <a:lnTo>
                  <a:pt x="2349" y="4218"/>
                </a:lnTo>
                <a:lnTo>
                  <a:pt x="2312" y="42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3"/>
          <p:cNvSpPr/>
          <p:nvPr/>
        </p:nvSpPr>
        <p:spPr>
          <a:xfrm>
            <a:off x="3637080" y="6318360"/>
            <a:ext cx="701640" cy="506160"/>
          </a:xfrm>
          <a:custGeom>
            <a:avLst/>
            <a:gdLst>
              <a:gd name="textAreaLeft" fmla="*/ 0 w 701640"/>
              <a:gd name="textAreaRight" fmla="*/ 702000 w 701640"/>
              <a:gd name="textAreaTop" fmla="*/ 0 h 506160"/>
              <a:gd name="textAreaBottom" fmla="*/ 506520 h 506160"/>
            </a:gdLst>
            <a:ahLst/>
            <a:rect l="textAreaLeft" t="textAreaTop" r="textAreaRight" b="textAreaBottom"/>
            <a:pathLst>
              <a:path w="442" h="319">
                <a:moveTo>
                  <a:pt x="46" y="319"/>
                </a:moveTo>
                <a:lnTo>
                  <a:pt x="24" y="315"/>
                </a:lnTo>
                <a:lnTo>
                  <a:pt x="13" y="312"/>
                </a:lnTo>
                <a:lnTo>
                  <a:pt x="7" y="310"/>
                </a:lnTo>
                <a:lnTo>
                  <a:pt x="0" y="308"/>
                </a:lnTo>
                <a:lnTo>
                  <a:pt x="2" y="302"/>
                </a:lnTo>
                <a:lnTo>
                  <a:pt x="2" y="295"/>
                </a:lnTo>
                <a:lnTo>
                  <a:pt x="5" y="289"/>
                </a:lnTo>
                <a:lnTo>
                  <a:pt x="7" y="282"/>
                </a:lnTo>
                <a:lnTo>
                  <a:pt x="46" y="250"/>
                </a:lnTo>
                <a:lnTo>
                  <a:pt x="82" y="218"/>
                </a:lnTo>
                <a:lnTo>
                  <a:pt x="119" y="185"/>
                </a:lnTo>
                <a:lnTo>
                  <a:pt x="153" y="151"/>
                </a:lnTo>
                <a:lnTo>
                  <a:pt x="188" y="114"/>
                </a:lnTo>
                <a:lnTo>
                  <a:pt x="222" y="78"/>
                </a:lnTo>
                <a:lnTo>
                  <a:pt x="254" y="39"/>
                </a:lnTo>
                <a:lnTo>
                  <a:pt x="285" y="0"/>
                </a:lnTo>
                <a:lnTo>
                  <a:pt x="304" y="2"/>
                </a:lnTo>
                <a:lnTo>
                  <a:pt x="321" y="5"/>
                </a:lnTo>
                <a:lnTo>
                  <a:pt x="341" y="5"/>
                </a:lnTo>
                <a:lnTo>
                  <a:pt x="360" y="5"/>
                </a:lnTo>
                <a:lnTo>
                  <a:pt x="377" y="7"/>
                </a:lnTo>
                <a:lnTo>
                  <a:pt x="399" y="7"/>
                </a:lnTo>
                <a:lnTo>
                  <a:pt x="418" y="7"/>
                </a:lnTo>
                <a:lnTo>
                  <a:pt x="440" y="9"/>
                </a:lnTo>
                <a:lnTo>
                  <a:pt x="440" y="39"/>
                </a:lnTo>
                <a:lnTo>
                  <a:pt x="442" y="69"/>
                </a:lnTo>
                <a:lnTo>
                  <a:pt x="440" y="101"/>
                </a:lnTo>
                <a:lnTo>
                  <a:pt x="437" y="136"/>
                </a:lnTo>
                <a:lnTo>
                  <a:pt x="407" y="155"/>
                </a:lnTo>
                <a:lnTo>
                  <a:pt x="375" y="175"/>
                </a:lnTo>
                <a:lnTo>
                  <a:pt x="343" y="192"/>
                </a:lnTo>
                <a:lnTo>
                  <a:pt x="310" y="209"/>
                </a:lnTo>
                <a:lnTo>
                  <a:pt x="280" y="228"/>
                </a:lnTo>
                <a:lnTo>
                  <a:pt x="248" y="246"/>
                </a:lnTo>
                <a:lnTo>
                  <a:pt x="218" y="265"/>
                </a:lnTo>
                <a:lnTo>
                  <a:pt x="190" y="284"/>
                </a:lnTo>
                <a:lnTo>
                  <a:pt x="173" y="289"/>
                </a:lnTo>
                <a:lnTo>
                  <a:pt x="153" y="295"/>
                </a:lnTo>
                <a:lnTo>
                  <a:pt x="136" y="302"/>
                </a:lnTo>
                <a:lnTo>
                  <a:pt x="117" y="306"/>
                </a:lnTo>
                <a:lnTo>
                  <a:pt x="97" y="312"/>
                </a:lnTo>
                <a:lnTo>
                  <a:pt x="80" y="315"/>
                </a:lnTo>
                <a:lnTo>
                  <a:pt x="61" y="319"/>
                </a:lnTo>
                <a:lnTo>
                  <a:pt x="46" y="319"/>
                </a:lnTo>
                <a:close/>
              </a:path>
            </a:pathLst>
          </a:cu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4"/>
          <p:cNvSpPr/>
          <p:nvPr/>
        </p:nvSpPr>
        <p:spPr>
          <a:xfrm>
            <a:off x="5011560" y="6315120"/>
            <a:ext cx="611280" cy="498600"/>
          </a:xfrm>
          <a:custGeom>
            <a:avLst/>
            <a:gdLst>
              <a:gd name="textAreaLeft" fmla="*/ 0 w 611280"/>
              <a:gd name="textAreaRight" fmla="*/ 611280 w 61128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385" h="314">
                <a:moveTo>
                  <a:pt x="314" y="314"/>
                </a:moveTo>
                <a:lnTo>
                  <a:pt x="280" y="301"/>
                </a:lnTo>
                <a:lnTo>
                  <a:pt x="248" y="289"/>
                </a:lnTo>
                <a:lnTo>
                  <a:pt x="215" y="271"/>
                </a:lnTo>
                <a:lnTo>
                  <a:pt x="185" y="254"/>
                </a:lnTo>
                <a:lnTo>
                  <a:pt x="157" y="235"/>
                </a:lnTo>
                <a:lnTo>
                  <a:pt x="129" y="215"/>
                </a:lnTo>
                <a:lnTo>
                  <a:pt x="103" y="196"/>
                </a:lnTo>
                <a:lnTo>
                  <a:pt x="80" y="174"/>
                </a:lnTo>
                <a:lnTo>
                  <a:pt x="47" y="159"/>
                </a:lnTo>
                <a:lnTo>
                  <a:pt x="26" y="144"/>
                </a:lnTo>
                <a:lnTo>
                  <a:pt x="13" y="125"/>
                </a:lnTo>
                <a:lnTo>
                  <a:pt x="4" y="106"/>
                </a:lnTo>
                <a:lnTo>
                  <a:pt x="2" y="84"/>
                </a:lnTo>
                <a:lnTo>
                  <a:pt x="2" y="58"/>
                </a:lnTo>
                <a:lnTo>
                  <a:pt x="2" y="32"/>
                </a:lnTo>
                <a:lnTo>
                  <a:pt x="0" y="0"/>
                </a:lnTo>
                <a:lnTo>
                  <a:pt x="15" y="2"/>
                </a:lnTo>
                <a:lnTo>
                  <a:pt x="30" y="2"/>
                </a:lnTo>
                <a:lnTo>
                  <a:pt x="47" y="4"/>
                </a:lnTo>
                <a:lnTo>
                  <a:pt x="65" y="7"/>
                </a:lnTo>
                <a:lnTo>
                  <a:pt x="82" y="7"/>
                </a:lnTo>
                <a:lnTo>
                  <a:pt x="101" y="9"/>
                </a:lnTo>
                <a:lnTo>
                  <a:pt x="118" y="9"/>
                </a:lnTo>
                <a:lnTo>
                  <a:pt x="138" y="9"/>
                </a:lnTo>
                <a:lnTo>
                  <a:pt x="166" y="41"/>
                </a:lnTo>
                <a:lnTo>
                  <a:pt x="196" y="75"/>
                </a:lnTo>
                <a:lnTo>
                  <a:pt x="226" y="108"/>
                </a:lnTo>
                <a:lnTo>
                  <a:pt x="256" y="142"/>
                </a:lnTo>
                <a:lnTo>
                  <a:pt x="289" y="177"/>
                </a:lnTo>
                <a:lnTo>
                  <a:pt x="319" y="211"/>
                </a:lnTo>
                <a:lnTo>
                  <a:pt x="349" y="248"/>
                </a:lnTo>
                <a:lnTo>
                  <a:pt x="379" y="284"/>
                </a:lnTo>
                <a:lnTo>
                  <a:pt x="381" y="289"/>
                </a:lnTo>
                <a:lnTo>
                  <a:pt x="381" y="293"/>
                </a:lnTo>
                <a:lnTo>
                  <a:pt x="383" y="297"/>
                </a:lnTo>
                <a:lnTo>
                  <a:pt x="385" y="301"/>
                </a:lnTo>
                <a:lnTo>
                  <a:pt x="377" y="308"/>
                </a:lnTo>
                <a:lnTo>
                  <a:pt x="368" y="312"/>
                </a:lnTo>
                <a:lnTo>
                  <a:pt x="357" y="314"/>
                </a:lnTo>
                <a:lnTo>
                  <a:pt x="347" y="314"/>
                </a:lnTo>
                <a:lnTo>
                  <a:pt x="338" y="314"/>
                </a:lnTo>
                <a:lnTo>
                  <a:pt x="329" y="314"/>
                </a:lnTo>
                <a:lnTo>
                  <a:pt x="321" y="314"/>
                </a:lnTo>
                <a:lnTo>
                  <a:pt x="314" y="314"/>
                </a:lnTo>
                <a:close/>
              </a:path>
            </a:pathLst>
          </a:cu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5"/>
          <p:cNvSpPr/>
          <p:nvPr/>
        </p:nvSpPr>
        <p:spPr>
          <a:xfrm>
            <a:off x="2314440" y="6243480"/>
            <a:ext cx="403200" cy="392400"/>
          </a:xfrm>
          <a:custGeom>
            <a:avLst/>
            <a:gdLst>
              <a:gd name="textAreaLeft" fmla="*/ 0 w 403200"/>
              <a:gd name="textAreaRight" fmla="*/ 403560 w 403200"/>
              <a:gd name="textAreaTop" fmla="*/ 0 h 392400"/>
              <a:gd name="textAreaBottom" fmla="*/ 392760 h 392400"/>
            </a:gdLst>
            <a:ahLst/>
            <a:rect l="textAreaLeft" t="textAreaTop" r="textAreaRight" b="textAreaBottom"/>
            <a:pathLst>
              <a:path w="254" h="247">
                <a:moveTo>
                  <a:pt x="56" y="247"/>
                </a:moveTo>
                <a:lnTo>
                  <a:pt x="34" y="243"/>
                </a:lnTo>
                <a:lnTo>
                  <a:pt x="19" y="237"/>
                </a:lnTo>
                <a:lnTo>
                  <a:pt x="6" y="230"/>
                </a:lnTo>
                <a:lnTo>
                  <a:pt x="0" y="222"/>
                </a:lnTo>
                <a:lnTo>
                  <a:pt x="0" y="176"/>
                </a:lnTo>
                <a:lnTo>
                  <a:pt x="0" y="133"/>
                </a:lnTo>
                <a:lnTo>
                  <a:pt x="2" y="93"/>
                </a:lnTo>
                <a:lnTo>
                  <a:pt x="9" y="54"/>
                </a:lnTo>
                <a:lnTo>
                  <a:pt x="15" y="58"/>
                </a:lnTo>
                <a:lnTo>
                  <a:pt x="21" y="65"/>
                </a:lnTo>
                <a:lnTo>
                  <a:pt x="26" y="73"/>
                </a:lnTo>
                <a:lnTo>
                  <a:pt x="37" y="84"/>
                </a:lnTo>
                <a:lnTo>
                  <a:pt x="65" y="88"/>
                </a:lnTo>
                <a:lnTo>
                  <a:pt x="86" y="88"/>
                </a:lnTo>
                <a:lnTo>
                  <a:pt x="105" y="84"/>
                </a:lnTo>
                <a:lnTo>
                  <a:pt x="121" y="75"/>
                </a:lnTo>
                <a:lnTo>
                  <a:pt x="131" y="65"/>
                </a:lnTo>
                <a:lnTo>
                  <a:pt x="140" y="47"/>
                </a:lnTo>
                <a:lnTo>
                  <a:pt x="146" y="28"/>
                </a:lnTo>
                <a:lnTo>
                  <a:pt x="153" y="4"/>
                </a:lnTo>
                <a:lnTo>
                  <a:pt x="181" y="0"/>
                </a:lnTo>
                <a:lnTo>
                  <a:pt x="205" y="0"/>
                </a:lnTo>
                <a:lnTo>
                  <a:pt x="226" y="4"/>
                </a:lnTo>
                <a:lnTo>
                  <a:pt x="241" y="15"/>
                </a:lnTo>
                <a:lnTo>
                  <a:pt x="250" y="28"/>
                </a:lnTo>
                <a:lnTo>
                  <a:pt x="254" y="47"/>
                </a:lnTo>
                <a:lnTo>
                  <a:pt x="254" y="73"/>
                </a:lnTo>
                <a:lnTo>
                  <a:pt x="245" y="103"/>
                </a:lnTo>
                <a:lnTo>
                  <a:pt x="235" y="114"/>
                </a:lnTo>
                <a:lnTo>
                  <a:pt x="224" y="125"/>
                </a:lnTo>
                <a:lnTo>
                  <a:pt x="213" y="138"/>
                </a:lnTo>
                <a:lnTo>
                  <a:pt x="202" y="148"/>
                </a:lnTo>
                <a:lnTo>
                  <a:pt x="189" y="159"/>
                </a:lnTo>
                <a:lnTo>
                  <a:pt x="179" y="170"/>
                </a:lnTo>
                <a:lnTo>
                  <a:pt x="166" y="179"/>
                </a:lnTo>
                <a:lnTo>
                  <a:pt x="153" y="189"/>
                </a:lnTo>
                <a:lnTo>
                  <a:pt x="140" y="204"/>
                </a:lnTo>
                <a:lnTo>
                  <a:pt x="129" y="217"/>
                </a:lnTo>
                <a:lnTo>
                  <a:pt x="121" y="228"/>
                </a:lnTo>
                <a:lnTo>
                  <a:pt x="112" y="237"/>
                </a:lnTo>
                <a:lnTo>
                  <a:pt x="101" y="241"/>
                </a:lnTo>
                <a:lnTo>
                  <a:pt x="88" y="245"/>
                </a:lnTo>
                <a:lnTo>
                  <a:pt x="73" y="247"/>
                </a:lnTo>
                <a:lnTo>
                  <a:pt x="56" y="2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6"/>
          <p:cNvSpPr/>
          <p:nvPr/>
        </p:nvSpPr>
        <p:spPr>
          <a:xfrm>
            <a:off x="1771560" y="6213600"/>
            <a:ext cx="403200" cy="347400"/>
          </a:xfrm>
          <a:custGeom>
            <a:avLst/>
            <a:gdLst>
              <a:gd name="textAreaLeft" fmla="*/ 0 w 403200"/>
              <a:gd name="textAreaRight" fmla="*/ 403560 w 403200"/>
              <a:gd name="textAreaTop" fmla="*/ 0 h 347400"/>
              <a:gd name="textAreaBottom" fmla="*/ 347760 h 347400"/>
            </a:gdLst>
            <a:ahLst/>
            <a:rect l="textAreaLeft" t="textAreaTop" r="textAreaRight" b="textAreaBottom"/>
            <a:pathLst>
              <a:path w="254" h="219">
                <a:moveTo>
                  <a:pt x="60" y="219"/>
                </a:moveTo>
                <a:lnTo>
                  <a:pt x="34" y="213"/>
                </a:lnTo>
                <a:lnTo>
                  <a:pt x="17" y="202"/>
                </a:lnTo>
                <a:lnTo>
                  <a:pt x="6" y="189"/>
                </a:lnTo>
                <a:lnTo>
                  <a:pt x="2" y="174"/>
                </a:lnTo>
                <a:lnTo>
                  <a:pt x="0" y="157"/>
                </a:lnTo>
                <a:lnTo>
                  <a:pt x="2" y="137"/>
                </a:lnTo>
                <a:lnTo>
                  <a:pt x="4" y="118"/>
                </a:lnTo>
                <a:lnTo>
                  <a:pt x="6" y="96"/>
                </a:lnTo>
                <a:lnTo>
                  <a:pt x="15" y="60"/>
                </a:lnTo>
                <a:lnTo>
                  <a:pt x="19" y="40"/>
                </a:lnTo>
                <a:lnTo>
                  <a:pt x="21" y="32"/>
                </a:lnTo>
                <a:lnTo>
                  <a:pt x="23" y="25"/>
                </a:lnTo>
                <a:lnTo>
                  <a:pt x="28" y="23"/>
                </a:lnTo>
                <a:lnTo>
                  <a:pt x="32" y="23"/>
                </a:lnTo>
                <a:lnTo>
                  <a:pt x="34" y="23"/>
                </a:lnTo>
                <a:lnTo>
                  <a:pt x="38" y="23"/>
                </a:lnTo>
                <a:lnTo>
                  <a:pt x="43" y="36"/>
                </a:lnTo>
                <a:lnTo>
                  <a:pt x="51" y="49"/>
                </a:lnTo>
                <a:lnTo>
                  <a:pt x="64" y="58"/>
                </a:lnTo>
                <a:lnTo>
                  <a:pt x="81" y="64"/>
                </a:lnTo>
                <a:lnTo>
                  <a:pt x="99" y="68"/>
                </a:lnTo>
                <a:lnTo>
                  <a:pt x="118" y="71"/>
                </a:lnTo>
                <a:lnTo>
                  <a:pt x="137" y="71"/>
                </a:lnTo>
                <a:lnTo>
                  <a:pt x="152" y="66"/>
                </a:lnTo>
                <a:lnTo>
                  <a:pt x="161" y="51"/>
                </a:lnTo>
                <a:lnTo>
                  <a:pt x="168" y="38"/>
                </a:lnTo>
                <a:lnTo>
                  <a:pt x="170" y="23"/>
                </a:lnTo>
                <a:lnTo>
                  <a:pt x="174" y="0"/>
                </a:lnTo>
                <a:lnTo>
                  <a:pt x="187" y="0"/>
                </a:lnTo>
                <a:lnTo>
                  <a:pt x="196" y="0"/>
                </a:lnTo>
                <a:lnTo>
                  <a:pt x="204" y="2"/>
                </a:lnTo>
                <a:lnTo>
                  <a:pt x="213" y="4"/>
                </a:lnTo>
                <a:lnTo>
                  <a:pt x="219" y="6"/>
                </a:lnTo>
                <a:lnTo>
                  <a:pt x="230" y="10"/>
                </a:lnTo>
                <a:lnTo>
                  <a:pt x="241" y="19"/>
                </a:lnTo>
                <a:lnTo>
                  <a:pt x="254" y="28"/>
                </a:lnTo>
                <a:lnTo>
                  <a:pt x="252" y="58"/>
                </a:lnTo>
                <a:lnTo>
                  <a:pt x="243" y="84"/>
                </a:lnTo>
                <a:lnTo>
                  <a:pt x="230" y="105"/>
                </a:lnTo>
                <a:lnTo>
                  <a:pt x="213" y="124"/>
                </a:lnTo>
                <a:lnTo>
                  <a:pt x="193" y="144"/>
                </a:lnTo>
                <a:lnTo>
                  <a:pt x="172" y="163"/>
                </a:lnTo>
                <a:lnTo>
                  <a:pt x="150" y="183"/>
                </a:lnTo>
                <a:lnTo>
                  <a:pt x="129" y="206"/>
                </a:lnTo>
                <a:lnTo>
                  <a:pt x="120" y="208"/>
                </a:lnTo>
                <a:lnTo>
                  <a:pt x="112" y="208"/>
                </a:lnTo>
                <a:lnTo>
                  <a:pt x="103" y="211"/>
                </a:lnTo>
                <a:lnTo>
                  <a:pt x="94" y="213"/>
                </a:lnTo>
                <a:lnTo>
                  <a:pt x="86" y="215"/>
                </a:lnTo>
                <a:lnTo>
                  <a:pt x="77" y="215"/>
                </a:lnTo>
                <a:lnTo>
                  <a:pt x="68" y="217"/>
                </a:lnTo>
                <a:lnTo>
                  <a:pt x="60" y="2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7"/>
          <p:cNvSpPr/>
          <p:nvPr/>
        </p:nvSpPr>
        <p:spPr>
          <a:xfrm>
            <a:off x="2392200" y="6062760"/>
            <a:ext cx="141480" cy="290520"/>
          </a:xfrm>
          <a:custGeom>
            <a:avLst/>
            <a:gdLst>
              <a:gd name="textAreaLeft" fmla="*/ 0 w 141480"/>
              <a:gd name="textAreaRight" fmla="*/ 141840 w 141480"/>
              <a:gd name="textAreaTop" fmla="*/ 0 h 290520"/>
              <a:gd name="textAreaBottom" fmla="*/ 290520 h 290520"/>
            </a:gdLst>
            <a:ahLst/>
            <a:rect l="textAreaLeft" t="textAreaTop" r="textAreaRight" b="textAreaBottom"/>
            <a:pathLst>
              <a:path w="89" h="183">
                <a:moveTo>
                  <a:pt x="16" y="183"/>
                </a:moveTo>
                <a:lnTo>
                  <a:pt x="13" y="181"/>
                </a:lnTo>
                <a:lnTo>
                  <a:pt x="9" y="181"/>
                </a:lnTo>
                <a:lnTo>
                  <a:pt x="5" y="179"/>
                </a:lnTo>
                <a:lnTo>
                  <a:pt x="0" y="179"/>
                </a:lnTo>
                <a:lnTo>
                  <a:pt x="3" y="131"/>
                </a:lnTo>
                <a:lnTo>
                  <a:pt x="7" y="86"/>
                </a:lnTo>
                <a:lnTo>
                  <a:pt x="11" y="43"/>
                </a:lnTo>
                <a:lnTo>
                  <a:pt x="18" y="0"/>
                </a:lnTo>
                <a:lnTo>
                  <a:pt x="26" y="0"/>
                </a:lnTo>
                <a:lnTo>
                  <a:pt x="37" y="0"/>
                </a:lnTo>
                <a:lnTo>
                  <a:pt x="46" y="0"/>
                </a:lnTo>
                <a:lnTo>
                  <a:pt x="54" y="0"/>
                </a:lnTo>
                <a:lnTo>
                  <a:pt x="63" y="0"/>
                </a:lnTo>
                <a:lnTo>
                  <a:pt x="72" y="0"/>
                </a:lnTo>
                <a:lnTo>
                  <a:pt x="80" y="0"/>
                </a:lnTo>
                <a:lnTo>
                  <a:pt x="89" y="0"/>
                </a:lnTo>
                <a:lnTo>
                  <a:pt x="80" y="80"/>
                </a:lnTo>
                <a:lnTo>
                  <a:pt x="76" y="123"/>
                </a:lnTo>
                <a:lnTo>
                  <a:pt x="74" y="144"/>
                </a:lnTo>
                <a:lnTo>
                  <a:pt x="69" y="163"/>
                </a:lnTo>
                <a:lnTo>
                  <a:pt x="56" y="172"/>
                </a:lnTo>
                <a:lnTo>
                  <a:pt x="44" y="179"/>
                </a:lnTo>
                <a:lnTo>
                  <a:pt x="28" y="183"/>
                </a:lnTo>
                <a:lnTo>
                  <a:pt x="16" y="1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8"/>
          <p:cNvSpPr/>
          <p:nvPr/>
        </p:nvSpPr>
        <p:spPr>
          <a:xfrm>
            <a:off x="3989520" y="4214880"/>
            <a:ext cx="1326960" cy="2087640"/>
          </a:xfrm>
          <a:custGeom>
            <a:avLst/>
            <a:gdLst>
              <a:gd name="textAreaLeft" fmla="*/ 0 w 1326960"/>
              <a:gd name="textAreaRight" fmla="*/ 1327320 w 132696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836" h="1315">
                <a:moveTo>
                  <a:pt x="144" y="1315"/>
                </a:moveTo>
                <a:lnTo>
                  <a:pt x="86" y="1302"/>
                </a:lnTo>
                <a:lnTo>
                  <a:pt x="45" y="1284"/>
                </a:lnTo>
                <a:lnTo>
                  <a:pt x="20" y="1261"/>
                </a:lnTo>
                <a:lnTo>
                  <a:pt x="7" y="1231"/>
                </a:lnTo>
                <a:lnTo>
                  <a:pt x="0" y="1194"/>
                </a:lnTo>
                <a:lnTo>
                  <a:pt x="0" y="1151"/>
                </a:lnTo>
                <a:lnTo>
                  <a:pt x="4" y="1097"/>
                </a:lnTo>
                <a:lnTo>
                  <a:pt x="4" y="1037"/>
                </a:lnTo>
                <a:lnTo>
                  <a:pt x="15" y="908"/>
                </a:lnTo>
                <a:lnTo>
                  <a:pt x="26" y="781"/>
                </a:lnTo>
                <a:lnTo>
                  <a:pt x="37" y="654"/>
                </a:lnTo>
                <a:lnTo>
                  <a:pt x="48" y="529"/>
                </a:lnTo>
                <a:lnTo>
                  <a:pt x="63" y="406"/>
                </a:lnTo>
                <a:lnTo>
                  <a:pt x="82" y="282"/>
                </a:lnTo>
                <a:lnTo>
                  <a:pt x="108" y="159"/>
                </a:lnTo>
                <a:lnTo>
                  <a:pt x="142" y="34"/>
                </a:lnTo>
                <a:lnTo>
                  <a:pt x="153" y="36"/>
                </a:lnTo>
                <a:lnTo>
                  <a:pt x="168" y="40"/>
                </a:lnTo>
                <a:lnTo>
                  <a:pt x="185" y="47"/>
                </a:lnTo>
                <a:lnTo>
                  <a:pt x="209" y="56"/>
                </a:lnTo>
                <a:lnTo>
                  <a:pt x="235" y="64"/>
                </a:lnTo>
                <a:lnTo>
                  <a:pt x="265" y="73"/>
                </a:lnTo>
                <a:lnTo>
                  <a:pt x="297" y="84"/>
                </a:lnTo>
                <a:lnTo>
                  <a:pt x="332" y="94"/>
                </a:lnTo>
                <a:lnTo>
                  <a:pt x="360" y="94"/>
                </a:lnTo>
                <a:lnTo>
                  <a:pt x="386" y="94"/>
                </a:lnTo>
                <a:lnTo>
                  <a:pt x="411" y="92"/>
                </a:lnTo>
                <a:lnTo>
                  <a:pt x="437" y="92"/>
                </a:lnTo>
                <a:lnTo>
                  <a:pt x="463" y="90"/>
                </a:lnTo>
                <a:lnTo>
                  <a:pt x="489" y="88"/>
                </a:lnTo>
                <a:lnTo>
                  <a:pt x="515" y="84"/>
                </a:lnTo>
                <a:lnTo>
                  <a:pt x="538" y="79"/>
                </a:lnTo>
                <a:lnTo>
                  <a:pt x="562" y="75"/>
                </a:lnTo>
                <a:lnTo>
                  <a:pt x="588" y="68"/>
                </a:lnTo>
                <a:lnTo>
                  <a:pt x="612" y="62"/>
                </a:lnTo>
                <a:lnTo>
                  <a:pt x="635" y="51"/>
                </a:lnTo>
                <a:lnTo>
                  <a:pt x="659" y="43"/>
                </a:lnTo>
                <a:lnTo>
                  <a:pt x="685" y="30"/>
                </a:lnTo>
                <a:lnTo>
                  <a:pt x="709" y="15"/>
                </a:lnTo>
                <a:lnTo>
                  <a:pt x="732" y="0"/>
                </a:lnTo>
                <a:lnTo>
                  <a:pt x="737" y="0"/>
                </a:lnTo>
                <a:lnTo>
                  <a:pt x="741" y="0"/>
                </a:lnTo>
                <a:lnTo>
                  <a:pt x="743" y="2"/>
                </a:lnTo>
                <a:lnTo>
                  <a:pt x="747" y="2"/>
                </a:lnTo>
                <a:lnTo>
                  <a:pt x="769" y="79"/>
                </a:lnTo>
                <a:lnTo>
                  <a:pt x="786" y="159"/>
                </a:lnTo>
                <a:lnTo>
                  <a:pt x="799" y="243"/>
                </a:lnTo>
                <a:lnTo>
                  <a:pt x="810" y="327"/>
                </a:lnTo>
                <a:lnTo>
                  <a:pt x="816" y="413"/>
                </a:lnTo>
                <a:lnTo>
                  <a:pt x="823" y="499"/>
                </a:lnTo>
                <a:lnTo>
                  <a:pt x="829" y="583"/>
                </a:lnTo>
                <a:lnTo>
                  <a:pt x="834" y="665"/>
                </a:lnTo>
                <a:lnTo>
                  <a:pt x="836" y="817"/>
                </a:lnTo>
                <a:lnTo>
                  <a:pt x="834" y="972"/>
                </a:lnTo>
                <a:lnTo>
                  <a:pt x="825" y="1129"/>
                </a:lnTo>
                <a:lnTo>
                  <a:pt x="814" y="1287"/>
                </a:lnTo>
                <a:lnTo>
                  <a:pt x="788" y="1297"/>
                </a:lnTo>
                <a:lnTo>
                  <a:pt x="762" y="1306"/>
                </a:lnTo>
                <a:lnTo>
                  <a:pt x="739" y="1310"/>
                </a:lnTo>
                <a:lnTo>
                  <a:pt x="713" y="1310"/>
                </a:lnTo>
                <a:lnTo>
                  <a:pt x="689" y="1308"/>
                </a:lnTo>
                <a:lnTo>
                  <a:pt x="668" y="1299"/>
                </a:lnTo>
                <a:lnTo>
                  <a:pt x="646" y="1289"/>
                </a:lnTo>
                <a:lnTo>
                  <a:pt x="629" y="1272"/>
                </a:lnTo>
                <a:lnTo>
                  <a:pt x="640" y="1145"/>
                </a:lnTo>
                <a:lnTo>
                  <a:pt x="653" y="1018"/>
                </a:lnTo>
                <a:lnTo>
                  <a:pt x="663" y="888"/>
                </a:lnTo>
                <a:lnTo>
                  <a:pt x="672" y="759"/>
                </a:lnTo>
                <a:lnTo>
                  <a:pt x="672" y="632"/>
                </a:lnTo>
                <a:lnTo>
                  <a:pt x="663" y="505"/>
                </a:lnTo>
                <a:lnTo>
                  <a:pt x="644" y="383"/>
                </a:lnTo>
                <a:lnTo>
                  <a:pt x="610" y="262"/>
                </a:lnTo>
                <a:lnTo>
                  <a:pt x="594" y="251"/>
                </a:lnTo>
                <a:lnTo>
                  <a:pt x="577" y="241"/>
                </a:lnTo>
                <a:lnTo>
                  <a:pt x="558" y="234"/>
                </a:lnTo>
                <a:lnTo>
                  <a:pt x="534" y="228"/>
                </a:lnTo>
                <a:lnTo>
                  <a:pt x="508" y="223"/>
                </a:lnTo>
                <a:lnTo>
                  <a:pt x="480" y="221"/>
                </a:lnTo>
                <a:lnTo>
                  <a:pt x="452" y="219"/>
                </a:lnTo>
                <a:lnTo>
                  <a:pt x="424" y="221"/>
                </a:lnTo>
                <a:lnTo>
                  <a:pt x="396" y="223"/>
                </a:lnTo>
                <a:lnTo>
                  <a:pt x="371" y="228"/>
                </a:lnTo>
                <a:lnTo>
                  <a:pt x="345" y="234"/>
                </a:lnTo>
                <a:lnTo>
                  <a:pt x="319" y="243"/>
                </a:lnTo>
                <a:lnTo>
                  <a:pt x="297" y="254"/>
                </a:lnTo>
                <a:lnTo>
                  <a:pt x="280" y="264"/>
                </a:lnTo>
                <a:lnTo>
                  <a:pt x="263" y="279"/>
                </a:lnTo>
                <a:lnTo>
                  <a:pt x="252" y="294"/>
                </a:lnTo>
                <a:lnTo>
                  <a:pt x="231" y="404"/>
                </a:lnTo>
                <a:lnTo>
                  <a:pt x="213" y="514"/>
                </a:lnTo>
                <a:lnTo>
                  <a:pt x="205" y="624"/>
                </a:lnTo>
                <a:lnTo>
                  <a:pt x="198" y="736"/>
                </a:lnTo>
                <a:lnTo>
                  <a:pt x="196" y="845"/>
                </a:lnTo>
                <a:lnTo>
                  <a:pt x="198" y="957"/>
                </a:lnTo>
                <a:lnTo>
                  <a:pt x="205" y="1069"/>
                </a:lnTo>
                <a:lnTo>
                  <a:pt x="213" y="1183"/>
                </a:lnTo>
                <a:lnTo>
                  <a:pt x="218" y="1207"/>
                </a:lnTo>
                <a:lnTo>
                  <a:pt x="222" y="1231"/>
                </a:lnTo>
                <a:lnTo>
                  <a:pt x="226" y="1254"/>
                </a:lnTo>
                <a:lnTo>
                  <a:pt x="231" y="1278"/>
                </a:lnTo>
                <a:lnTo>
                  <a:pt x="220" y="1287"/>
                </a:lnTo>
                <a:lnTo>
                  <a:pt x="211" y="1295"/>
                </a:lnTo>
                <a:lnTo>
                  <a:pt x="200" y="1302"/>
                </a:lnTo>
                <a:lnTo>
                  <a:pt x="192" y="1306"/>
                </a:lnTo>
                <a:lnTo>
                  <a:pt x="183" y="1310"/>
                </a:lnTo>
                <a:lnTo>
                  <a:pt x="172" y="1312"/>
                </a:lnTo>
                <a:lnTo>
                  <a:pt x="159" y="1315"/>
                </a:lnTo>
                <a:lnTo>
                  <a:pt x="144" y="131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>
            <a:off x="1876320" y="6021360"/>
            <a:ext cx="181080" cy="270000"/>
          </a:xfrm>
          <a:custGeom>
            <a:avLst/>
            <a:gdLst>
              <a:gd name="textAreaLeft" fmla="*/ 0 w 181080"/>
              <a:gd name="textAreaRight" fmla="*/ 181440 w 18108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14" h="170">
                <a:moveTo>
                  <a:pt x="41" y="170"/>
                </a:moveTo>
                <a:lnTo>
                  <a:pt x="30" y="166"/>
                </a:lnTo>
                <a:lnTo>
                  <a:pt x="22" y="159"/>
                </a:lnTo>
                <a:lnTo>
                  <a:pt x="11" y="155"/>
                </a:lnTo>
                <a:lnTo>
                  <a:pt x="0" y="151"/>
                </a:lnTo>
                <a:lnTo>
                  <a:pt x="5" y="112"/>
                </a:lnTo>
                <a:lnTo>
                  <a:pt x="15" y="73"/>
                </a:lnTo>
                <a:lnTo>
                  <a:pt x="26" y="37"/>
                </a:lnTo>
                <a:lnTo>
                  <a:pt x="35" y="0"/>
                </a:lnTo>
                <a:lnTo>
                  <a:pt x="46" y="0"/>
                </a:lnTo>
                <a:lnTo>
                  <a:pt x="54" y="0"/>
                </a:lnTo>
                <a:lnTo>
                  <a:pt x="63" y="0"/>
                </a:lnTo>
                <a:lnTo>
                  <a:pt x="71" y="0"/>
                </a:lnTo>
                <a:lnTo>
                  <a:pt x="82" y="0"/>
                </a:lnTo>
                <a:lnTo>
                  <a:pt x="91" y="0"/>
                </a:lnTo>
                <a:lnTo>
                  <a:pt x="102" y="0"/>
                </a:lnTo>
                <a:lnTo>
                  <a:pt x="114" y="2"/>
                </a:lnTo>
                <a:lnTo>
                  <a:pt x="93" y="93"/>
                </a:lnTo>
                <a:lnTo>
                  <a:pt x="82" y="140"/>
                </a:lnTo>
                <a:lnTo>
                  <a:pt x="76" y="161"/>
                </a:lnTo>
                <a:lnTo>
                  <a:pt x="69" y="168"/>
                </a:lnTo>
                <a:lnTo>
                  <a:pt x="61" y="168"/>
                </a:lnTo>
                <a:lnTo>
                  <a:pt x="54" y="168"/>
                </a:lnTo>
                <a:lnTo>
                  <a:pt x="48" y="168"/>
                </a:lnTo>
                <a:lnTo>
                  <a:pt x="41" y="1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0"/>
          <p:cNvSpPr/>
          <p:nvPr/>
        </p:nvSpPr>
        <p:spPr>
          <a:xfrm>
            <a:off x="2413080" y="5668920"/>
            <a:ext cx="129960" cy="358920"/>
          </a:xfrm>
          <a:custGeom>
            <a:avLst/>
            <a:gdLst>
              <a:gd name="textAreaLeft" fmla="*/ 0 w 129960"/>
              <a:gd name="textAreaRight" fmla="*/ 130320 w 1299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82" h="226">
                <a:moveTo>
                  <a:pt x="33" y="226"/>
                </a:moveTo>
                <a:lnTo>
                  <a:pt x="26" y="224"/>
                </a:lnTo>
                <a:lnTo>
                  <a:pt x="22" y="224"/>
                </a:lnTo>
                <a:lnTo>
                  <a:pt x="15" y="222"/>
                </a:lnTo>
                <a:lnTo>
                  <a:pt x="9" y="222"/>
                </a:lnTo>
                <a:lnTo>
                  <a:pt x="7" y="121"/>
                </a:lnTo>
                <a:lnTo>
                  <a:pt x="5" y="65"/>
                </a:lnTo>
                <a:lnTo>
                  <a:pt x="3" y="33"/>
                </a:lnTo>
                <a:lnTo>
                  <a:pt x="0" y="5"/>
                </a:lnTo>
                <a:lnTo>
                  <a:pt x="9" y="5"/>
                </a:lnTo>
                <a:lnTo>
                  <a:pt x="20" y="3"/>
                </a:lnTo>
                <a:lnTo>
                  <a:pt x="28" y="3"/>
                </a:lnTo>
                <a:lnTo>
                  <a:pt x="39" y="3"/>
                </a:lnTo>
                <a:lnTo>
                  <a:pt x="48" y="3"/>
                </a:lnTo>
                <a:lnTo>
                  <a:pt x="56" y="3"/>
                </a:lnTo>
                <a:lnTo>
                  <a:pt x="67" y="0"/>
                </a:lnTo>
                <a:lnTo>
                  <a:pt x="76" y="0"/>
                </a:lnTo>
                <a:lnTo>
                  <a:pt x="78" y="54"/>
                </a:lnTo>
                <a:lnTo>
                  <a:pt x="82" y="110"/>
                </a:lnTo>
                <a:lnTo>
                  <a:pt x="82" y="166"/>
                </a:lnTo>
                <a:lnTo>
                  <a:pt x="76" y="222"/>
                </a:lnTo>
                <a:lnTo>
                  <a:pt x="65" y="224"/>
                </a:lnTo>
                <a:lnTo>
                  <a:pt x="54" y="224"/>
                </a:lnTo>
                <a:lnTo>
                  <a:pt x="43" y="224"/>
                </a:lnTo>
                <a:lnTo>
                  <a:pt x="33" y="226"/>
                </a:lnTo>
                <a:close/>
              </a:path>
            </a:pathLst>
          </a:cu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1"/>
          <p:cNvSpPr/>
          <p:nvPr/>
        </p:nvSpPr>
        <p:spPr>
          <a:xfrm>
            <a:off x="1944720" y="5502240"/>
            <a:ext cx="150840" cy="480960"/>
          </a:xfrm>
          <a:custGeom>
            <a:avLst/>
            <a:gdLst>
              <a:gd name="textAreaLeft" fmla="*/ 0 w 150840"/>
              <a:gd name="textAreaRight" fmla="*/ 151200 w 15084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95" h="303">
                <a:moveTo>
                  <a:pt x="59" y="303"/>
                </a:moveTo>
                <a:lnTo>
                  <a:pt x="46" y="301"/>
                </a:lnTo>
                <a:lnTo>
                  <a:pt x="31" y="301"/>
                </a:lnTo>
                <a:lnTo>
                  <a:pt x="15" y="299"/>
                </a:lnTo>
                <a:lnTo>
                  <a:pt x="0" y="299"/>
                </a:lnTo>
                <a:lnTo>
                  <a:pt x="11" y="187"/>
                </a:lnTo>
                <a:lnTo>
                  <a:pt x="18" y="120"/>
                </a:lnTo>
                <a:lnTo>
                  <a:pt x="22" y="67"/>
                </a:lnTo>
                <a:lnTo>
                  <a:pt x="26" y="0"/>
                </a:lnTo>
                <a:lnTo>
                  <a:pt x="28" y="0"/>
                </a:lnTo>
                <a:lnTo>
                  <a:pt x="33" y="0"/>
                </a:lnTo>
                <a:lnTo>
                  <a:pt x="37" y="2"/>
                </a:lnTo>
                <a:lnTo>
                  <a:pt x="41" y="2"/>
                </a:lnTo>
                <a:lnTo>
                  <a:pt x="41" y="21"/>
                </a:lnTo>
                <a:lnTo>
                  <a:pt x="43" y="39"/>
                </a:lnTo>
                <a:lnTo>
                  <a:pt x="43" y="52"/>
                </a:lnTo>
                <a:lnTo>
                  <a:pt x="46" y="60"/>
                </a:lnTo>
                <a:lnTo>
                  <a:pt x="50" y="71"/>
                </a:lnTo>
                <a:lnTo>
                  <a:pt x="61" y="77"/>
                </a:lnTo>
                <a:lnTo>
                  <a:pt x="74" y="86"/>
                </a:lnTo>
                <a:lnTo>
                  <a:pt x="95" y="95"/>
                </a:lnTo>
                <a:lnTo>
                  <a:pt x="87" y="211"/>
                </a:lnTo>
                <a:lnTo>
                  <a:pt x="82" y="271"/>
                </a:lnTo>
                <a:lnTo>
                  <a:pt x="78" y="295"/>
                </a:lnTo>
                <a:lnTo>
                  <a:pt x="74" y="303"/>
                </a:lnTo>
                <a:lnTo>
                  <a:pt x="69" y="303"/>
                </a:lnTo>
                <a:lnTo>
                  <a:pt x="67" y="303"/>
                </a:lnTo>
                <a:lnTo>
                  <a:pt x="63" y="303"/>
                </a:lnTo>
                <a:lnTo>
                  <a:pt x="59" y="303"/>
                </a:lnTo>
                <a:close/>
              </a:path>
            </a:pathLst>
          </a:cu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2"/>
          <p:cNvSpPr/>
          <p:nvPr/>
        </p:nvSpPr>
        <p:spPr>
          <a:xfrm>
            <a:off x="1808280" y="5000760"/>
            <a:ext cx="944280" cy="637920"/>
          </a:xfrm>
          <a:custGeom>
            <a:avLst/>
            <a:gdLst>
              <a:gd name="textAreaLeft" fmla="*/ 0 w 944280"/>
              <a:gd name="textAreaRight" fmla="*/ 944640 w 944280"/>
              <a:gd name="textAreaTop" fmla="*/ 0 h 637920"/>
              <a:gd name="textAreaBottom" fmla="*/ 638280 h 637920"/>
            </a:gdLst>
            <a:ahLst/>
            <a:rect l="textAreaLeft" t="textAreaTop" r="textAreaRight" b="textAreaBottom"/>
            <a:pathLst>
              <a:path w="595" h="402">
                <a:moveTo>
                  <a:pt x="302" y="402"/>
                </a:moveTo>
                <a:lnTo>
                  <a:pt x="274" y="398"/>
                </a:lnTo>
                <a:lnTo>
                  <a:pt x="250" y="396"/>
                </a:lnTo>
                <a:lnTo>
                  <a:pt x="233" y="391"/>
                </a:lnTo>
                <a:lnTo>
                  <a:pt x="218" y="389"/>
                </a:lnTo>
                <a:lnTo>
                  <a:pt x="205" y="385"/>
                </a:lnTo>
                <a:lnTo>
                  <a:pt x="192" y="383"/>
                </a:lnTo>
                <a:lnTo>
                  <a:pt x="181" y="378"/>
                </a:lnTo>
                <a:lnTo>
                  <a:pt x="166" y="376"/>
                </a:lnTo>
                <a:lnTo>
                  <a:pt x="155" y="316"/>
                </a:lnTo>
                <a:lnTo>
                  <a:pt x="147" y="273"/>
                </a:lnTo>
                <a:lnTo>
                  <a:pt x="138" y="226"/>
                </a:lnTo>
                <a:lnTo>
                  <a:pt x="127" y="159"/>
                </a:lnTo>
                <a:lnTo>
                  <a:pt x="123" y="155"/>
                </a:lnTo>
                <a:lnTo>
                  <a:pt x="119" y="150"/>
                </a:lnTo>
                <a:lnTo>
                  <a:pt x="112" y="150"/>
                </a:lnTo>
                <a:lnTo>
                  <a:pt x="101" y="148"/>
                </a:lnTo>
                <a:lnTo>
                  <a:pt x="101" y="159"/>
                </a:lnTo>
                <a:lnTo>
                  <a:pt x="101" y="178"/>
                </a:lnTo>
                <a:lnTo>
                  <a:pt x="108" y="215"/>
                </a:lnTo>
                <a:lnTo>
                  <a:pt x="121" y="284"/>
                </a:lnTo>
                <a:lnTo>
                  <a:pt x="65" y="282"/>
                </a:lnTo>
                <a:lnTo>
                  <a:pt x="30" y="271"/>
                </a:lnTo>
                <a:lnTo>
                  <a:pt x="9" y="251"/>
                </a:lnTo>
                <a:lnTo>
                  <a:pt x="0" y="223"/>
                </a:lnTo>
                <a:lnTo>
                  <a:pt x="0" y="191"/>
                </a:lnTo>
                <a:lnTo>
                  <a:pt x="7" y="155"/>
                </a:lnTo>
                <a:lnTo>
                  <a:pt x="15" y="111"/>
                </a:lnTo>
                <a:lnTo>
                  <a:pt x="22" y="66"/>
                </a:lnTo>
                <a:lnTo>
                  <a:pt x="54" y="68"/>
                </a:lnTo>
                <a:lnTo>
                  <a:pt x="86" y="68"/>
                </a:lnTo>
                <a:lnTo>
                  <a:pt x="117" y="68"/>
                </a:lnTo>
                <a:lnTo>
                  <a:pt x="149" y="66"/>
                </a:lnTo>
                <a:lnTo>
                  <a:pt x="179" y="66"/>
                </a:lnTo>
                <a:lnTo>
                  <a:pt x="211" y="64"/>
                </a:lnTo>
                <a:lnTo>
                  <a:pt x="241" y="64"/>
                </a:lnTo>
                <a:lnTo>
                  <a:pt x="274" y="62"/>
                </a:lnTo>
                <a:lnTo>
                  <a:pt x="306" y="56"/>
                </a:lnTo>
                <a:lnTo>
                  <a:pt x="336" y="49"/>
                </a:lnTo>
                <a:lnTo>
                  <a:pt x="368" y="40"/>
                </a:lnTo>
                <a:lnTo>
                  <a:pt x="399" y="34"/>
                </a:lnTo>
                <a:lnTo>
                  <a:pt x="431" y="25"/>
                </a:lnTo>
                <a:lnTo>
                  <a:pt x="463" y="17"/>
                </a:lnTo>
                <a:lnTo>
                  <a:pt x="496" y="8"/>
                </a:lnTo>
                <a:lnTo>
                  <a:pt x="530" y="0"/>
                </a:lnTo>
                <a:lnTo>
                  <a:pt x="534" y="0"/>
                </a:lnTo>
                <a:lnTo>
                  <a:pt x="536" y="0"/>
                </a:lnTo>
                <a:lnTo>
                  <a:pt x="539" y="2"/>
                </a:lnTo>
                <a:lnTo>
                  <a:pt x="545" y="32"/>
                </a:lnTo>
                <a:lnTo>
                  <a:pt x="556" y="77"/>
                </a:lnTo>
                <a:lnTo>
                  <a:pt x="567" y="133"/>
                </a:lnTo>
                <a:lnTo>
                  <a:pt x="580" y="193"/>
                </a:lnTo>
                <a:lnTo>
                  <a:pt x="588" y="254"/>
                </a:lnTo>
                <a:lnTo>
                  <a:pt x="595" y="307"/>
                </a:lnTo>
                <a:lnTo>
                  <a:pt x="592" y="350"/>
                </a:lnTo>
                <a:lnTo>
                  <a:pt x="584" y="374"/>
                </a:lnTo>
                <a:lnTo>
                  <a:pt x="547" y="381"/>
                </a:lnTo>
                <a:lnTo>
                  <a:pt x="511" y="387"/>
                </a:lnTo>
                <a:lnTo>
                  <a:pt x="476" y="391"/>
                </a:lnTo>
                <a:lnTo>
                  <a:pt x="442" y="396"/>
                </a:lnTo>
                <a:lnTo>
                  <a:pt x="407" y="398"/>
                </a:lnTo>
                <a:lnTo>
                  <a:pt x="373" y="400"/>
                </a:lnTo>
                <a:lnTo>
                  <a:pt x="336" y="402"/>
                </a:lnTo>
                <a:lnTo>
                  <a:pt x="302" y="40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3"/>
          <p:cNvSpPr/>
          <p:nvPr/>
        </p:nvSpPr>
        <p:spPr>
          <a:xfrm>
            <a:off x="1428840" y="3675240"/>
            <a:ext cx="1319040" cy="1403280"/>
          </a:xfrm>
          <a:custGeom>
            <a:avLst/>
            <a:gdLst>
              <a:gd name="textAreaLeft" fmla="*/ 0 w 1319040"/>
              <a:gd name="textAreaRight" fmla="*/ 1319400 w 1319040"/>
              <a:gd name="textAreaTop" fmla="*/ 0 h 1403280"/>
              <a:gd name="textAreaBottom" fmla="*/ 1403640 h 1403280"/>
            </a:gdLst>
            <a:ahLst/>
            <a:rect l="textAreaLeft" t="textAreaTop" r="textAreaRight" b="textAreaBottom"/>
            <a:pathLst>
              <a:path w="831" h="884">
                <a:moveTo>
                  <a:pt x="330" y="884"/>
                </a:moveTo>
                <a:lnTo>
                  <a:pt x="297" y="880"/>
                </a:lnTo>
                <a:lnTo>
                  <a:pt x="274" y="875"/>
                </a:lnTo>
                <a:lnTo>
                  <a:pt x="256" y="873"/>
                </a:lnTo>
                <a:lnTo>
                  <a:pt x="246" y="871"/>
                </a:lnTo>
                <a:lnTo>
                  <a:pt x="237" y="869"/>
                </a:lnTo>
                <a:lnTo>
                  <a:pt x="233" y="867"/>
                </a:lnTo>
                <a:lnTo>
                  <a:pt x="228" y="867"/>
                </a:lnTo>
                <a:lnTo>
                  <a:pt x="224" y="865"/>
                </a:lnTo>
                <a:lnTo>
                  <a:pt x="216" y="798"/>
                </a:lnTo>
                <a:lnTo>
                  <a:pt x="211" y="733"/>
                </a:lnTo>
                <a:lnTo>
                  <a:pt x="207" y="667"/>
                </a:lnTo>
                <a:lnTo>
                  <a:pt x="200" y="600"/>
                </a:lnTo>
                <a:lnTo>
                  <a:pt x="194" y="533"/>
                </a:lnTo>
                <a:lnTo>
                  <a:pt x="185" y="469"/>
                </a:lnTo>
                <a:lnTo>
                  <a:pt x="175" y="404"/>
                </a:lnTo>
                <a:lnTo>
                  <a:pt x="157" y="342"/>
                </a:lnTo>
                <a:lnTo>
                  <a:pt x="155" y="342"/>
                </a:lnTo>
                <a:lnTo>
                  <a:pt x="151" y="342"/>
                </a:lnTo>
                <a:lnTo>
                  <a:pt x="147" y="342"/>
                </a:lnTo>
                <a:lnTo>
                  <a:pt x="142" y="342"/>
                </a:lnTo>
                <a:lnTo>
                  <a:pt x="142" y="357"/>
                </a:lnTo>
                <a:lnTo>
                  <a:pt x="142" y="370"/>
                </a:lnTo>
                <a:lnTo>
                  <a:pt x="142" y="383"/>
                </a:lnTo>
                <a:lnTo>
                  <a:pt x="142" y="396"/>
                </a:lnTo>
                <a:lnTo>
                  <a:pt x="123" y="404"/>
                </a:lnTo>
                <a:lnTo>
                  <a:pt x="110" y="411"/>
                </a:lnTo>
                <a:lnTo>
                  <a:pt x="99" y="415"/>
                </a:lnTo>
                <a:lnTo>
                  <a:pt x="93" y="417"/>
                </a:lnTo>
                <a:lnTo>
                  <a:pt x="86" y="419"/>
                </a:lnTo>
                <a:lnTo>
                  <a:pt x="84" y="421"/>
                </a:lnTo>
                <a:lnTo>
                  <a:pt x="80" y="421"/>
                </a:lnTo>
                <a:lnTo>
                  <a:pt x="78" y="421"/>
                </a:lnTo>
                <a:lnTo>
                  <a:pt x="43" y="370"/>
                </a:lnTo>
                <a:lnTo>
                  <a:pt x="20" y="325"/>
                </a:lnTo>
                <a:lnTo>
                  <a:pt x="5" y="286"/>
                </a:lnTo>
                <a:lnTo>
                  <a:pt x="0" y="251"/>
                </a:lnTo>
                <a:lnTo>
                  <a:pt x="11" y="221"/>
                </a:lnTo>
                <a:lnTo>
                  <a:pt x="33" y="191"/>
                </a:lnTo>
                <a:lnTo>
                  <a:pt x="69" y="161"/>
                </a:lnTo>
                <a:lnTo>
                  <a:pt x="123" y="129"/>
                </a:lnTo>
                <a:lnTo>
                  <a:pt x="138" y="127"/>
                </a:lnTo>
                <a:lnTo>
                  <a:pt x="153" y="124"/>
                </a:lnTo>
                <a:lnTo>
                  <a:pt x="166" y="122"/>
                </a:lnTo>
                <a:lnTo>
                  <a:pt x="179" y="120"/>
                </a:lnTo>
                <a:lnTo>
                  <a:pt x="194" y="120"/>
                </a:lnTo>
                <a:lnTo>
                  <a:pt x="207" y="118"/>
                </a:lnTo>
                <a:lnTo>
                  <a:pt x="222" y="118"/>
                </a:lnTo>
                <a:lnTo>
                  <a:pt x="239" y="118"/>
                </a:lnTo>
                <a:lnTo>
                  <a:pt x="256" y="152"/>
                </a:lnTo>
                <a:lnTo>
                  <a:pt x="282" y="176"/>
                </a:lnTo>
                <a:lnTo>
                  <a:pt x="315" y="191"/>
                </a:lnTo>
                <a:lnTo>
                  <a:pt x="349" y="198"/>
                </a:lnTo>
                <a:lnTo>
                  <a:pt x="386" y="193"/>
                </a:lnTo>
                <a:lnTo>
                  <a:pt x="420" y="180"/>
                </a:lnTo>
                <a:lnTo>
                  <a:pt x="450" y="159"/>
                </a:lnTo>
                <a:lnTo>
                  <a:pt x="476" y="129"/>
                </a:lnTo>
                <a:lnTo>
                  <a:pt x="478" y="114"/>
                </a:lnTo>
                <a:lnTo>
                  <a:pt x="483" y="101"/>
                </a:lnTo>
                <a:lnTo>
                  <a:pt x="487" y="86"/>
                </a:lnTo>
                <a:lnTo>
                  <a:pt x="491" y="73"/>
                </a:lnTo>
                <a:lnTo>
                  <a:pt x="508" y="66"/>
                </a:lnTo>
                <a:lnTo>
                  <a:pt x="530" y="56"/>
                </a:lnTo>
                <a:lnTo>
                  <a:pt x="551" y="43"/>
                </a:lnTo>
                <a:lnTo>
                  <a:pt x="573" y="30"/>
                </a:lnTo>
                <a:lnTo>
                  <a:pt x="597" y="19"/>
                </a:lnTo>
                <a:lnTo>
                  <a:pt x="618" y="8"/>
                </a:lnTo>
                <a:lnTo>
                  <a:pt x="638" y="2"/>
                </a:lnTo>
                <a:lnTo>
                  <a:pt x="657" y="0"/>
                </a:lnTo>
                <a:lnTo>
                  <a:pt x="672" y="21"/>
                </a:lnTo>
                <a:lnTo>
                  <a:pt x="687" y="43"/>
                </a:lnTo>
                <a:lnTo>
                  <a:pt x="704" y="64"/>
                </a:lnTo>
                <a:lnTo>
                  <a:pt x="719" y="86"/>
                </a:lnTo>
                <a:lnTo>
                  <a:pt x="735" y="107"/>
                </a:lnTo>
                <a:lnTo>
                  <a:pt x="752" y="131"/>
                </a:lnTo>
                <a:lnTo>
                  <a:pt x="767" y="152"/>
                </a:lnTo>
                <a:lnTo>
                  <a:pt x="782" y="174"/>
                </a:lnTo>
                <a:lnTo>
                  <a:pt x="769" y="198"/>
                </a:lnTo>
                <a:lnTo>
                  <a:pt x="752" y="217"/>
                </a:lnTo>
                <a:lnTo>
                  <a:pt x="735" y="232"/>
                </a:lnTo>
                <a:lnTo>
                  <a:pt x="717" y="247"/>
                </a:lnTo>
                <a:lnTo>
                  <a:pt x="698" y="260"/>
                </a:lnTo>
                <a:lnTo>
                  <a:pt x="679" y="275"/>
                </a:lnTo>
                <a:lnTo>
                  <a:pt x="659" y="288"/>
                </a:lnTo>
                <a:lnTo>
                  <a:pt x="640" y="303"/>
                </a:lnTo>
                <a:lnTo>
                  <a:pt x="648" y="309"/>
                </a:lnTo>
                <a:lnTo>
                  <a:pt x="657" y="314"/>
                </a:lnTo>
                <a:lnTo>
                  <a:pt x="668" y="316"/>
                </a:lnTo>
                <a:lnTo>
                  <a:pt x="683" y="316"/>
                </a:lnTo>
                <a:lnTo>
                  <a:pt x="709" y="368"/>
                </a:lnTo>
                <a:lnTo>
                  <a:pt x="732" y="424"/>
                </a:lnTo>
                <a:lnTo>
                  <a:pt x="756" y="479"/>
                </a:lnTo>
                <a:lnTo>
                  <a:pt x="778" y="538"/>
                </a:lnTo>
                <a:lnTo>
                  <a:pt x="797" y="598"/>
                </a:lnTo>
                <a:lnTo>
                  <a:pt x="812" y="658"/>
                </a:lnTo>
                <a:lnTo>
                  <a:pt x="825" y="718"/>
                </a:lnTo>
                <a:lnTo>
                  <a:pt x="831" y="781"/>
                </a:lnTo>
                <a:lnTo>
                  <a:pt x="799" y="794"/>
                </a:lnTo>
                <a:lnTo>
                  <a:pt x="767" y="804"/>
                </a:lnTo>
                <a:lnTo>
                  <a:pt x="737" y="815"/>
                </a:lnTo>
                <a:lnTo>
                  <a:pt x="704" y="824"/>
                </a:lnTo>
                <a:lnTo>
                  <a:pt x="674" y="832"/>
                </a:lnTo>
                <a:lnTo>
                  <a:pt x="642" y="839"/>
                </a:lnTo>
                <a:lnTo>
                  <a:pt x="612" y="847"/>
                </a:lnTo>
                <a:lnTo>
                  <a:pt x="582" y="854"/>
                </a:lnTo>
                <a:lnTo>
                  <a:pt x="551" y="858"/>
                </a:lnTo>
                <a:lnTo>
                  <a:pt x="519" y="865"/>
                </a:lnTo>
                <a:lnTo>
                  <a:pt x="489" y="869"/>
                </a:lnTo>
                <a:lnTo>
                  <a:pt x="457" y="873"/>
                </a:lnTo>
                <a:lnTo>
                  <a:pt x="427" y="875"/>
                </a:lnTo>
                <a:lnTo>
                  <a:pt x="394" y="880"/>
                </a:lnTo>
                <a:lnTo>
                  <a:pt x="362" y="882"/>
                </a:lnTo>
                <a:lnTo>
                  <a:pt x="330" y="88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4"/>
          <p:cNvSpPr/>
          <p:nvPr/>
        </p:nvSpPr>
        <p:spPr>
          <a:xfrm>
            <a:off x="882720" y="4186080"/>
            <a:ext cx="577800" cy="676440"/>
          </a:xfrm>
          <a:custGeom>
            <a:avLst/>
            <a:gdLst>
              <a:gd name="textAreaLeft" fmla="*/ 0 w 577800"/>
              <a:gd name="textAreaRight" fmla="*/ 578160 w 57780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364" h="426">
                <a:moveTo>
                  <a:pt x="41" y="426"/>
                </a:moveTo>
                <a:lnTo>
                  <a:pt x="45" y="411"/>
                </a:lnTo>
                <a:lnTo>
                  <a:pt x="53" y="390"/>
                </a:lnTo>
                <a:lnTo>
                  <a:pt x="64" y="366"/>
                </a:lnTo>
                <a:lnTo>
                  <a:pt x="77" y="340"/>
                </a:lnTo>
                <a:lnTo>
                  <a:pt x="86" y="317"/>
                </a:lnTo>
                <a:lnTo>
                  <a:pt x="94" y="295"/>
                </a:lnTo>
                <a:lnTo>
                  <a:pt x="99" y="278"/>
                </a:lnTo>
                <a:lnTo>
                  <a:pt x="99" y="269"/>
                </a:lnTo>
                <a:lnTo>
                  <a:pt x="86" y="274"/>
                </a:lnTo>
                <a:lnTo>
                  <a:pt x="73" y="280"/>
                </a:lnTo>
                <a:lnTo>
                  <a:pt x="60" y="287"/>
                </a:lnTo>
                <a:lnTo>
                  <a:pt x="47" y="293"/>
                </a:lnTo>
                <a:lnTo>
                  <a:pt x="34" y="300"/>
                </a:lnTo>
                <a:lnTo>
                  <a:pt x="23" y="306"/>
                </a:lnTo>
                <a:lnTo>
                  <a:pt x="10" y="312"/>
                </a:lnTo>
                <a:lnTo>
                  <a:pt x="0" y="317"/>
                </a:lnTo>
                <a:lnTo>
                  <a:pt x="6" y="300"/>
                </a:lnTo>
                <a:lnTo>
                  <a:pt x="21" y="282"/>
                </a:lnTo>
                <a:lnTo>
                  <a:pt x="41" y="267"/>
                </a:lnTo>
                <a:lnTo>
                  <a:pt x="62" y="252"/>
                </a:lnTo>
                <a:lnTo>
                  <a:pt x="86" y="237"/>
                </a:lnTo>
                <a:lnTo>
                  <a:pt x="109" y="224"/>
                </a:lnTo>
                <a:lnTo>
                  <a:pt x="129" y="213"/>
                </a:lnTo>
                <a:lnTo>
                  <a:pt x="146" y="205"/>
                </a:lnTo>
                <a:lnTo>
                  <a:pt x="159" y="179"/>
                </a:lnTo>
                <a:lnTo>
                  <a:pt x="178" y="149"/>
                </a:lnTo>
                <a:lnTo>
                  <a:pt x="204" y="114"/>
                </a:lnTo>
                <a:lnTo>
                  <a:pt x="232" y="80"/>
                </a:lnTo>
                <a:lnTo>
                  <a:pt x="262" y="50"/>
                </a:lnTo>
                <a:lnTo>
                  <a:pt x="290" y="24"/>
                </a:lnTo>
                <a:lnTo>
                  <a:pt x="316" y="7"/>
                </a:lnTo>
                <a:lnTo>
                  <a:pt x="336" y="0"/>
                </a:lnTo>
                <a:lnTo>
                  <a:pt x="342" y="11"/>
                </a:lnTo>
                <a:lnTo>
                  <a:pt x="353" y="28"/>
                </a:lnTo>
                <a:lnTo>
                  <a:pt x="359" y="48"/>
                </a:lnTo>
                <a:lnTo>
                  <a:pt x="364" y="65"/>
                </a:lnTo>
                <a:lnTo>
                  <a:pt x="344" y="80"/>
                </a:lnTo>
                <a:lnTo>
                  <a:pt x="321" y="99"/>
                </a:lnTo>
                <a:lnTo>
                  <a:pt x="297" y="121"/>
                </a:lnTo>
                <a:lnTo>
                  <a:pt x="275" y="145"/>
                </a:lnTo>
                <a:lnTo>
                  <a:pt x="254" y="168"/>
                </a:lnTo>
                <a:lnTo>
                  <a:pt x="237" y="192"/>
                </a:lnTo>
                <a:lnTo>
                  <a:pt x="224" y="216"/>
                </a:lnTo>
                <a:lnTo>
                  <a:pt x="217" y="237"/>
                </a:lnTo>
                <a:lnTo>
                  <a:pt x="230" y="256"/>
                </a:lnTo>
                <a:lnTo>
                  <a:pt x="245" y="282"/>
                </a:lnTo>
                <a:lnTo>
                  <a:pt x="256" y="312"/>
                </a:lnTo>
                <a:lnTo>
                  <a:pt x="260" y="345"/>
                </a:lnTo>
                <a:lnTo>
                  <a:pt x="252" y="343"/>
                </a:lnTo>
                <a:lnTo>
                  <a:pt x="243" y="336"/>
                </a:lnTo>
                <a:lnTo>
                  <a:pt x="234" y="330"/>
                </a:lnTo>
                <a:lnTo>
                  <a:pt x="226" y="319"/>
                </a:lnTo>
                <a:lnTo>
                  <a:pt x="217" y="310"/>
                </a:lnTo>
                <a:lnTo>
                  <a:pt x="206" y="304"/>
                </a:lnTo>
                <a:lnTo>
                  <a:pt x="193" y="297"/>
                </a:lnTo>
                <a:lnTo>
                  <a:pt x="181" y="295"/>
                </a:lnTo>
                <a:lnTo>
                  <a:pt x="168" y="327"/>
                </a:lnTo>
                <a:lnTo>
                  <a:pt x="157" y="364"/>
                </a:lnTo>
                <a:lnTo>
                  <a:pt x="144" y="399"/>
                </a:lnTo>
                <a:lnTo>
                  <a:pt x="125" y="426"/>
                </a:lnTo>
                <a:lnTo>
                  <a:pt x="125" y="399"/>
                </a:lnTo>
                <a:lnTo>
                  <a:pt x="127" y="375"/>
                </a:lnTo>
                <a:lnTo>
                  <a:pt x="131" y="351"/>
                </a:lnTo>
                <a:lnTo>
                  <a:pt x="135" y="325"/>
                </a:lnTo>
                <a:lnTo>
                  <a:pt x="133" y="321"/>
                </a:lnTo>
                <a:lnTo>
                  <a:pt x="129" y="319"/>
                </a:lnTo>
                <a:lnTo>
                  <a:pt x="125" y="319"/>
                </a:lnTo>
                <a:lnTo>
                  <a:pt x="116" y="321"/>
                </a:lnTo>
                <a:lnTo>
                  <a:pt x="92" y="355"/>
                </a:lnTo>
                <a:lnTo>
                  <a:pt x="75" y="381"/>
                </a:lnTo>
                <a:lnTo>
                  <a:pt x="62" y="399"/>
                </a:lnTo>
                <a:lnTo>
                  <a:pt x="53" y="411"/>
                </a:lnTo>
                <a:lnTo>
                  <a:pt x="47" y="420"/>
                </a:lnTo>
                <a:lnTo>
                  <a:pt x="45" y="424"/>
                </a:lnTo>
                <a:lnTo>
                  <a:pt x="43" y="426"/>
                </a:lnTo>
                <a:lnTo>
                  <a:pt x="41" y="426"/>
                </a:lnTo>
                <a:close/>
              </a:path>
            </a:pathLst>
          </a:cu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5"/>
          <p:cNvSpPr/>
          <p:nvPr/>
        </p:nvSpPr>
        <p:spPr>
          <a:xfrm>
            <a:off x="1398600" y="4336920"/>
            <a:ext cx="276120" cy="82800"/>
          </a:xfrm>
          <a:custGeom>
            <a:avLst/>
            <a:gdLst>
              <a:gd name="textAreaLeft" fmla="*/ 0 w 276120"/>
              <a:gd name="textAreaRight" fmla="*/ 276480 w 27612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174" h="52">
                <a:moveTo>
                  <a:pt x="0" y="52"/>
                </a:moveTo>
                <a:lnTo>
                  <a:pt x="6" y="30"/>
                </a:lnTo>
                <a:lnTo>
                  <a:pt x="19" y="15"/>
                </a:lnTo>
                <a:lnTo>
                  <a:pt x="39" y="4"/>
                </a:lnTo>
                <a:lnTo>
                  <a:pt x="62" y="0"/>
                </a:lnTo>
                <a:lnTo>
                  <a:pt x="77" y="15"/>
                </a:lnTo>
                <a:lnTo>
                  <a:pt x="88" y="24"/>
                </a:lnTo>
                <a:lnTo>
                  <a:pt x="97" y="28"/>
                </a:lnTo>
                <a:lnTo>
                  <a:pt x="108" y="26"/>
                </a:lnTo>
                <a:lnTo>
                  <a:pt x="118" y="22"/>
                </a:lnTo>
                <a:lnTo>
                  <a:pt x="131" y="15"/>
                </a:lnTo>
                <a:lnTo>
                  <a:pt x="148" y="11"/>
                </a:lnTo>
                <a:lnTo>
                  <a:pt x="170" y="7"/>
                </a:lnTo>
                <a:lnTo>
                  <a:pt x="172" y="19"/>
                </a:lnTo>
                <a:lnTo>
                  <a:pt x="174" y="30"/>
                </a:lnTo>
                <a:lnTo>
                  <a:pt x="174" y="37"/>
                </a:lnTo>
                <a:lnTo>
                  <a:pt x="174" y="47"/>
                </a:lnTo>
                <a:lnTo>
                  <a:pt x="151" y="47"/>
                </a:lnTo>
                <a:lnTo>
                  <a:pt x="129" y="47"/>
                </a:lnTo>
                <a:lnTo>
                  <a:pt x="105" y="47"/>
                </a:lnTo>
                <a:lnTo>
                  <a:pt x="84" y="50"/>
                </a:lnTo>
                <a:lnTo>
                  <a:pt x="62" y="50"/>
                </a:lnTo>
                <a:lnTo>
                  <a:pt x="41" y="50"/>
                </a:lnTo>
                <a:lnTo>
                  <a:pt x="19" y="52"/>
                </a:lnTo>
                <a:lnTo>
                  <a:pt x="0" y="52"/>
                </a:lnTo>
                <a:close/>
              </a:path>
            </a:pathLst>
          </a:cu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6"/>
          <p:cNvSpPr/>
          <p:nvPr/>
        </p:nvSpPr>
        <p:spPr>
          <a:xfrm>
            <a:off x="79200" y="203040"/>
            <a:ext cx="4819680" cy="4208760"/>
          </a:xfrm>
          <a:custGeom>
            <a:avLst/>
            <a:gdLst>
              <a:gd name="textAreaLeft" fmla="*/ 0 w 4819680"/>
              <a:gd name="textAreaRight" fmla="*/ 4820040 w 4819680"/>
              <a:gd name="textAreaTop" fmla="*/ 0 h 4208760"/>
              <a:gd name="textAreaBottom" fmla="*/ 4209120 h 4208760"/>
            </a:gdLst>
            <a:ahLst/>
            <a:rect l="textAreaLeft" t="textAreaTop" r="textAreaRight" b="textAreaBottom"/>
            <a:pathLst>
              <a:path w="3036" h="2651">
                <a:moveTo>
                  <a:pt x="208" y="2651"/>
                </a:moveTo>
                <a:lnTo>
                  <a:pt x="170" y="2649"/>
                </a:lnTo>
                <a:lnTo>
                  <a:pt x="140" y="2649"/>
                </a:lnTo>
                <a:lnTo>
                  <a:pt x="116" y="2649"/>
                </a:lnTo>
                <a:lnTo>
                  <a:pt x="97" y="2647"/>
                </a:lnTo>
                <a:lnTo>
                  <a:pt x="81" y="2647"/>
                </a:lnTo>
                <a:lnTo>
                  <a:pt x="64" y="2647"/>
                </a:lnTo>
                <a:lnTo>
                  <a:pt x="47" y="2649"/>
                </a:lnTo>
                <a:lnTo>
                  <a:pt x="25" y="2649"/>
                </a:lnTo>
                <a:lnTo>
                  <a:pt x="15" y="2251"/>
                </a:lnTo>
                <a:lnTo>
                  <a:pt x="13" y="1855"/>
                </a:lnTo>
                <a:lnTo>
                  <a:pt x="13" y="1459"/>
                </a:lnTo>
                <a:lnTo>
                  <a:pt x="10" y="1063"/>
                </a:lnTo>
                <a:lnTo>
                  <a:pt x="2" y="811"/>
                </a:lnTo>
                <a:lnTo>
                  <a:pt x="0" y="560"/>
                </a:lnTo>
                <a:lnTo>
                  <a:pt x="0" y="308"/>
                </a:lnTo>
                <a:lnTo>
                  <a:pt x="0" y="58"/>
                </a:lnTo>
                <a:lnTo>
                  <a:pt x="94" y="49"/>
                </a:lnTo>
                <a:lnTo>
                  <a:pt x="189" y="43"/>
                </a:lnTo>
                <a:lnTo>
                  <a:pt x="284" y="37"/>
                </a:lnTo>
                <a:lnTo>
                  <a:pt x="379" y="30"/>
                </a:lnTo>
                <a:lnTo>
                  <a:pt x="473" y="26"/>
                </a:lnTo>
                <a:lnTo>
                  <a:pt x="568" y="19"/>
                </a:lnTo>
                <a:lnTo>
                  <a:pt x="663" y="15"/>
                </a:lnTo>
                <a:lnTo>
                  <a:pt x="758" y="11"/>
                </a:lnTo>
                <a:lnTo>
                  <a:pt x="852" y="9"/>
                </a:lnTo>
                <a:lnTo>
                  <a:pt x="947" y="6"/>
                </a:lnTo>
                <a:lnTo>
                  <a:pt x="1042" y="2"/>
                </a:lnTo>
                <a:lnTo>
                  <a:pt x="1137" y="2"/>
                </a:lnTo>
                <a:lnTo>
                  <a:pt x="1231" y="0"/>
                </a:lnTo>
                <a:lnTo>
                  <a:pt x="1326" y="0"/>
                </a:lnTo>
                <a:lnTo>
                  <a:pt x="1421" y="0"/>
                </a:lnTo>
                <a:lnTo>
                  <a:pt x="1516" y="0"/>
                </a:lnTo>
                <a:lnTo>
                  <a:pt x="1610" y="0"/>
                </a:lnTo>
                <a:lnTo>
                  <a:pt x="1705" y="0"/>
                </a:lnTo>
                <a:lnTo>
                  <a:pt x="1802" y="2"/>
                </a:lnTo>
                <a:lnTo>
                  <a:pt x="1897" y="4"/>
                </a:lnTo>
                <a:lnTo>
                  <a:pt x="1992" y="6"/>
                </a:lnTo>
                <a:lnTo>
                  <a:pt x="2086" y="11"/>
                </a:lnTo>
                <a:lnTo>
                  <a:pt x="2181" y="13"/>
                </a:lnTo>
                <a:lnTo>
                  <a:pt x="2276" y="17"/>
                </a:lnTo>
                <a:lnTo>
                  <a:pt x="2371" y="21"/>
                </a:lnTo>
                <a:lnTo>
                  <a:pt x="2465" y="28"/>
                </a:lnTo>
                <a:lnTo>
                  <a:pt x="2562" y="32"/>
                </a:lnTo>
                <a:lnTo>
                  <a:pt x="2657" y="39"/>
                </a:lnTo>
                <a:lnTo>
                  <a:pt x="2752" y="43"/>
                </a:lnTo>
                <a:lnTo>
                  <a:pt x="2846" y="49"/>
                </a:lnTo>
                <a:lnTo>
                  <a:pt x="2941" y="58"/>
                </a:lnTo>
                <a:lnTo>
                  <a:pt x="3036" y="65"/>
                </a:lnTo>
                <a:lnTo>
                  <a:pt x="3032" y="278"/>
                </a:lnTo>
                <a:lnTo>
                  <a:pt x="3032" y="493"/>
                </a:lnTo>
                <a:lnTo>
                  <a:pt x="3032" y="710"/>
                </a:lnTo>
                <a:lnTo>
                  <a:pt x="3027" y="930"/>
                </a:lnTo>
                <a:lnTo>
                  <a:pt x="3027" y="932"/>
                </a:lnTo>
                <a:lnTo>
                  <a:pt x="3025" y="932"/>
                </a:lnTo>
                <a:lnTo>
                  <a:pt x="3025" y="934"/>
                </a:lnTo>
                <a:lnTo>
                  <a:pt x="3006" y="925"/>
                </a:lnTo>
                <a:lnTo>
                  <a:pt x="2986" y="919"/>
                </a:lnTo>
                <a:lnTo>
                  <a:pt x="2967" y="912"/>
                </a:lnTo>
                <a:lnTo>
                  <a:pt x="2950" y="906"/>
                </a:lnTo>
                <a:lnTo>
                  <a:pt x="2933" y="900"/>
                </a:lnTo>
                <a:lnTo>
                  <a:pt x="2918" y="895"/>
                </a:lnTo>
                <a:lnTo>
                  <a:pt x="2900" y="891"/>
                </a:lnTo>
                <a:lnTo>
                  <a:pt x="2883" y="887"/>
                </a:lnTo>
                <a:lnTo>
                  <a:pt x="2883" y="790"/>
                </a:lnTo>
                <a:lnTo>
                  <a:pt x="2879" y="583"/>
                </a:lnTo>
                <a:lnTo>
                  <a:pt x="2877" y="357"/>
                </a:lnTo>
                <a:lnTo>
                  <a:pt x="2874" y="202"/>
                </a:lnTo>
                <a:lnTo>
                  <a:pt x="2870" y="198"/>
                </a:lnTo>
                <a:lnTo>
                  <a:pt x="2864" y="196"/>
                </a:lnTo>
                <a:lnTo>
                  <a:pt x="2859" y="192"/>
                </a:lnTo>
                <a:lnTo>
                  <a:pt x="2855" y="189"/>
                </a:lnTo>
                <a:lnTo>
                  <a:pt x="2778" y="187"/>
                </a:lnTo>
                <a:lnTo>
                  <a:pt x="2698" y="185"/>
                </a:lnTo>
                <a:lnTo>
                  <a:pt x="2620" y="183"/>
                </a:lnTo>
                <a:lnTo>
                  <a:pt x="2541" y="179"/>
                </a:lnTo>
                <a:lnTo>
                  <a:pt x="2463" y="176"/>
                </a:lnTo>
                <a:lnTo>
                  <a:pt x="2386" y="174"/>
                </a:lnTo>
                <a:lnTo>
                  <a:pt x="2306" y="172"/>
                </a:lnTo>
                <a:lnTo>
                  <a:pt x="2228" y="170"/>
                </a:lnTo>
                <a:lnTo>
                  <a:pt x="2151" y="168"/>
                </a:lnTo>
                <a:lnTo>
                  <a:pt x="2073" y="168"/>
                </a:lnTo>
                <a:lnTo>
                  <a:pt x="1996" y="166"/>
                </a:lnTo>
                <a:lnTo>
                  <a:pt x="1918" y="164"/>
                </a:lnTo>
                <a:lnTo>
                  <a:pt x="1841" y="164"/>
                </a:lnTo>
                <a:lnTo>
                  <a:pt x="1765" y="161"/>
                </a:lnTo>
                <a:lnTo>
                  <a:pt x="1688" y="161"/>
                </a:lnTo>
                <a:lnTo>
                  <a:pt x="1613" y="161"/>
                </a:lnTo>
                <a:lnTo>
                  <a:pt x="1544" y="164"/>
                </a:lnTo>
                <a:lnTo>
                  <a:pt x="1481" y="164"/>
                </a:lnTo>
                <a:lnTo>
                  <a:pt x="1427" y="164"/>
                </a:lnTo>
                <a:lnTo>
                  <a:pt x="1380" y="166"/>
                </a:lnTo>
                <a:lnTo>
                  <a:pt x="1335" y="166"/>
                </a:lnTo>
                <a:lnTo>
                  <a:pt x="1296" y="166"/>
                </a:lnTo>
                <a:lnTo>
                  <a:pt x="1259" y="166"/>
                </a:lnTo>
                <a:lnTo>
                  <a:pt x="1223" y="168"/>
                </a:lnTo>
                <a:lnTo>
                  <a:pt x="1188" y="168"/>
                </a:lnTo>
                <a:lnTo>
                  <a:pt x="1152" y="168"/>
                </a:lnTo>
                <a:lnTo>
                  <a:pt x="1115" y="168"/>
                </a:lnTo>
                <a:lnTo>
                  <a:pt x="1074" y="168"/>
                </a:lnTo>
                <a:lnTo>
                  <a:pt x="1029" y="168"/>
                </a:lnTo>
                <a:lnTo>
                  <a:pt x="979" y="168"/>
                </a:lnTo>
                <a:lnTo>
                  <a:pt x="923" y="168"/>
                </a:lnTo>
                <a:lnTo>
                  <a:pt x="861" y="168"/>
                </a:lnTo>
                <a:lnTo>
                  <a:pt x="807" y="172"/>
                </a:lnTo>
                <a:lnTo>
                  <a:pt x="760" y="174"/>
                </a:lnTo>
                <a:lnTo>
                  <a:pt x="717" y="179"/>
                </a:lnTo>
                <a:lnTo>
                  <a:pt x="678" y="181"/>
                </a:lnTo>
                <a:lnTo>
                  <a:pt x="641" y="183"/>
                </a:lnTo>
                <a:lnTo>
                  <a:pt x="609" y="185"/>
                </a:lnTo>
                <a:lnTo>
                  <a:pt x="575" y="189"/>
                </a:lnTo>
                <a:lnTo>
                  <a:pt x="542" y="192"/>
                </a:lnTo>
                <a:lnTo>
                  <a:pt x="508" y="194"/>
                </a:lnTo>
                <a:lnTo>
                  <a:pt x="471" y="196"/>
                </a:lnTo>
                <a:lnTo>
                  <a:pt x="432" y="200"/>
                </a:lnTo>
                <a:lnTo>
                  <a:pt x="387" y="204"/>
                </a:lnTo>
                <a:lnTo>
                  <a:pt x="340" y="209"/>
                </a:lnTo>
                <a:lnTo>
                  <a:pt x="284" y="213"/>
                </a:lnTo>
                <a:lnTo>
                  <a:pt x="219" y="217"/>
                </a:lnTo>
                <a:lnTo>
                  <a:pt x="148" y="224"/>
                </a:lnTo>
                <a:lnTo>
                  <a:pt x="144" y="226"/>
                </a:lnTo>
                <a:lnTo>
                  <a:pt x="140" y="226"/>
                </a:lnTo>
                <a:lnTo>
                  <a:pt x="135" y="228"/>
                </a:lnTo>
                <a:lnTo>
                  <a:pt x="131" y="230"/>
                </a:lnTo>
                <a:lnTo>
                  <a:pt x="131" y="239"/>
                </a:lnTo>
                <a:lnTo>
                  <a:pt x="133" y="258"/>
                </a:lnTo>
                <a:lnTo>
                  <a:pt x="135" y="299"/>
                </a:lnTo>
                <a:lnTo>
                  <a:pt x="142" y="377"/>
                </a:lnTo>
                <a:lnTo>
                  <a:pt x="146" y="891"/>
                </a:lnTo>
                <a:lnTo>
                  <a:pt x="153" y="1407"/>
                </a:lnTo>
                <a:lnTo>
                  <a:pt x="163" y="1924"/>
                </a:lnTo>
                <a:lnTo>
                  <a:pt x="170" y="2443"/>
                </a:lnTo>
                <a:lnTo>
                  <a:pt x="174" y="2481"/>
                </a:lnTo>
                <a:lnTo>
                  <a:pt x="178" y="2501"/>
                </a:lnTo>
                <a:lnTo>
                  <a:pt x="180" y="2509"/>
                </a:lnTo>
                <a:lnTo>
                  <a:pt x="185" y="2514"/>
                </a:lnTo>
                <a:lnTo>
                  <a:pt x="198" y="2514"/>
                </a:lnTo>
                <a:lnTo>
                  <a:pt x="213" y="2512"/>
                </a:lnTo>
                <a:lnTo>
                  <a:pt x="230" y="2512"/>
                </a:lnTo>
                <a:lnTo>
                  <a:pt x="252" y="2512"/>
                </a:lnTo>
                <a:lnTo>
                  <a:pt x="277" y="2512"/>
                </a:lnTo>
                <a:lnTo>
                  <a:pt x="305" y="2509"/>
                </a:lnTo>
                <a:lnTo>
                  <a:pt x="338" y="2509"/>
                </a:lnTo>
                <a:lnTo>
                  <a:pt x="372" y="2509"/>
                </a:lnTo>
                <a:lnTo>
                  <a:pt x="411" y="2507"/>
                </a:lnTo>
                <a:lnTo>
                  <a:pt x="454" y="2507"/>
                </a:lnTo>
                <a:lnTo>
                  <a:pt x="499" y="2507"/>
                </a:lnTo>
                <a:lnTo>
                  <a:pt x="549" y="2505"/>
                </a:lnTo>
                <a:lnTo>
                  <a:pt x="603" y="2505"/>
                </a:lnTo>
                <a:lnTo>
                  <a:pt x="661" y="2503"/>
                </a:lnTo>
                <a:lnTo>
                  <a:pt x="723" y="2503"/>
                </a:lnTo>
                <a:lnTo>
                  <a:pt x="790" y="2501"/>
                </a:lnTo>
                <a:lnTo>
                  <a:pt x="783" y="2514"/>
                </a:lnTo>
                <a:lnTo>
                  <a:pt x="771" y="2531"/>
                </a:lnTo>
                <a:lnTo>
                  <a:pt x="753" y="2552"/>
                </a:lnTo>
                <a:lnTo>
                  <a:pt x="732" y="2576"/>
                </a:lnTo>
                <a:lnTo>
                  <a:pt x="710" y="2598"/>
                </a:lnTo>
                <a:lnTo>
                  <a:pt x="691" y="2617"/>
                </a:lnTo>
                <a:lnTo>
                  <a:pt x="671" y="2632"/>
                </a:lnTo>
                <a:lnTo>
                  <a:pt x="659" y="2641"/>
                </a:lnTo>
                <a:lnTo>
                  <a:pt x="587" y="2643"/>
                </a:lnTo>
                <a:lnTo>
                  <a:pt x="525" y="2643"/>
                </a:lnTo>
                <a:lnTo>
                  <a:pt x="469" y="2643"/>
                </a:lnTo>
                <a:lnTo>
                  <a:pt x="422" y="2645"/>
                </a:lnTo>
                <a:lnTo>
                  <a:pt x="383" y="2645"/>
                </a:lnTo>
                <a:lnTo>
                  <a:pt x="348" y="2645"/>
                </a:lnTo>
                <a:lnTo>
                  <a:pt x="320" y="2647"/>
                </a:lnTo>
                <a:lnTo>
                  <a:pt x="297" y="2647"/>
                </a:lnTo>
                <a:lnTo>
                  <a:pt x="277" y="2647"/>
                </a:lnTo>
                <a:lnTo>
                  <a:pt x="262" y="2647"/>
                </a:lnTo>
                <a:lnTo>
                  <a:pt x="249" y="2649"/>
                </a:lnTo>
                <a:lnTo>
                  <a:pt x="241" y="2649"/>
                </a:lnTo>
                <a:lnTo>
                  <a:pt x="232" y="2649"/>
                </a:lnTo>
                <a:lnTo>
                  <a:pt x="224" y="2649"/>
                </a:lnTo>
                <a:lnTo>
                  <a:pt x="217" y="2651"/>
                </a:lnTo>
                <a:lnTo>
                  <a:pt x="208" y="2651"/>
                </a:lnTo>
                <a:close/>
              </a:path>
            </a:pathLst>
          </a:cu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7"/>
          <p:cNvSpPr/>
          <p:nvPr/>
        </p:nvSpPr>
        <p:spPr>
          <a:xfrm>
            <a:off x="2554200" y="4135320"/>
            <a:ext cx="1616040" cy="243000"/>
          </a:xfrm>
          <a:custGeom>
            <a:avLst/>
            <a:gdLst>
              <a:gd name="textAreaLeft" fmla="*/ 0 w 1616040"/>
              <a:gd name="textAreaRight" fmla="*/ 1616400 w 16160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018" h="153">
                <a:moveTo>
                  <a:pt x="60" y="153"/>
                </a:moveTo>
                <a:lnTo>
                  <a:pt x="43" y="114"/>
                </a:lnTo>
                <a:lnTo>
                  <a:pt x="32" y="88"/>
                </a:lnTo>
                <a:lnTo>
                  <a:pt x="19" y="60"/>
                </a:lnTo>
                <a:lnTo>
                  <a:pt x="0" y="17"/>
                </a:lnTo>
                <a:lnTo>
                  <a:pt x="41" y="17"/>
                </a:lnTo>
                <a:lnTo>
                  <a:pt x="82" y="17"/>
                </a:lnTo>
                <a:lnTo>
                  <a:pt x="122" y="17"/>
                </a:lnTo>
                <a:lnTo>
                  <a:pt x="163" y="17"/>
                </a:lnTo>
                <a:lnTo>
                  <a:pt x="206" y="17"/>
                </a:lnTo>
                <a:lnTo>
                  <a:pt x="247" y="17"/>
                </a:lnTo>
                <a:lnTo>
                  <a:pt x="290" y="19"/>
                </a:lnTo>
                <a:lnTo>
                  <a:pt x="333" y="19"/>
                </a:lnTo>
                <a:lnTo>
                  <a:pt x="448" y="15"/>
                </a:lnTo>
                <a:lnTo>
                  <a:pt x="547" y="13"/>
                </a:lnTo>
                <a:lnTo>
                  <a:pt x="635" y="9"/>
                </a:lnTo>
                <a:lnTo>
                  <a:pt x="708" y="7"/>
                </a:lnTo>
                <a:lnTo>
                  <a:pt x="771" y="4"/>
                </a:lnTo>
                <a:lnTo>
                  <a:pt x="824" y="2"/>
                </a:lnTo>
                <a:lnTo>
                  <a:pt x="868" y="2"/>
                </a:lnTo>
                <a:lnTo>
                  <a:pt x="902" y="0"/>
                </a:lnTo>
                <a:lnTo>
                  <a:pt x="930" y="0"/>
                </a:lnTo>
                <a:lnTo>
                  <a:pt x="952" y="0"/>
                </a:lnTo>
                <a:lnTo>
                  <a:pt x="967" y="0"/>
                </a:lnTo>
                <a:lnTo>
                  <a:pt x="977" y="0"/>
                </a:lnTo>
                <a:lnTo>
                  <a:pt x="984" y="0"/>
                </a:lnTo>
                <a:lnTo>
                  <a:pt x="988" y="0"/>
                </a:lnTo>
                <a:lnTo>
                  <a:pt x="992" y="0"/>
                </a:lnTo>
                <a:lnTo>
                  <a:pt x="995" y="0"/>
                </a:lnTo>
                <a:lnTo>
                  <a:pt x="1001" y="24"/>
                </a:lnTo>
                <a:lnTo>
                  <a:pt x="1010" y="45"/>
                </a:lnTo>
                <a:lnTo>
                  <a:pt x="1016" y="67"/>
                </a:lnTo>
                <a:lnTo>
                  <a:pt x="1018" y="88"/>
                </a:lnTo>
                <a:lnTo>
                  <a:pt x="1016" y="106"/>
                </a:lnTo>
                <a:lnTo>
                  <a:pt x="1007" y="123"/>
                </a:lnTo>
                <a:lnTo>
                  <a:pt x="988" y="136"/>
                </a:lnTo>
                <a:lnTo>
                  <a:pt x="958" y="144"/>
                </a:lnTo>
                <a:lnTo>
                  <a:pt x="902" y="144"/>
                </a:lnTo>
                <a:lnTo>
                  <a:pt x="846" y="144"/>
                </a:lnTo>
                <a:lnTo>
                  <a:pt x="788" y="146"/>
                </a:lnTo>
                <a:lnTo>
                  <a:pt x="732" y="146"/>
                </a:lnTo>
                <a:lnTo>
                  <a:pt x="676" y="146"/>
                </a:lnTo>
                <a:lnTo>
                  <a:pt x="618" y="149"/>
                </a:lnTo>
                <a:lnTo>
                  <a:pt x="562" y="149"/>
                </a:lnTo>
                <a:lnTo>
                  <a:pt x="506" y="151"/>
                </a:lnTo>
                <a:lnTo>
                  <a:pt x="448" y="151"/>
                </a:lnTo>
                <a:lnTo>
                  <a:pt x="392" y="153"/>
                </a:lnTo>
                <a:lnTo>
                  <a:pt x="336" y="153"/>
                </a:lnTo>
                <a:lnTo>
                  <a:pt x="280" y="153"/>
                </a:lnTo>
                <a:lnTo>
                  <a:pt x="224" y="153"/>
                </a:lnTo>
                <a:lnTo>
                  <a:pt x="170" y="153"/>
                </a:lnTo>
                <a:lnTo>
                  <a:pt x="114" y="153"/>
                </a:lnTo>
                <a:lnTo>
                  <a:pt x="60" y="153"/>
                </a:lnTo>
                <a:close/>
              </a:path>
            </a:pathLst>
          </a:cu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8"/>
          <p:cNvSpPr/>
          <p:nvPr/>
        </p:nvSpPr>
        <p:spPr>
          <a:xfrm>
            <a:off x="4484520" y="2881440"/>
            <a:ext cx="1013040" cy="1446120"/>
          </a:xfrm>
          <a:custGeom>
            <a:avLst/>
            <a:gdLst>
              <a:gd name="textAreaLeft" fmla="*/ 0 w 1013040"/>
              <a:gd name="textAreaRight" fmla="*/ 1013400 w 1013040"/>
              <a:gd name="textAreaTop" fmla="*/ 0 h 1446120"/>
              <a:gd name="textAreaBottom" fmla="*/ 1446480 h 1446120"/>
            </a:gdLst>
            <a:ahLst/>
            <a:rect l="textAreaLeft" t="textAreaTop" r="textAreaRight" b="textAreaBottom"/>
            <a:pathLst>
              <a:path w="638" h="911">
                <a:moveTo>
                  <a:pt x="26" y="911"/>
                </a:moveTo>
                <a:lnTo>
                  <a:pt x="22" y="911"/>
                </a:lnTo>
                <a:lnTo>
                  <a:pt x="20" y="908"/>
                </a:lnTo>
                <a:lnTo>
                  <a:pt x="15" y="908"/>
                </a:lnTo>
                <a:lnTo>
                  <a:pt x="13" y="908"/>
                </a:lnTo>
                <a:lnTo>
                  <a:pt x="11" y="853"/>
                </a:lnTo>
                <a:lnTo>
                  <a:pt x="7" y="794"/>
                </a:lnTo>
                <a:lnTo>
                  <a:pt x="5" y="738"/>
                </a:lnTo>
                <a:lnTo>
                  <a:pt x="0" y="682"/>
                </a:lnTo>
                <a:lnTo>
                  <a:pt x="3" y="607"/>
                </a:lnTo>
                <a:lnTo>
                  <a:pt x="9" y="532"/>
                </a:lnTo>
                <a:lnTo>
                  <a:pt x="15" y="459"/>
                </a:lnTo>
                <a:lnTo>
                  <a:pt x="26" y="385"/>
                </a:lnTo>
                <a:lnTo>
                  <a:pt x="37" y="314"/>
                </a:lnTo>
                <a:lnTo>
                  <a:pt x="50" y="241"/>
                </a:lnTo>
                <a:lnTo>
                  <a:pt x="63" y="170"/>
                </a:lnTo>
                <a:lnTo>
                  <a:pt x="76" y="97"/>
                </a:lnTo>
                <a:lnTo>
                  <a:pt x="78" y="91"/>
                </a:lnTo>
                <a:lnTo>
                  <a:pt x="82" y="84"/>
                </a:lnTo>
                <a:lnTo>
                  <a:pt x="87" y="78"/>
                </a:lnTo>
                <a:lnTo>
                  <a:pt x="91" y="71"/>
                </a:lnTo>
                <a:lnTo>
                  <a:pt x="93" y="71"/>
                </a:lnTo>
                <a:lnTo>
                  <a:pt x="95" y="69"/>
                </a:lnTo>
                <a:lnTo>
                  <a:pt x="97" y="69"/>
                </a:lnTo>
                <a:lnTo>
                  <a:pt x="99" y="69"/>
                </a:lnTo>
                <a:lnTo>
                  <a:pt x="104" y="80"/>
                </a:lnTo>
                <a:lnTo>
                  <a:pt x="106" y="93"/>
                </a:lnTo>
                <a:lnTo>
                  <a:pt x="110" y="104"/>
                </a:lnTo>
                <a:lnTo>
                  <a:pt x="112" y="116"/>
                </a:lnTo>
                <a:lnTo>
                  <a:pt x="130" y="112"/>
                </a:lnTo>
                <a:lnTo>
                  <a:pt x="149" y="104"/>
                </a:lnTo>
                <a:lnTo>
                  <a:pt x="170" y="88"/>
                </a:lnTo>
                <a:lnTo>
                  <a:pt x="194" y="69"/>
                </a:lnTo>
                <a:lnTo>
                  <a:pt x="218" y="50"/>
                </a:lnTo>
                <a:lnTo>
                  <a:pt x="239" y="30"/>
                </a:lnTo>
                <a:lnTo>
                  <a:pt x="259" y="13"/>
                </a:lnTo>
                <a:lnTo>
                  <a:pt x="274" y="0"/>
                </a:lnTo>
                <a:lnTo>
                  <a:pt x="313" y="5"/>
                </a:lnTo>
                <a:lnTo>
                  <a:pt x="347" y="15"/>
                </a:lnTo>
                <a:lnTo>
                  <a:pt x="382" y="30"/>
                </a:lnTo>
                <a:lnTo>
                  <a:pt x="412" y="48"/>
                </a:lnTo>
                <a:lnTo>
                  <a:pt x="440" y="71"/>
                </a:lnTo>
                <a:lnTo>
                  <a:pt x="466" y="97"/>
                </a:lnTo>
                <a:lnTo>
                  <a:pt x="489" y="125"/>
                </a:lnTo>
                <a:lnTo>
                  <a:pt x="513" y="157"/>
                </a:lnTo>
                <a:lnTo>
                  <a:pt x="532" y="192"/>
                </a:lnTo>
                <a:lnTo>
                  <a:pt x="552" y="226"/>
                </a:lnTo>
                <a:lnTo>
                  <a:pt x="569" y="263"/>
                </a:lnTo>
                <a:lnTo>
                  <a:pt x="586" y="299"/>
                </a:lnTo>
                <a:lnTo>
                  <a:pt x="599" y="336"/>
                </a:lnTo>
                <a:lnTo>
                  <a:pt x="614" y="375"/>
                </a:lnTo>
                <a:lnTo>
                  <a:pt x="627" y="411"/>
                </a:lnTo>
                <a:lnTo>
                  <a:pt x="638" y="446"/>
                </a:lnTo>
                <a:lnTo>
                  <a:pt x="631" y="469"/>
                </a:lnTo>
                <a:lnTo>
                  <a:pt x="614" y="489"/>
                </a:lnTo>
                <a:lnTo>
                  <a:pt x="590" y="508"/>
                </a:lnTo>
                <a:lnTo>
                  <a:pt x="560" y="525"/>
                </a:lnTo>
                <a:lnTo>
                  <a:pt x="528" y="540"/>
                </a:lnTo>
                <a:lnTo>
                  <a:pt x="498" y="553"/>
                </a:lnTo>
                <a:lnTo>
                  <a:pt x="470" y="564"/>
                </a:lnTo>
                <a:lnTo>
                  <a:pt x="450" y="575"/>
                </a:lnTo>
                <a:lnTo>
                  <a:pt x="448" y="616"/>
                </a:lnTo>
                <a:lnTo>
                  <a:pt x="448" y="657"/>
                </a:lnTo>
                <a:lnTo>
                  <a:pt x="446" y="698"/>
                </a:lnTo>
                <a:lnTo>
                  <a:pt x="444" y="738"/>
                </a:lnTo>
                <a:lnTo>
                  <a:pt x="425" y="788"/>
                </a:lnTo>
                <a:lnTo>
                  <a:pt x="394" y="825"/>
                </a:lnTo>
                <a:lnTo>
                  <a:pt x="356" y="855"/>
                </a:lnTo>
                <a:lnTo>
                  <a:pt x="313" y="874"/>
                </a:lnTo>
                <a:lnTo>
                  <a:pt x="263" y="889"/>
                </a:lnTo>
                <a:lnTo>
                  <a:pt x="214" y="900"/>
                </a:lnTo>
                <a:lnTo>
                  <a:pt x="162" y="906"/>
                </a:lnTo>
                <a:lnTo>
                  <a:pt x="115" y="911"/>
                </a:lnTo>
                <a:lnTo>
                  <a:pt x="104" y="911"/>
                </a:lnTo>
                <a:lnTo>
                  <a:pt x="93" y="911"/>
                </a:lnTo>
                <a:lnTo>
                  <a:pt x="82" y="911"/>
                </a:lnTo>
                <a:lnTo>
                  <a:pt x="71" y="911"/>
                </a:lnTo>
                <a:lnTo>
                  <a:pt x="59" y="911"/>
                </a:lnTo>
                <a:lnTo>
                  <a:pt x="48" y="911"/>
                </a:lnTo>
                <a:lnTo>
                  <a:pt x="37" y="911"/>
                </a:lnTo>
                <a:lnTo>
                  <a:pt x="26" y="911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9"/>
          <p:cNvSpPr/>
          <p:nvPr/>
        </p:nvSpPr>
        <p:spPr>
          <a:xfrm>
            <a:off x="4122720" y="2957400"/>
            <a:ext cx="426960" cy="1346400"/>
          </a:xfrm>
          <a:custGeom>
            <a:avLst/>
            <a:gdLst>
              <a:gd name="textAreaLeft" fmla="*/ 0 w 426960"/>
              <a:gd name="textAreaRight" fmla="*/ 427320 w 42696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w="269" h="848">
                <a:moveTo>
                  <a:pt x="196" y="848"/>
                </a:moveTo>
                <a:lnTo>
                  <a:pt x="172" y="839"/>
                </a:lnTo>
                <a:lnTo>
                  <a:pt x="149" y="832"/>
                </a:lnTo>
                <a:lnTo>
                  <a:pt x="127" y="826"/>
                </a:lnTo>
                <a:lnTo>
                  <a:pt x="106" y="817"/>
                </a:lnTo>
                <a:lnTo>
                  <a:pt x="86" y="807"/>
                </a:lnTo>
                <a:lnTo>
                  <a:pt x="69" y="796"/>
                </a:lnTo>
                <a:lnTo>
                  <a:pt x="52" y="781"/>
                </a:lnTo>
                <a:lnTo>
                  <a:pt x="39" y="764"/>
                </a:lnTo>
                <a:lnTo>
                  <a:pt x="17" y="639"/>
                </a:lnTo>
                <a:lnTo>
                  <a:pt x="4" y="516"/>
                </a:lnTo>
                <a:lnTo>
                  <a:pt x="0" y="396"/>
                </a:lnTo>
                <a:lnTo>
                  <a:pt x="0" y="275"/>
                </a:lnTo>
                <a:lnTo>
                  <a:pt x="7" y="221"/>
                </a:lnTo>
                <a:lnTo>
                  <a:pt x="11" y="172"/>
                </a:lnTo>
                <a:lnTo>
                  <a:pt x="17" y="131"/>
                </a:lnTo>
                <a:lnTo>
                  <a:pt x="28" y="94"/>
                </a:lnTo>
                <a:lnTo>
                  <a:pt x="43" y="62"/>
                </a:lnTo>
                <a:lnTo>
                  <a:pt x="67" y="38"/>
                </a:lnTo>
                <a:lnTo>
                  <a:pt x="103" y="17"/>
                </a:lnTo>
                <a:lnTo>
                  <a:pt x="153" y="2"/>
                </a:lnTo>
                <a:lnTo>
                  <a:pt x="157" y="21"/>
                </a:lnTo>
                <a:lnTo>
                  <a:pt x="168" y="43"/>
                </a:lnTo>
                <a:lnTo>
                  <a:pt x="183" y="62"/>
                </a:lnTo>
                <a:lnTo>
                  <a:pt x="209" y="71"/>
                </a:lnTo>
                <a:lnTo>
                  <a:pt x="218" y="53"/>
                </a:lnTo>
                <a:lnTo>
                  <a:pt x="226" y="34"/>
                </a:lnTo>
                <a:lnTo>
                  <a:pt x="237" y="17"/>
                </a:lnTo>
                <a:lnTo>
                  <a:pt x="248" y="0"/>
                </a:lnTo>
                <a:lnTo>
                  <a:pt x="252" y="0"/>
                </a:lnTo>
                <a:lnTo>
                  <a:pt x="256" y="0"/>
                </a:lnTo>
                <a:lnTo>
                  <a:pt x="259" y="0"/>
                </a:lnTo>
                <a:lnTo>
                  <a:pt x="263" y="0"/>
                </a:lnTo>
                <a:lnTo>
                  <a:pt x="267" y="23"/>
                </a:lnTo>
                <a:lnTo>
                  <a:pt x="269" y="40"/>
                </a:lnTo>
                <a:lnTo>
                  <a:pt x="269" y="60"/>
                </a:lnTo>
                <a:lnTo>
                  <a:pt x="269" y="86"/>
                </a:lnTo>
                <a:lnTo>
                  <a:pt x="252" y="183"/>
                </a:lnTo>
                <a:lnTo>
                  <a:pt x="237" y="279"/>
                </a:lnTo>
                <a:lnTo>
                  <a:pt x="226" y="372"/>
                </a:lnTo>
                <a:lnTo>
                  <a:pt x="218" y="464"/>
                </a:lnTo>
                <a:lnTo>
                  <a:pt x="213" y="557"/>
                </a:lnTo>
                <a:lnTo>
                  <a:pt x="211" y="652"/>
                </a:lnTo>
                <a:lnTo>
                  <a:pt x="209" y="749"/>
                </a:lnTo>
                <a:lnTo>
                  <a:pt x="211" y="848"/>
                </a:lnTo>
                <a:lnTo>
                  <a:pt x="207" y="848"/>
                </a:lnTo>
                <a:lnTo>
                  <a:pt x="205" y="848"/>
                </a:lnTo>
                <a:lnTo>
                  <a:pt x="200" y="848"/>
                </a:lnTo>
                <a:lnTo>
                  <a:pt x="196" y="848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0"/>
          <p:cNvSpPr/>
          <p:nvPr/>
        </p:nvSpPr>
        <p:spPr>
          <a:xfrm>
            <a:off x="328680" y="539640"/>
            <a:ext cx="4279680" cy="3652920"/>
          </a:xfrm>
          <a:custGeom>
            <a:avLst/>
            <a:gdLst>
              <a:gd name="textAreaLeft" fmla="*/ 0 w 4279680"/>
              <a:gd name="textAreaRight" fmla="*/ 4280040 w 4279680"/>
              <a:gd name="textAreaTop" fmla="*/ 0 h 3652920"/>
              <a:gd name="textAreaBottom" fmla="*/ 3653280 h 3652920"/>
            </a:gdLst>
            <a:ahLst/>
            <a:rect l="textAreaLeft" t="textAreaTop" r="textAreaRight" b="textAreaBottom"/>
            <a:pathLst>
              <a:path w="2696" h="2301">
                <a:moveTo>
                  <a:pt x="179" y="2301"/>
                </a:moveTo>
                <a:lnTo>
                  <a:pt x="161" y="2301"/>
                </a:lnTo>
                <a:lnTo>
                  <a:pt x="146" y="2299"/>
                </a:lnTo>
                <a:lnTo>
                  <a:pt x="129" y="2299"/>
                </a:lnTo>
                <a:lnTo>
                  <a:pt x="112" y="2299"/>
                </a:lnTo>
                <a:lnTo>
                  <a:pt x="95" y="2299"/>
                </a:lnTo>
                <a:lnTo>
                  <a:pt x="77" y="2299"/>
                </a:lnTo>
                <a:lnTo>
                  <a:pt x="62" y="2297"/>
                </a:lnTo>
                <a:lnTo>
                  <a:pt x="45" y="2297"/>
                </a:lnTo>
                <a:lnTo>
                  <a:pt x="43" y="2286"/>
                </a:lnTo>
                <a:lnTo>
                  <a:pt x="43" y="2275"/>
                </a:lnTo>
                <a:lnTo>
                  <a:pt x="43" y="2266"/>
                </a:lnTo>
                <a:lnTo>
                  <a:pt x="41" y="2256"/>
                </a:lnTo>
                <a:lnTo>
                  <a:pt x="30" y="1707"/>
                </a:lnTo>
                <a:lnTo>
                  <a:pt x="23" y="1158"/>
                </a:lnTo>
                <a:lnTo>
                  <a:pt x="15" y="611"/>
                </a:lnTo>
                <a:lnTo>
                  <a:pt x="0" y="65"/>
                </a:lnTo>
                <a:lnTo>
                  <a:pt x="6" y="63"/>
                </a:lnTo>
                <a:lnTo>
                  <a:pt x="11" y="63"/>
                </a:lnTo>
                <a:lnTo>
                  <a:pt x="19" y="60"/>
                </a:lnTo>
                <a:lnTo>
                  <a:pt x="28" y="60"/>
                </a:lnTo>
                <a:lnTo>
                  <a:pt x="41" y="58"/>
                </a:lnTo>
                <a:lnTo>
                  <a:pt x="58" y="56"/>
                </a:lnTo>
                <a:lnTo>
                  <a:pt x="82" y="56"/>
                </a:lnTo>
                <a:lnTo>
                  <a:pt x="112" y="52"/>
                </a:lnTo>
                <a:lnTo>
                  <a:pt x="151" y="50"/>
                </a:lnTo>
                <a:lnTo>
                  <a:pt x="196" y="45"/>
                </a:lnTo>
                <a:lnTo>
                  <a:pt x="254" y="41"/>
                </a:lnTo>
                <a:lnTo>
                  <a:pt x="321" y="37"/>
                </a:lnTo>
                <a:lnTo>
                  <a:pt x="400" y="30"/>
                </a:lnTo>
                <a:lnTo>
                  <a:pt x="491" y="24"/>
                </a:lnTo>
                <a:lnTo>
                  <a:pt x="598" y="15"/>
                </a:lnTo>
                <a:lnTo>
                  <a:pt x="719" y="7"/>
                </a:lnTo>
                <a:lnTo>
                  <a:pt x="799" y="7"/>
                </a:lnTo>
                <a:lnTo>
                  <a:pt x="876" y="7"/>
                </a:lnTo>
                <a:lnTo>
                  <a:pt x="956" y="7"/>
                </a:lnTo>
                <a:lnTo>
                  <a:pt x="1033" y="9"/>
                </a:lnTo>
                <a:lnTo>
                  <a:pt x="1111" y="9"/>
                </a:lnTo>
                <a:lnTo>
                  <a:pt x="1191" y="9"/>
                </a:lnTo>
                <a:lnTo>
                  <a:pt x="1268" y="9"/>
                </a:lnTo>
                <a:lnTo>
                  <a:pt x="1348" y="9"/>
                </a:lnTo>
                <a:lnTo>
                  <a:pt x="1425" y="11"/>
                </a:lnTo>
                <a:lnTo>
                  <a:pt x="1505" y="9"/>
                </a:lnTo>
                <a:lnTo>
                  <a:pt x="1585" y="9"/>
                </a:lnTo>
                <a:lnTo>
                  <a:pt x="1662" y="9"/>
                </a:lnTo>
                <a:lnTo>
                  <a:pt x="1742" y="7"/>
                </a:lnTo>
                <a:lnTo>
                  <a:pt x="1822" y="5"/>
                </a:lnTo>
                <a:lnTo>
                  <a:pt x="1901" y="2"/>
                </a:lnTo>
                <a:lnTo>
                  <a:pt x="1981" y="0"/>
                </a:lnTo>
                <a:lnTo>
                  <a:pt x="2024" y="2"/>
                </a:lnTo>
                <a:lnTo>
                  <a:pt x="2065" y="2"/>
                </a:lnTo>
                <a:lnTo>
                  <a:pt x="2108" y="5"/>
                </a:lnTo>
                <a:lnTo>
                  <a:pt x="2151" y="7"/>
                </a:lnTo>
                <a:lnTo>
                  <a:pt x="2194" y="7"/>
                </a:lnTo>
                <a:lnTo>
                  <a:pt x="2235" y="9"/>
                </a:lnTo>
                <a:lnTo>
                  <a:pt x="2278" y="11"/>
                </a:lnTo>
                <a:lnTo>
                  <a:pt x="2321" y="13"/>
                </a:lnTo>
                <a:lnTo>
                  <a:pt x="2364" y="13"/>
                </a:lnTo>
                <a:lnTo>
                  <a:pt x="2407" y="15"/>
                </a:lnTo>
                <a:lnTo>
                  <a:pt x="2450" y="17"/>
                </a:lnTo>
                <a:lnTo>
                  <a:pt x="2493" y="20"/>
                </a:lnTo>
                <a:lnTo>
                  <a:pt x="2537" y="22"/>
                </a:lnTo>
                <a:lnTo>
                  <a:pt x="2580" y="22"/>
                </a:lnTo>
                <a:lnTo>
                  <a:pt x="2623" y="24"/>
                </a:lnTo>
                <a:lnTo>
                  <a:pt x="2666" y="26"/>
                </a:lnTo>
                <a:lnTo>
                  <a:pt x="2672" y="28"/>
                </a:lnTo>
                <a:lnTo>
                  <a:pt x="2679" y="28"/>
                </a:lnTo>
                <a:lnTo>
                  <a:pt x="2685" y="30"/>
                </a:lnTo>
                <a:lnTo>
                  <a:pt x="2694" y="32"/>
                </a:lnTo>
                <a:lnTo>
                  <a:pt x="2696" y="200"/>
                </a:lnTo>
                <a:lnTo>
                  <a:pt x="2696" y="366"/>
                </a:lnTo>
                <a:lnTo>
                  <a:pt x="2696" y="534"/>
                </a:lnTo>
                <a:lnTo>
                  <a:pt x="2696" y="700"/>
                </a:lnTo>
                <a:lnTo>
                  <a:pt x="2657" y="706"/>
                </a:lnTo>
                <a:lnTo>
                  <a:pt x="2618" y="715"/>
                </a:lnTo>
                <a:lnTo>
                  <a:pt x="2580" y="730"/>
                </a:lnTo>
                <a:lnTo>
                  <a:pt x="2549" y="749"/>
                </a:lnTo>
                <a:lnTo>
                  <a:pt x="2524" y="775"/>
                </a:lnTo>
                <a:lnTo>
                  <a:pt x="2511" y="805"/>
                </a:lnTo>
                <a:lnTo>
                  <a:pt x="2509" y="844"/>
                </a:lnTo>
                <a:lnTo>
                  <a:pt x="2524" y="889"/>
                </a:lnTo>
                <a:lnTo>
                  <a:pt x="2545" y="915"/>
                </a:lnTo>
                <a:lnTo>
                  <a:pt x="2558" y="943"/>
                </a:lnTo>
                <a:lnTo>
                  <a:pt x="2560" y="975"/>
                </a:lnTo>
                <a:lnTo>
                  <a:pt x="2558" y="1007"/>
                </a:lnTo>
                <a:lnTo>
                  <a:pt x="2549" y="1042"/>
                </a:lnTo>
                <a:lnTo>
                  <a:pt x="2537" y="1076"/>
                </a:lnTo>
                <a:lnTo>
                  <a:pt x="2519" y="1106"/>
                </a:lnTo>
                <a:lnTo>
                  <a:pt x="2502" y="1134"/>
                </a:lnTo>
                <a:lnTo>
                  <a:pt x="2478" y="1145"/>
                </a:lnTo>
                <a:lnTo>
                  <a:pt x="2461" y="1156"/>
                </a:lnTo>
                <a:lnTo>
                  <a:pt x="2448" y="1171"/>
                </a:lnTo>
                <a:lnTo>
                  <a:pt x="2444" y="1197"/>
                </a:lnTo>
                <a:lnTo>
                  <a:pt x="2459" y="1205"/>
                </a:lnTo>
                <a:lnTo>
                  <a:pt x="2472" y="1210"/>
                </a:lnTo>
                <a:lnTo>
                  <a:pt x="2483" y="1214"/>
                </a:lnTo>
                <a:lnTo>
                  <a:pt x="2496" y="1214"/>
                </a:lnTo>
                <a:lnTo>
                  <a:pt x="2509" y="1212"/>
                </a:lnTo>
                <a:lnTo>
                  <a:pt x="2521" y="1210"/>
                </a:lnTo>
                <a:lnTo>
                  <a:pt x="2539" y="1210"/>
                </a:lnTo>
                <a:lnTo>
                  <a:pt x="2558" y="1208"/>
                </a:lnTo>
                <a:lnTo>
                  <a:pt x="2560" y="1229"/>
                </a:lnTo>
                <a:lnTo>
                  <a:pt x="2562" y="1248"/>
                </a:lnTo>
                <a:lnTo>
                  <a:pt x="2567" y="1268"/>
                </a:lnTo>
                <a:lnTo>
                  <a:pt x="2571" y="1287"/>
                </a:lnTo>
                <a:lnTo>
                  <a:pt x="2586" y="1339"/>
                </a:lnTo>
                <a:lnTo>
                  <a:pt x="2599" y="1384"/>
                </a:lnTo>
                <a:lnTo>
                  <a:pt x="2603" y="1421"/>
                </a:lnTo>
                <a:lnTo>
                  <a:pt x="2601" y="1451"/>
                </a:lnTo>
                <a:lnTo>
                  <a:pt x="2590" y="1479"/>
                </a:lnTo>
                <a:lnTo>
                  <a:pt x="2567" y="1502"/>
                </a:lnTo>
                <a:lnTo>
                  <a:pt x="2530" y="1524"/>
                </a:lnTo>
                <a:lnTo>
                  <a:pt x="2478" y="1545"/>
                </a:lnTo>
                <a:lnTo>
                  <a:pt x="2468" y="1552"/>
                </a:lnTo>
                <a:lnTo>
                  <a:pt x="2457" y="1561"/>
                </a:lnTo>
                <a:lnTo>
                  <a:pt x="2446" y="1567"/>
                </a:lnTo>
                <a:lnTo>
                  <a:pt x="2435" y="1573"/>
                </a:lnTo>
                <a:lnTo>
                  <a:pt x="2427" y="1582"/>
                </a:lnTo>
                <a:lnTo>
                  <a:pt x="2418" y="1591"/>
                </a:lnTo>
                <a:lnTo>
                  <a:pt x="2409" y="1599"/>
                </a:lnTo>
                <a:lnTo>
                  <a:pt x="2403" y="1610"/>
                </a:lnTo>
                <a:lnTo>
                  <a:pt x="2386" y="1698"/>
                </a:lnTo>
                <a:lnTo>
                  <a:pt x="2373" y="1789"/>
                </a:lnTo>
                <a:lnTo>
                  <a:pt x="2364" y="1879"/>
                </a:lnTo>
                <a:lnTo>
                  <a:pt x="2362" y="1974"/>
                </a:lnTo>
                <a:lnTo>
                  <a:pt x="2366" y="2045"/>
                </a:lnTo>
                <a:lnTo>
                  <a:pt x="2373" y="2116"/>
                </a:lnTo>
                <a:lnTo>
                  <a:pt x="2377" y="2187"/>
                </a:lnTo>
                <a:lnTo>
                  <a:pt x="2384" y="2258"/>
                </a:lnTo>
                <a:lnTo>
                  <a:pt x="2381" y="2260"/>
                </a:lnTo>
                <a:lnTo>
                  <a:pt x="2377" y="2260"/>
                </a:lnTo>
                <a:lnTo>
                  <a:pt x="2375" y="2262"/>
                </a:lnTo>
                <a:lnTo>
                  <a:pt x="2371" y="2264"/>
                </a:lnTo>
                <a:lnTo>
                  <a:pt x="2313" y="2266"/>
                </a:lnTo>
                <a:lnTo>
                  <a:pt x="2252" y="2269"/>
                </a:lnTo>
                <a:lnTo>
                  <a:pt x="2194" y="2269"/>
                </a:lnTo>
                <a:lnTo>
                  <a:pt x="2134" y="2271"/>
                </a:lnTo>
                <a:lnTo>
                  <a:pt x="2074" y="2273"/>
                </a:lnTo>
                <a:lnTo>
                  <a:pt x="2015" y="2275"/>
                </a:lnTo>
                <a:lnTo>
                  <a:pt x="1955" y="2277"/>
                </a:lnTo>
                <a:lnTo>
                  <a:pt x="1895" y="2277"/>
                </a:lnTo>
                <a:lnTo>
                  <a:pt x="1837" y="2279"/>
                </a:lnTo>
                <a:lnTo>
                  <a:pt x="1776" y="2281"/>
                </a:lnTo>
                <a:lnTo>
                  <a:pt x="1716" y="2281"/>
                </a:lnTo>
                <a:lnTo>
                  <a:pt x="1658" y="2284"/>
                </a:lnTo>
                <a:lnTo>
                  <a:pt x="1598" y="2284"/>
                </a:lnTo>
                <a:lnTo>
                  <a:pt x="1537" y="2284"/>
                </a:lnTo>
                <a:lnTo>
                  <a:pt x="1479" y="2284"/>
                </a:lnTo>
                <a:lnTo>
                  <a:pt x="1419" y="2284"/>
                </a:lnTo>
                <a:lnTo>
                  <a:pt x="1419" y="2281"/>
                </a:lnTo>
                <a:lnTo>
                  <a:pt x="1419" y="2277"/>
                </a:lnTo>
                <a:lnTo>
                  <a:pt x="1419" y="2275"/>
                </a:lnTo>
                <a:lnTo>
                  <a:pt x="1419" y="2273"/>
                </a:lnTo>
                <a:lnTo>
                  <a:pt x="1430" y="2264"/>
                </a:lnTo>
                <a:lnTo>
                  <a:pt x="1440" y="2254"/>
                </a:lnTo>
                <a:lnTo>
                  <a:pt x="1456" y="2241"/>
                </a:lnTo>
                <a:lnTo>
                  <a:pt x="1471" y="2226"/>
                </a:lnTo>
                <a:lnTo>
                  <a:pt x="1484" y="2213"/>
                </a:lnTo>
                <a:lnTo>
                  <a:pt x="1494" y="2198"/>
                </a:lnTo>
                <a:lnTo>
                  <a:pt x="1503" y="2185"/>
                </a:lnTo>
                <a:lnTo>
                  <a:pt x="1505" y="2172"/>
                </a:lnTo>
                <a:lnTo>
                  <a:pt x="1488" y="2148"/>
                </a:lnTo>
                <a:lnTo>
                  <a:pt x="1473" y="2127"/>
                </a:lnTo>
                <a:lnTo>
                  <a:pt x="1464" y="2105"/>
                </a:lnTo>
                <a:lnTo>
                  <a:pt x="1460" y="2083"/>
                </a:lnTo>
                <a:lnTo>
                  <a:pt x="1490" y="2051"/>
                </a:lnTo>
                <a:lnTo>
                  <a:pt x="1520" y="2019"/>
                </a:lnTo>
                <a:lnTo>
                  <a:pt x="1550" y="1984"/>
                </a:lnTo>
                <a:lnTo>
                  <a:pt x="1578" y="1952"/>
                </a:lnTo>
                <a:lnTo>
                  <a:pt x="1608" y="1918"/>
                </a:lnTo>
                <a:lnTo>
                  <a:pt x="1636" y="1885"/>
                </a:lnTo>
                <a:lnTo>
                  <a:pt x="1667" y="1851"/>
                </a:lnTo>
                <a:lnTo>
                  <a:pt x="1695" y="1819"/>
                </a:lnTo>
                <a:lnTo>
                  <a:pt x="1723" y="1821"/>
                </a:lnTo>
                <a:lnTo>
                  <a:pt x="1746" y="1814"/>
                </a:lnTo>
                <a:lnTo>
                  <a:pt x="1763" y="1806"/>
                </a:lnTo>
                <a:lnTo>
                  <a:pt x="1774" y="1793"/>
                </a:lnTo>
                <a:lnTo>
                  <a:pt x="1783" y="1774"/>
                </a:lnTo>
                <a:lnTo>
                  <a:pt x="1789" y="1752"/>
                </a:lnTo>
                <a:lnTo>
                  <a:pt x="1796" y="1728"/>
                </a:lnTo>
                <a:lnTo>
                  <a:pt x="1800" y="1703"/>
                </a:lnTo>
                <a:lnTo>
                  <a:pt x="1794" y="1672"/>
                </a:lnTo>
                <a:lnTo>
                  <a:pt x="1781" y="1647"/>
                </a:lnTo>
                <a:lnTo>
                  <a:pt x="1766" y="1625"/>
                </a:lnTo>
                <a:lnTo>
                  <a:pt x="1748" y="1608"/>
                </a:lnTo>
                <a:lnTo>
                  <a:pt x="1748" y="1586"/>
                </a:lnTo>
                <a:lnTo>
                  <a:pt x="1744" y="1571"/>
                </a:lnTo>
                <a:lnTo>
                  <a:pt x="1738" y="1558"/>
                </a:lnTo>
                <a:lnTo>
                  <a:pt x="1729" y="1545"/>
                </a:lnTo>
                <a:lnTo>
                  <a:pt x="1705" y="1548"/>
                </a:lnTo>
                <a:lnTo>
                  <a:pt x="1682" y="1554"/>
                </a:lnTo>
                <a:lnTo>
                  <a:pt x="1658" y="1563"/>
                </a:lnTo>
                <a:lnTo>
                  <a:pt x="1636" y="1576"/>
                </a:lnTo>
                <a:lnTo>
                  <a:pt x="1615" y="1591"/>
                </a:lnTo>
                <a:lnTo>
                  <a:pt x="1595" y="1608"/>
                </a:lnTo>
                <a:lnTo>
                  <a:pt x="1580" y="1625"/>
                </a:lnTo>
                <a:lnTo>
                  <a:pt x="1568" y="1642"/>
                </a:lnTo>
                <a:lnTo>
                  <a:pt x="1563" y="1670"/>
                </a:lnTo>
                <a:lnTo>
                  <a:pt x="1561" y="1687"/>
                </a:lnTo>
                <a:lnTo>
                  <a:pt x="1561" y="1709"/>
                </a:lnTo>
                <a:lnTo>
                  <a:pt x="1561" y="1739"/>
                </a:lnTo>
                <a:lnTo>
                  <a:pt x="1542" y="1771"/>
                </a:lnTo>
                <a:lnTo>
                  <a:pt x="1520" y="1802"/>
                </a:lnTo>
                <a:lnTo>
                  <a:pt x="1499" y="1832"/>
                </a:lnTo>
                <a:lnTo>
                  <a:pt x="1475" y="1862"/>
                </a:lnTo>
                <a:lnTo>
                  <a:pt x="1451" y="1892"/>
                </a:lnTo>
                <a:lnTo>
                  <a:pt x="1428" y="1920"/>
                </a:lnTo>
                <a:lnTo>
                  <a:pt x="1402" y="1948"/>
                </a:lnTo>
                <a:lnTo>
                  <a:pt x="1376" y="1976"/>
                </a:lnTo>
                <a:lnTo>
                  <a:pt x="1367" y="1976"/>
                </a:lnTo>
                <a:lnTo>
                  <a:pt x="1359" y="1972"/>
                </a:lnTo>
                <a:lnTo>
                  <a:pt x="1350" y="1969"/>
                </a:lnTo>
                <a:lnTo>
                  <a:pt x="1337" y="1967"/>
                </a:lnTo>
                <a:lnTo>
                  <a:pt x="1322" y="1978"/>
                </a:lnTo>
                <a:lnTo>
                  <a:pt x="1303" y="1991"/>
                </a:lnTo>
                <a:lnTo>
                  <a:pt x="1281" y="2004"/>
                </a:lnTo>
                <a:lnTo>
                  <a:pt x="1257" y="2017"/>
                </a:lnTo>
                <a:lnTo>
                  <a:pt x="1236" y="2030"/>
                </a:lnTo>
                <a:lnTo>
                  <a:pt x="1212" y="2038"/>
                </a:lnTo>
                <a:lnTo>
                  <a:pt x="1193" y="2045"/>
                </a:lnTo>
                <a:lnTo>
                  <a:pt x="1178" y="2045"/>
                </a:lnTo>
                <a:lnTo>
                  <a:pt x="1156" y="1978"/>
                </a:lnTo>
                <a:lnTo>
                  <a:pt x="1145" y="1941"/>
                </a:lnTo>
                <a:lnTo>
                  <a:pt x="1141" y="1922"/>
                </a:lnTo>
                <a:lnTo>
                  <a:pt x="1141" y="1911"/>
                </a:lnTo>
                <a:lnTo>
                  <a:pt x="1165" y="1892"/>
                </a:lnTo>
                <a:lnTo>
                  <a:pt x="1180" y="1877"/>
                </a:lnTo>
                <a:lnTo>
                  <a:pt x="1193" y="1858"/>
                </a:lnTo>
                <a:lnTo>
                  <a:pt x="1199" y="1830"/>
                </a:lnTo>
                <a:lnTo>
                  <a:pt x="1188" y="1823"/>
                </a:lnTo>
                <a:lnTo>
                  <a:pt x="1180" y="1821"/>
                </a:lnTo>
                <a:lnTo>
                  <a:pt x="1169" y="1819"/>
                </a:lnTo>
                <a:lnTo>
                  <a:pt x="1161" y="1817"/>
                </a:lnTo>
                <a:lnTo>
                  <a:pt x="1150" y="1817"/>
                </a:lnTo>
                <a:lnTo>
                  <a:pt x="1139" y="1819"/>
                </a:lnTo>
                <a:lnTo>
                  <a:pt x="1130" y="1819"/>
                </a:lnTo>
                <a:lnTo>
                  <a:pt x="1120" y="1819"/>
                </a:lnTo>
                <a:lnTo>
                  <a:pt x="1087" y="1808"/>
                </a:lnTo>
                <a:lnTo>
                  <a:pt x="1072" y="1797"/>
                </a:lnTo>
                <a:lnTo>
                  <a:pt x="1068" y="1786"/>
                </a:lnTo>
                <a:lnTo>
                  <a:pt x="1072" y="1774"/>
                </a:lnTo>
                <a:lnTo>
                  <a:pt x="1081" y="1763"/>
                </a:lnTo>
                <a:lnTo>
                  <a:pt x="1092" y="1750"/>
                </a:lnTo>
                <a:lnTo>
                  <a:pt x="1100" y="1733"/>
                </a:lnTo>
                <a:lnTo>
                  <a:pt x="1105" y="1715"/>
                </a:lnTo>
                <a:lnTo>
                  <a:pt x="1094" y="1707"/>
                </a:lnTo>
                <a:lnTo>
                  <a:pt x="1085" y="1700"/>
                </a:lnTo>
                <a:lnTo>
                  <a:pt x="1074" y="1694"/>
                </a:lnTo>
                <a:lnTo>
                  <a:pt x="1066" y="1690"/>
                </a:lnTo>
                <a:lnTo>
                  <a:pt x="1057" y="1685"/>
                </a:lnTo>
                <a:lnTo>
                  <a:pt x="1046" y="1681"/>
                </a:lnTo>
                <a:lnTo>
                  <a:pt x="1038" y="1677"/>
                </a:lnTo>
                <a:lnTo>
                  <a:pt x="1027" y="1672"/>
                </a:lnTo>
                <a:lnTo>
                  <a:pt x="1029" y="1668"/>
                </a:lnTo>
                <a:lnTo>
                  <a:pt x="1031" y="1664"/>
                </a:lnTo>
                <a:lnTo>
                  <a:pt x="1031" y="1660"/>
                </a:lnTo>
                <a:lnTo>
                  <a:pt x="1031" y="1655"/>
                </a:lnTo>
                <a:lnTo>
                  <a:pt x="1044" y="1653"/>
                </a:lnTo>
                <a:lnTo>
                  <a:pt x="1057" y="1653"/>
                </a:lnTo>
                <a:lnTo>
                  <a:pt x="1070" y="1651"/>
                </a:lnTo>
                <a:lnTo>
                  <a:pt x="1083" y="1651"/>
                </a:lnTo>
                <a:lnTo>
                  <a:pt x="1081" y="1601"/>
                </a:lnTo>
                <a:lnTo>
                  <a:pt x="1072" y="1573"/>
                </a:lnTo>
                <a:lnTo>
                  <a:pt x="1055" y="1563"/>
                </a:lnTo>
                <a:lnTo>
                  <a:pt x="1033" y="1563"/>
                </a:lnTo>
                <a:lnTo>
                  <a:pt x="1012" y="1567"/>
                </a:lnTo>
                <a:lnTo>
                  <a:pt x="988" y="1576"/>
                </a:lnTo>
                <a:lnTo>
                  <a:pt x="969" y="1578"/>
                </a:lnTo>
                <a:lnTo>
                  <a:pt x="952" y="1571"/>
                </a:lnTo>
                <a:lnTo>
                  <a:pt x="956" y="1558"/>
                </a:lnTo>
                <a:lnTo>
                  <a:pt x="958" y="1548"/>
                </a:lnTo>
                <a:lnTo>
                  <a:pt x="960" y="1541"/>
                </a:lnTo>
                <a:lnTo>
                  <a:pt x="965" y="1533"/>
                </a:lnTo>
                <a:lnTo>
                  <a:pt x="973" y="1533"/>
                </a:lnTo>
                <a:lnTo>
                  <a:pt x="982" y="1530"/>
                </a:lnTo>
                <a:lnTo>
                  <a:pt x="990" y="1526"/>
                </a:lnTo>
                <a:lnTo>
                  <a:pt x="1001" y="1520"/>
                </a:lnTo>
                <a:lnTo>
                  <a:pt x="984" y="1492"/>
                </a:lnTo>
                <a:lnTo>
                  <a:pt x="969" y="1472"/>
                </a:lnTo>
                <a:lnTo>
                  <a:pt x="954" y="1459"/>
                </a:lnTo>
                <a:lnTo>
                  <a:pt x="939" y="1453"/>
                </a:lnTo>
                <a:lnTo>
                  <a:pt x="924" y="1455"/>
                </a:lnTo>
                <a:lnTo>
                  <a:pt x="906" y="1464"/>
                </a:lnTo>
                <a:lnTo>
                  <a:pt x="887" y="1479"/>
                </a:lnTo>
                <a:lnTo>
                  <a:pt x="865" y="1498"/>
                </a:lnTo>
                <a:lnTo>
                  <a:pt x="848" y="1535"/>
                </a:lnTo>
                <a:lnTo>
                  <a:pt x="840" y="1554"/>
                </a:lnTo>
                <a:lnTo>
                  <a:pt x="835" y="1561"/>
                </a:lnTo>
                <a:lnTo>
                  <a:pt x="831" y="1565"/>
                </a:lnTo>
                <a:lnTo>
                  <a:pt x="801" y="1554"/>
                </a:lnTo>
                <a:lnTo>
                  <a:pt x="777" y="1545"/>
                </a:lnTo>
                <a:lnTo>
                  <a:pt x="760" y="1541"/>
                </a:lnTo>
                <a:lnTo>
                  <a:pt x="745" y="1541"/>
                </a:lnTo>
                <a:lnTo>
                  <a:pt x="730" y="1545"/>
                </a:lnTo>
                <a:lnTo>
                  <a:pt x="717" y="1558"/>
                </a:lnTo>
                <a:lnTo>
                  <a:pt x="702" y="1578"/>
                </a:lnTo>
                <a:lnTo>
                  <a:pt x="685" y="1606"/>
                </a:lnTo>
                <a:lnTo>
                  <a:pt x="670" y="1621"/>
                </a:lnTo>
                <a:lnTo>
                  <a:pt x="665" y="1632"/>
                </a:lnTo>
                <a:lnTo>
                  <a:pt x="674" y="1651"/>
                </a:lnTo>
                <a:lnTo>
                  <a:pt x="689" y="1679"/>
                </a:lnTo>
                <a:lnTo>
                  <a:pt x="695" y="1677"/>
                </a:lnTo>
                <a:lnTo>
                  <a:pt x="704" y="1677"/>
                </a:lnTo>
                <a:lnTo>
                  <a:pt x="713" y="1675"/>
                </a:lnTo>
                <a:lnTo>
                  <a:pt x="723" y="1672"/>
                </a:lnTo>
                <a:lnTo>
                  <a:pt x="734" y="1670"/>
                </a:lnTo>
                <a:lnTo>
                  <a:pt x="745" y="1670"/>
                </a:lnTo>
                <a:lnTo>
                  <a:pt x="754" y="1672"/>
                </a:lnTo>
                <a:lnTo>
                  <a:pt x="762" y="1677"/>
                </a:lnTo>
                <a:lnTo>
                  <a:pt x="762" y="1681"/>
                </a:lnTo>
                <a:lnTo>
                  <a:pt x="762" y="1683"/>
                </a:lnTo>
                <a:lnTo>
                  <a:pt x="762" y="1687"/>
                </a:lnTo>
                <a:lnTo>
                  <a:pt x="762" y="1692"/>
                </a:lnTo>
                <a:lnTo>
                  <a:pt x="732" y="1703"/>
                </a:lnTo>
                <a:lnTo>
                  <a:pt x="710" y="1711"/>
                </a:lnTo>
                <a:lnTo>
                  <a:pt x="693" y="1718"/>
                </a:lnTo>
                <a:lnTo>
                  <a:pt x="682" y="1726"/>
                </a:lnTo>
                <a:lnTo>
                  <a:pt x="672" y="1739"/>
                </a:lnTo>
                <a:lnTo>
                  <a:pt x="665" y="1754"/>
                </a:lnTo>
                <a:lnTo>
                  <a:pt x="657" y="1776"/>
                </a:lnTo>
                <a:lnTo>
                  <a:pt x="648" y="1806"/>
                </a:lnTo>
                <a:lnTo>
                  <a:pt x="657" y="1817"/>
                </a:lnTo>
                <a:lnTo>
                  <a:pt x="665" y="1825"/>
                </a:lnTo>
                <a:lnTo>
                  <a:pt x="674" y="1836"/>
                </a:lnTo>
                <a:lnTo>
                  <a:pt x="682" y="1847"/>
                </a:lnTo>
                <a:lnTo>
                  <a:pt x="685" y="1847"/>
                </a:lnTo>
                <a:lnTo>
                  <a:pt x="689" y="1847"/>
                </a:lnTo>
                <a:lnTo>
                  <a:pt x="693" y="1847"/>
                </a:lnTo>
                <a:lnTo>
                  <a:pt x="698" y="1847"/>
                </a:lnTo>
                <a:lnTo>
                  <a:pt x="704" y="1838"/>
                </a:lnTo>
                <a:lnTo>
                  <a:pt x="710" y="1830"/>
                </a:lnTo>
                <a:lnTo>
                  <a:pt x="719" y="1823"/>
                </a:lnTo>
                <a:lnTo>
                  <a:pt x="726" y="1814"/>
                </a:lnTo>
                <a:lnTo>
                  <a:pt x="728" y="1814"/>
                </a:lnTo>
                <a:lnTo>
                  <a:pt x="732" y="1814"/>
                </a:lnTo>
                <a:lnTo>
                  <a:pt x="736" y="1814"/>
                </a:lnTo>
                <a:lnTo>
                  <a:pt x="741" y="1814"/>
                </a:lnTo>
                <a:lnTo>
                  <a:pt x="745" y="1819"/>
                </a:lnTo>
                <a:lnTo>
                  <a:pt x="751" y="1823"/>
                </a:lnTo>
                <a:lnTo>
                  <a:pt x="754" y="1827"/>
                </a:lnTo>
                <a:lnTo>
                  <a:pt x="756" y="1838"/>
                </a:lnTo>
                <a:lnTo>
                  <a:pt x="747" y="1845"/>
                </a:lnTo>
                <a:lnTo>
                  <a:pt x="738" y="1851"/>
                </a:lnTo>
                <a:lnTo>
                  <a:pt x="730" y="1858"/>
                </a:lnTo>
                <a:lnTo>
                  <a:pt x="721" y="1866"/>
                </a:lnTo>
                <a:lnTo>
                  <a:pt x="713" y="1873"/>
                </a:lnTo>
                <a:lnTo>
                  <a:pt x="704" y="1879"/>
                </a:lnTo>
                <a:lnTo>
                  <a:pt x="693" y="1888"/>
                </a:lnTo>
                <a:lnTo>
                  <a:pt x="685" y="1894"/>
                </a:lnTo>
                <a:lnTo>
                  <a:pt x="685" y="1924"/>
                </a:lnTo>
                <a:lnTo>
                  <a:pt x="691" y="1946"/>
                </a:lnTo>
                <a:lnTo>
                  <a:pt x="704" y="1969"/>
                </a:lnTo>
                <a:lnTo>
                  <a:pt x="726" y="1997"/>
                </a:lnTo>
                <a:lnTo>
                  <a:pt x="736" y="1997"/>
                </a:lnTo>
                <a:lnTo>
                  <a:pt x="749" y="1997"/>
                </a:lnTo>
                <a:lnTo>
                  <a:pt x="760" y="1997"/>
                </a:lnTo>
                <a:lnTo>
                  <a:pt x="771" y="1997"/>
                </a:lnTo>
                <a:lnTo>
                  <a:pt x="773" y="1995"/>
                </a:lnTo>
                <a:lnTo>
                  <a:pt x="775" y="1993"/>
                </a:lnTo>
                <a:lnTo>
                  <a:pt x="777" y="1993"/>
                </a:lnTo>
                <a:lnTo>
                  <a:pt x="777" y="1991"/>
                </a:lnTo>
                <a:lnTo>
                  <a:pt x="766" y="1963"/>
                </a:lnTo>
                <a:lnTo>
                  <a:pt x="762" y="1941"/>
                </a:lnTo>
                <a:lnTo>
                  <a:pt x="769" y="1931"/>
                </a:lnTo>
                <a:lnTo>
                  <a:pt x="799" y="1929"/>
                </a:lnTo>
                <a:lnTo>
                  <a:pt x="801" y="1941"/>
                </a:lnTo>
                <a:lnTo>
                  <a:pt x="805" y="1952"/>
                </a:lnTo>
                <a:lnTo>
                  <a:pt x="812" y="1965"/>
                </a:lnTo>
                <a:lnTo>
                  <a:pt x="820" y="1978"/>
                </a:lnTo>
                <a:lnTo>
                  <a:pt x="831" y="1982"/>
                </a:lnTo>
                <a:lnTo>
                  <a:pt x="840" y="1989"/>
                </a:lnTo>
                <a:lnTo>
                  <a:pt x="846" y="1995"/>
                </a:lnTo>
                <a:lnTo>
                  <a:pt x="855" y="2002"/>
                </a:lnTo>
                <a:lnTo>
                  <a:pt x="861" y="2010"/>
                </a:lnTo>
                <a:lnTo>
                  <a:pt x="872" y="2017"/>
                </a:lnTo>
                <a:lnTo>
                  <a:pt x="885" y="2023"/>
                </a:lnTo>
                <a:lnTo>
                  <a:pt x="902" y="2030"/>
                </a:lnTo>
                <a:lnTo>
                  <a:pt x="915" y="2058"/>
                </a:lnTo>
                <a:lnTo>
                  <a:pt x="921" y="2073"/>
                </a:lnTo>
                <a:lnTo>
                  <a:pt x="924" y="2081"/>
                </a:lnTo>
                <a:lnTo>
                  <a:pt x="924" y="2090"/>
                </a:lnTo>
                <a:lnTo>
                  <a:pt x="921" y="2092"/>
                </a:lnTo>
                <a:lnTo>
                  <a:pt x="917" y="2094"/>
                </a:lnTo>
                <a:lnTo>
                  <a:pt x="913" y="2096"/>
                </a:lnTo>
                <a:lnTo>
                  <a:pt x="904" y="2096"/>
                </a:lnTo>
                <a:lnTo>
                  <a:pt x="891" y="2099"/>
                </a:lnTo>
                <a:lnTo>
                  <a:pt x="876" y="2101"/>
                </a:lnTo>
                <a:lnTo>
                  <a:pt x="853" y="2105"/>
                </a:lnTo>
                <a:lnTo>
                  <a:pt x="820" y="2109"/>
                </a:lnTo>
                <a:lnTo>
                  <a:pt x="786" y="2124"/>
                </a:lnTo>
                <a:lnTo>
                  <a:pt x="758" y="2139"/>
                </a:lnTo>
                <a:lnTo>
                  <a:pt x="732" y="2157"/>
                </a:lnTo>
                <a:lnTo>
                  <a:pt x="710" y="2176"/>
                </a:lnTo>
                <a:lnTo>
                  <a:pt x="693" y="2200"/>
                </a:lnTo>
                <a:lnTo>
                  <a:pt x="680" y="2228"/>
                </a:lnTo>
                <a:lnTo>
                  <a:pt x="672" y="2258"/>
                </a:lnTo>
                <a:lnTo>
                  <a:pt x="670" y="2294"/>
                </a:lnTo>
                <a:lnTo>
                  <a:pt x="665" y="2297"/>
                </a:lnTo>
                <a:lnTo>
                  <a:pt x="663" y="2299"/>
                </a:lnTo>
                <a:lnTo>
                  <a:pt x="659" y="2299"/>
                </a:lnTo>
                <a:lnTo>
                  <a:pt x="654" y="2297"/>
                </a:lnTo>
                <a:lnTo>
                  <a:pt x="654" y="2294"/>
                </a:lnTo>
                <a:lnTo>
                  <a:pt x="652" y="2292"/>
                </a:lnTo>
                <a:lnTo>
                  <a:pt x="631" y="2292"/>
                </a:lnTo>
                <a:lnTo>
                  <a:pt x="611" y="2292"/>
                </a:lnTo>
                <a:lnTo>
                  <a:pt x="592" y="2292"/>
                </a:lnTo>
                <a:lnTo>
                  <a:pt x="577" y="2292"/>
                </a:lnTo>
                <a:lnTo>
                  <a:pt x="560" y="2292"/>
                </a:lnTo>
                <a:lnTo>
                  <a:pt x="540" y="2292"/>
                </a:lnTo>
                <a:lnTo>
                  <a:pt x="521" y="2292"/>
                </a:lnTo>
                <a:lnTo>
                  <a:pt x="502" y="2292"/>
                </a:lnTo>
                <a:lnTo>
                  <a:pt x="478" y="2294"/>
                </a:lnTo>
                <a:lnTo>
                  <a:pt x="450" y="2294"/>
                </a:lnTo>
                <a:lnTo>
                  <a:pt x="420" y="2294"/>
                </a:lnTo>
                <a:lnTo>
                  <a:pt x="383" y="2297"/>
                </a:lnTo>
                <a:lnTo>
                  <a:pt x="342" y="2297"/>
                </a:lnTo>
                <a:lnTo>
                  <a:pt x="295" y="2299"/>
                </a:lnTo>
                <a:lnTo>
                  <a:pt x="241" y="2299"/>
                </a:lnTo>
                <a:lnTo>
                  <a:pt x="179" y="23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1"/>
          <p:cNvSpPr/>
          <p:nvPr/>
        </p:nvSpPr>
        <p:spPr>
          <a:xfrm>
            <a:off x="4573440" y="3963960"/>
            <a:ext cx="133560" cy="174600"/>
          </a:xfrm>
          <a:custGeom>
            <a:avLst/>
            <a:gdLst>
              <a:gd name="textAreaLeft" fmla="*/ 0 w 133560"/>
              <a:gd name="textAreaRight" fmla="*/ 133920 w 1335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84" h="110">
                <a:moveTo>
                  <a:pt x="37" y="110"/>
                </a:moveTo>
                <a:lnTo>
                  <a:pt x="9" y="89"/>
                </a:lnTo>
                <a:lnTo>
                  <a:pt x="0" y="61"/>
                </a:lnTo>
                <a:lnTo>
                  <a:pt x="7" y="31"/>
                </a:lnTo>
                <a:lnTo>
                  <a:pt x="22" y="3"/>
                </a:lnTo>
                <a:lnTo>
                  <a:pt x="35" y="0"/>
                </a:lnTo>
                <a:lnTo>
                  <a:pt x="43" y="3"/>
                </a:lnTo>
                <a:lnTo>
                  <a:pt x="54" y="5"/>
                </a:lnTo>
                <a:lnTo>
                  <a:pt x="71" y="9"/>
                </a:lnTo>
                <a:lnTo>
                  <a:pt x="78" y="22"/>
                </a:lnTo>
                <a:lnTo>
                  <a:pt x="82" y="37"/>
                </a:lnTo>
                <a:lnTo>
                  <a:pt x="84" y="54"/>
                </a:lnTo>
                <a:lnTo>
                  <a:pt x="84" y="69"/>
                </a:lnTo>
                <a:lnTo>
                  <a:pt x="82" y="87"/>
                </a:lnTo>
                <a:lnTo>
                  <a:pt x="74" y="97"/>
                </a:lnTo>
                <a:lnTo>
                  <a:pt x="59" y="108"/>
                </a:lnTo>
                <a:lnTo>
                  <a:pt x="37" y="1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2"/>
          <p:cNvSpPr/>
          <p:nvPr/>
        </p:nvSpPr>
        <p:spPr>
          <a:xfrm>
            <a:off x="4608360" y="4008600"/>
            <a:ext cx="68400" cy="88560"/>
          </a:xfrm>
          <a:custGeom>
            <a:avLst/>
            <a:gdLst>
              <a:gd name="textAreaLeft" fmla="*/ 0 w 68400"/>
              <a:gd name="textAreaRight" fmla="*/ 68760 w 68400"/>
              <a:gd name="textAreaTop" fmla="*/ 0 h 88560"/>
              <a:gd name="textAreaBottom" fmla="*/ 88920 h 88560"/>
            </a:gdLst>
            <a:ahLst/>
            <a:rect l="textAreaLeft" t="textAreaTop" r="textAreaRight" b="textAreaBottom"/>
            <a:pathLst>
              <a:path w="43" h="56">
                <a:moveTo>
                  <a:pt x="13" y="56"/>
                </a:moveTo>
                <a:lnTo>
                  <a:pt x="0" y="39"/>
                </a:lnTo>
                <a:lnTo>
                  <a:pt x="0" y="22"/>
                </a:lnTo>
                <a:lnTo>
                  <a:pt x="6" y="9"/>
                </a:lnTo>
                <a:lnTo>
                  <a:pt x="17" y="3"/>
                </a:lnTo>
                <a:lnTo>
                  <a:pt x="28" y="0"/>
                </a:lnTo>
                <a:lnTo>
                  <a:pt x="39" y="7"/>
                </a:lnTo>
                <a:lnTo>
                  <a:pt x="43" y="22"/>
                </a:lnTo>
                <a:lnTo>
                  <a:pt x="39" y="48"/>
                </a:lnTo>
                <a:lnTo>
                  <a:pt x="34" y="52"/>
                </a:lnTo>
                <a:lnTo>
                  <a:pt x="30" y="54"/>
                </a:lnTo>
                <a:lnTo>
                  <a:pt x="24" y="56"/>
                </a:lnTo>
                <a:lnTo>
                  <a:pt x="13" y="56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3"/>
          <p:cNvSpPr/>
          <p:nvPr/>
        </p:nvSpPr>
        <p:spPr>
          <a:xfrm>
            <a:off x="5234040" y="3770280"/>
            <a:ext cx="115920" cy="249120"/>
          </a:xfrm>
          <a:custGeom>
            <a:avLst/>
            <a:gdLst>
              <a:gd name="textAreaLeft" fmla="*/ 0 w 115920"/>
              <a:gd name="textAreaRight" fmla="*/ 116280 w 115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73" h="157">
                <a:moveTo>
                  <a:pt x="0" y="157"/>
                </a:moveTo>
                <a:lnTo>
                  <a:pt x="0" y="122"/>
                </a:lnTo>
                <a:lnTo>
                  <a:pt x="2" y="90"/>
                </a:lnTo>
                <a:lnTo>
                  <a:pt x="4" y="56"/>
                </a:lnTo>
                <a:lnTo>
                  <a:pt x="4" y="23"/>
                </a:lnTo>
                <a:lnTo>
                  <a:pt x="13" y="21"/>
                </a:lnTo>
                <a:lnTo>
                  <a:pt x="22" y="17"/>
                </a:lnTo>
                <a:lnTo>
                  <a:pt x="30" y="15"/>
                </a:lnTo>
                <a:lnTo>
                  <a:pt x="39" y="11"/>
                </a:lnTo>
                <a:lnTo>
                  <a:pt x="47" y="8"/>
                </a:lnTo>
                <a:lnTo>
                  <a:pt x="56" y="4"/>
                </a:lnTo>
                <a:lnTo>
                  <a:pt x="65" y="2"/>
                </a:lnTo>
                <a:lnTo>
                  <a:pt x="73" y="0"/>
                </a:lnTo>
                <a:lnTo>
                  <a:pt x="71" y="15"/>
                </a:lnTo>
                <a:lnTo>
                  <a:pt x="67" y="36"/>
                </a:lnTo>
                <a:lnTo>
                  <a:pt x="58" y="60"/>
                </a:lnTo>
                <a:lnTo>
                  <a:pt x="50" y="86"/>
                </a:lnTo>
                <a:lnTo>
                  <a:pt x="39" y="112"/>
                </a:lnTo>
                <a:lnTo>
                  <a:pt x="26" y="133"/>
                </a:lnTo>
                <a:lnTo>
                  <a:pt x="13" y="148"/>
                </a:lnTo>
                <a:lnTo>
                  <a:pt x="0" y="157"/>
                </a:lnTo>
                <a:close/>
              </a:path>
            </a:pathLst>
          </a:custGeom>
          <a:solidFill>
            <a:srgbClr val="e8b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4"/>
          <p:cNvSpPr/>
          <p:nvPr/>
        </p:nvSpPr>
        <p:spPr>
          <a:xfrm>
            <a:off x="1801800" y="3301920"/>
            <a:ext cx="385920" cy="652680"/>
          </a:xfrm>
          <a:custGeom>
            <a:avLst/>
            <a:gdLst>
              <a:gd name="textAreaLeft" fmla="*/ 0 w 385920"/>
              <a:gd name="textAreaRight" fmla="*/ 386280 w 385920"/>
              <a:gd name="textAreaTop" fmla="*/ 0 h 652680"/>
              <a:gd name="textAreaBottom" fmla="*/ 652680 h 652680"/>
            </a:gdLst>
            <a:ahLst/>
            <a:rect l="textAreaLeft" t="textAreaTop" r="textAreaRight" b="textAreaBottom"/>
            <a:pathLst>
              <a:path w="243" h="411">
                <a:moveTo>
                  <a:pt x="112" y="411"/>
                </a:moveTo>
                <a:lnTo>
                  <a:pt x="84" y="402"/>
                </a:lnTo>
                <a:lnTo>
                  <a:pt x="62" y="394"/>
                </a:lnTo>
                <a:lnTo>
                  <a:pt x="47" y="385"/>
                </a:lnTo>
                <a:lnTo>
                  <a:pt x="39" y="372"/>
                </a:lnTo>
                <a:lnTo>
                  <a:pt x="32" y="357"/>
                </a:lnTo>
                <a:lnTo>
                  <a:pt x="28" y="340"/>
                </a:lnTo>
                <a:lnTo>
                  <a:pt x="24" y="318"/>
                </a:lnTo>
                <a:lnTo>
                  <a:pt x="17" y="291"/>
                </a:lnTo>
                <a:lnTo>
                  <a:pt x="4" y="258"/>
                </a:lnTo>
                <a:lnTo>
                  <a:pt x="0" y="230"/>
                </a:lnTo>
                <a:lnTo>
                  <a:pt x="2" y="202"/>
                </a:lnTo>
                <a:lnTo>
                  <a:pt x="2" y="170"/>
                </a:lnTo>
                <a:lnTo>
                  <a:pt x="30" y="159"/>
                </a:lnTo>
                <a:lnTo>
                  <a:pt x="43" y="140"/>
                </a:lnTo>
                <a:lnTo>
                  <a:pt x="45" y="114"/>
                </a:lnTo>
                <a:lnTo>
                  <a:pt x="45" y="84"/>
                </a:lnTo>
                <a:lnTo>
                  <a:pt x="45" y="56"/>
                </a:lnTo>
                <a:lnTo>
                  <a:pt x="49" y="30"/>
                </a:lnTo>
                <a:lnTo>
                  <a:pt x="67" y="11"/>
                </a:lnTo>
                <a:lnTo>
                  <a:pt x="99" y="0"/>
                </a:lnTo>
                <a:lnTo>
                  <a:pt x="112" y="26"/>
                </a:lnTo>
                <a:lnTo>
                  <a:pt x="123" y="43"/>
                </a:lnTo>
                <a:lnTo>
                  <a:pt x="136" y="56"/>
                </a:lnTo>
                <a:lnTo>
                  <a:pt x="151" y="65"/>
                </a:lnTo>
                <a:lnTo>
                  <a:pt x="168" y="69"/>
                </a:lnTo>
                <a:lnTo>
                  <a:pt x="187" y="71"/>
                </a:lnTo>
                <a:lnTo>
                  <a:pt x="213" y="71"/>
                </a:lnTo>
                <a:lnTo>
                  <a:pt x="243" y="73"/>
                </a:lnTo>
                <a:lnTo>
                  <a:pt x="237" y="95"/>
                </a:lnTo>
                <a:lnTo>
                  <a:pt x="224" y="110"/>
                </a:lnTo>
                <a:lnTo>
                  <a:pt x="207" y="123"/>
                </a:lnTo>
                <a:lnTo>
                  <a:pt x="185" y="136"/>
                </a:lnTo>
                <a:lnTo>
                  <a:pt x="192" y="179"/>
                </a:lnTo>
                <a:lnTo>
                  <a:pt x="202" y="224"/>
                </a:lnTo>
                <a:lnTo>
                  <a:pt x="213" y="267"/>
                </a:lnTo>
                <a:lnTo>
                  <a:pt x="220" y="308"/>
                </a:lnTo>
                <a:lnTo>
                  <a:pt x="217" y="346"/>
                </a:lnTo>
                <a:lnTo>
                  <a:pt x="202" y="377"/>
                </a:lnTo>
                <a:lnTo>
                  <a:pt x="168" y="398"/>
                </a:lnTo>
                <a:lnTo>
                  <a:pt x="112" y="411"/>
                </a:lnTo>
                <a:close/>
              </a:path>
            </a:pathLst>
          </a:cu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5"/>
          <p:cNvSpPr/>
          <p:nvPr/>
        </p:nvSpPr>
        <p:spPr>
          <a:xfrm>
            <a:off x="1935000" y="3657600"/>
            <a:ext cx="166680" cy="181080"/>
          </a:xfrm>
          <a:custGeom>
            <a:avLst/>
            <a:gdLst>
              <a:gd name="textAreaLeft" fmla="*/ 0 w 166680"/>
              <a:gd name="textAreaRight" fmla="*/ 167040 w 16668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05" h="114">
                <a:moveTo>
                  <a:pt x="62" y="114"/>
                </a:moveTo>
                <a:lnTo>
                  <a:pt x="37" y="86"/>
                </a:lnTo>
                <a:lnTo>
                  <a:pt x="19" y="62"/>
                </a:lnTo>
                <a:lnTo>
                  <a:pt x="9" y="39"/>
                </a:lnTo>
                <a:lnTo>
                  <a:pt x="0" y="13"/>
                </a:lnTo>
                <a:lnTo>
                  <a:pt x="4" y="11"/>
                </a:lnTo>
                <a:lnTo>
                  <a:pt x="6" y="8"/>
                </a:lnTo>
                <a:lnTo>
                  <a:pt x="11" y="8"/>
                </a:lnTo>
                <a:lnTo>
                  <a:pt x="15" y="8"/>
                </a:lnTo>
                <a:lnTo>
                  <a:pt x="24" y="26"/>
                </a:lnTo>
                <a:lnTo>
                  <a:pt x="37" y="49"/>
                </a:lnTo>
                <a:lnTo>
                  <a:pt x="54" y="73"/>
                </a:lnTo>
                <a:lnTo>
                  <a:pt x="77" y="86"/>
                </a:lnTo>
                <a:lnTo>
                  <a:pt x="80" y="64"/>
                </a:lnTo>
                <a:lnTo>
                  <a:pt x="80" y="41"/>
                </a:lnTo>
                <a:lnTo>
                  <a:pt x="75" y="17"/>
                </a:lnTo>
                <a:lnTo>
                  <a:pt x="73" y="2"/>
                </a:lnTo>
                <a:lnTo>
                  <a:pt x="77" y="2"/>
                </a:lnTo>
                <a:lnTo>
                  <a:pt x="80" y="0"/>
                </a:lnTo>
                <a:lnTo>
                  <a:pt x="84" y="0"/>
                </a:lnTo>
                <a:lnTo>
                  <a:pt x="86" y="0"/>
                </a:lnTo>
                <a:lnTo>
                  <a:pt x="101" y="28"/>
                </a:lnTo>
                <a:lnTo>
                  <a:pt x="105" y="64"/>
                </a:lnTo>
                <a:lnTo>
                  <a:pt x="93" y="97"/>
                </a:lnTo>
                <a:lnTo>
                  <a:pt x="62" y="1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26"/>
          <p:cNvSpPr/>
          <p:nvPr/>
        </p:nvSpPr>
        <p:spPr>
          <a:xfrm>
            <a:off x="2533680" y="2990880"/>
            <a:ext cx="601560" cy="785880"/>
          </a:xfrm>
          <a:custGeom>
            <a:avLst/>
            <a:gdLst>
              <a:gd name="textAreaLeft" fmla="*/ 0 w 601560"/>
              <a:gd name="textAreaRight" fmla="*/ 601920 w 6015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379" h="495">
                <a:moveTo>
                  <a:pt x="39" y="493"/>
                </a:moveTo>
                <a:lnTo>
                  <a:pt x="26" y="476"/>
                </a:lnTo>
                <a:lnTo>
                  <a:pt x="13" y="459"/>
                </a:lnTo>
                <a:lnTo>
                  <a:pt x="4" y="443"/>
                </a:lnTo>
                <a:lnTo>
                  <a:pt x="0" y="431"/>
                </a:lnTo>
                <a:lnTo>
                  <a:pt x="26" y="400"/>
                </a:lnTo>
                <a:lnTo>
                  <a:pt x="54" y="368"/>
                </a:lnTo>
                <a:lnTo>
                  <a:pt x="79" y="336"/>
                </a:lnTo>
                <a:lnTo>
                  <a:pt x="105" y="304"/>
                </a:lnTo>
                <a:lnTo>
                  <a:pt x="131" y="271"/>
                </a:lnTo>
                <a:lnTo>
                  <a:pt x="157" y="237"/>
                </a:lnTo>
                <a:lnTo>
                  <a:pt x="181" y="205"/>
                </a:lnTo>
                <a:lnTo>
                  <a:pt x="202" y="170"/>
                </a:lnTo>
                <a:lnTo>
                  <a:pt x="202" y="131"/>
                </a:lnTo>
                <a:lnTo>
                  <a:pt x="204" y="103"/>
                </a:lnTo>
                <a:lnTo>
                  <a:pt x="209" y="84"/>
                </a:lnTo>
                <a:lnTo>
                  <a:pt x="217" y="67"/>
                </a:lnTo>
                <a:lnTo>
                  <a:pt x="230" y="54"/>
                </a:lnTo>
                <a:lnTo>
                  <a:pt x="247" y="41"/>
                </a:lnTo>
                <a:lnTo>
                  <a:pt x="271" y="24"/>
                </a:lnTo>
                <a:lnTo>
                  <a:pt x="301" y="2"/>
                </a:lnTo>
                <a:lnTo>
                  <a:pt x="308" y="2"/>
                </a:lnTo>
                <a:lnTo>
                  <a:pt x="314" y="0"/>
                </a:lnTo>
                <a:lnTo>
                  <a:pt x="321" y="0"/>
                </a:lnTo>
                <a:lnTo>
                  <a:pt x="327" y="0"/>
                </a:lnTo>
                <a:lnTo>
                  <a:pt x="329" y="11"/>
                </a:lnTo>
                <a:lnTo>
                  <a:pt x="331" y="22"/>
                </a:lnTo>
                <a:lnTo>
                  <a:pt x="331" y="35"/>
                </a:lnTo>
                <a:lnTo>
                  <a:pt x="331" y="45"/>
                </a:lnTo>
                <a:lnTo>
                  <a:pt x="364" y="88"/>
                </a:lnTo>
                <a:lnTo>
                  <a:pt x="379" y="127"/>
                </a:lnTo>
                <a:lnTo>
                  <a:pt x="372" y="170"/>
                </a:lnTo>
                <a:lnTo>
                  <a:pt x="353" y="230"/>
                </a:lnTo>
                <a:lnTo>
                  <a:pt x="338" y="230"/>
                </a:lnTo>
                <a:lnTo>
                  <a:pt x="323" y="228"/>
                </a:lnTo>
                <a:lnTo>
                  <a:pt x="308" y="228"/>
                </a:lnTo>
                <a:lnTo>
                  <a:pt x="295" y="228"/>
                </a:lnTo>
                <a:lnTo>
                  <a:pt x="262" y="256"/>
                </a:lnTo>
                <a:lnTo>
                  <a:pt x="232" y="286"/>
                </a:lnTo>
                <a:lnTo>
                  <a:pt x="200" y="321"/>
                </a:lnTo>
                <a:lnTo>
                  <a:pt x="170" y="355"/>
                </a:lnTo>
                <a:lnTo>
                  <a:pt x="140" y="392"/>
                </a:lnTo>
                <a:lnTo>
                  <a:pt x="110" y="428"/>
                </a:lnTo>
                <a:lnTo>
                  <a:pt x="82" y="463"/>
                </a:lnTo>
                <a:lnTo>
                  <a:pt x="51" y="495"/>
                </a:lnTo>
                <a:lnTo>
                  <a:pt x="49" y="495"/>
                </a:lnTo>
                <a:lnTo>
                  <a:pt x="45" y="493"/>
                </a:lnTo>
                <a:lnTo>
                  <a:pt x="43" y="493"/>
                </a:lnTo>
                <a:lnTo>
                  <a:pt x="39" y="493"/>
                </a:lnTo>
                <a:close/>
              </a:path>
            </a:pathLst>
          </a:cu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7"/>
          <p:cNvSpPr/>
          <p:nvPr/>
        </p:nvSpPr>
        <p:spPr>
          <a:xfrm>
            <a:off x="4584600" y="3575160"/>
            <a:ext cx="136800" cy="201600"/>
          </a:xfrm>
          <a:custGeom>
            <a:avLst/>
            <a:gdLst>
              <a:gd name="textAreaLeft" fmla="*/ 0 w 136800"/>
              <a:gd name="textAreaRight" fmla="*/ 137160 w 13680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86" h="127">
                <a:moveTo>
                  <a:pt x="24" y="127"/>
                </a:moveTo>
                <a:lnTo>
                  <a:pt x="8" y="106"/>
                </a:lnTo>
                <a:lnTo>
                  <a:pt x="0" y="82"/>
                </a:lnTo>
                <a:lnTo>
                  <a:pt x="0" y="54"/>
                </a:lnTo>
                <a:lnTo>
                  <a:pt x="8" y="30"/>
                </a:lnTo>
                <a:lnTo>
                  <a:pt x="21" y="11"/>
                </a:lnTo>
                <a:lnTo>
                  <a:pt x="39" y="0"/>
                </a:lnTo>
                <a:lnTo>
                  <a:pt x="60" y="2"/>
                </a:lnTo>
                <a:lnTo>
                  <a:pt x="86" y="20"/>
                </a:lnTo>
                <a:lnTo>
                  <a:pt x="86" y="37"/>
                </a:lnTo>
                <a:lnTo>
                  <a:pt x="86" y="54"/>
                </a:lnTo>
                <a:lnTo>
                  <a:pt x="82" y="71"/>
                </a:lnTo>
                <a:lnTo>
                  <a:pt x="77" y="86"/>
                </a:lnTo>
                <a:lnTo>
                  <a:pt x="69" y="101"/>
                </a:lnTo>
                <a:lnTo>
                  <a:pt x="58" y="112"/>
                </a:lnTo>
                <a:lnTo>
                  <a:pt x="43" y="123"/>
                </a:lnTo>
                <a:lnTo>
                  <a:pt x="24" y="1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8"/>
          <p:cNvSpPr/>
          <p:nvPr/>
        </p:nvSpPr>
        <p:spPr>
          <a:xfrm>
            <a:off x="4622760" y="3613320"/>
            <a:ext cx="68400" cy="125280"/>
          </a:xfrm>
          <a:custGeom>
            <a:avLst/>
            <a:gdLst>
              <a:gd name="textAreaLeft" fmla="*/ 0 w 68400"/>
              <a:gd name="textAreaRight" fmla="*/ 68760 w 6840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43" h="79">
                <a:moveTo>
                  <a:pt x="6" y="79"/>
                </a:moveTo>
                <a:lnTo>
                  <a:pt x="0" y="51"/>
                </a:lnTo>
                <a:lnTo>
                  <a:pt x="2" y="34"/>
                </a:lnTo>
                <a:lnTo>
                  <a:pt x="12" y="19"/>
                </a:lnTo>
                <a:lnTo>
                  <a:pt x="28" y="0"/>
                </a:lnTo>
                <a:lnTo>
                  <a:pt x="32" y="0"/>
                </a:lnTo>
                <a:lnTo>
                  <a:pt x="36" y="0"/>
                </a:lnTo>
                <a:lnTo>
                  <a:pt x="38" y="2"/>
                </a:lnTo>
                <a:lnTo>
                  <a:pt x="43" y="2"/>
                </a:lnTo>
                <a:lnTo>
                  <a:pt x="40" y="23"/>
                </a:lnTo>
                <a:lnTo>
                  <a:pt x="38" y="41"/>
                </a:lnTo>
                <a:lnTo>
                  <a:pt x="32" y="58"/>
                </a:lnTo>
                <a:lnTo>
                  <a:pt x="21" y="77"/>
                </a:lnTo>
                <a:lnTo>
                  <a:pt x="17" y="77"/>
                </a:lnTo>
                <a:lnTo>
                  <a:pt x="15" y="77"/>
                </a:lnTo>
                <a:lnTo>
                  <a:pt x="10" y="77"/>
                </a:lnTo>
                <a:lnTo>
                  <a:pt x="6" y="79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29"/>
          <p:cNvSpPr/>
          <p:nvPr/>
        </p:nvSpPr>
        <p:spPr>
          <a:xfrm>
            <a:off x="1395360" y="2836800"/>
            <a:ext cx="631800" cy="844560"/>
          </a:xfrm>
          <a:custGeom>
            <a:avLst/>
            <a:gdLst>
              <a:gd name="textAreaLeft" fmla="*/ 0 w 631800"/>
              <a:gd name="textAreaRight" fmla="*/ 632160 w 63180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398" h="532">
                <a:moveTo>
                  <a:pt x="209" y="532"/>
                </a:moveTo>
                <a:lnTo>
                  <a:pt x="204" y="525"/>
                </a:lnTo>
                <a:lnTo>
                  <a:pt x="200" y="515"/>
                </a:lnTo>
                <a:lnTo>
                  <a:pt x="193" y="504"/>
                </a:lnTo>
                <a:lnTo>
                  <a:pt x="187" y="495"/>
                </a:lnTo>
                <a:lnTo>
                  <a:pt x="172" y="491"/>
                </a:lnTo>
                <a:lnTo>
                  <a:pt x="161" y="482"/>
                </a:lnTo>
                <a:lnTo>
                  <a:pt x="155" y="474"/>
                </a:lnTo>
                <a:lnTo>
                  <a:pt x="150" y="463"/>
                </a:lnTo>
                <a:lnTo>
                  <a:pt x="146" y="452"/>
                </a:lnTo>
                <a:lnTo>
                  <a:pt x="135" y="441"/>
                </a:lnTo>
                <a:lnTo>
                  <a:pt x="122" y="435"/>
                </a:lnTo>
                <a:lnTo>
                  <a:pt x="99" y="431"/>
                </a:lnTo>
                <a:lnTo>
                  <a:pt x="75" y="450"/>
                </a:lnTo>
                <a:lnTo>
                  <a:pt x="71" y="467"/>
                </a:lnTo>
                <a:lnTo>
                  <a:pt x="71" y="485"/>
                </a:lnTo>
                <a:lnTo>
                  <a:pt x="62" y="502"/>
                </a:lnTo>
                <a:lnTo>
                  <a:pt x="47" y="476"/>
                </a:lnTo>
                <a:lnTo>
                  <a:pt x="38" y="454"/>
                </a:lnTo>
                <a:lnTo>
                  <a:pt x="38" y="439"/>
                </a:lnTo>
                <a:lnTo>
                  <a:pt x="45" y="424"/>
                </a:lnTo>
                <a:lnTo>
                  <a:pt x="56" y="411"/>
                </a:lnTo>
                <a:lnTo>
                  <a:pt x="73" y="398"/>
                </a:lnTo>
                <a:lnTo>
                  <a:pt x="92" y="383"/>
                </a:lnTo>
                <a:lnTo>
                  <a:pt x="118" y="368"/>
                </a:lnTo>
                <a:lnTo>
                  <a:pt x="118" y="366"/>
                </a:lnTo>
                <a:lnTo>
                  <a:pt x="118" y="362"/>
                </a:lnTo>
                <a:lnTo>
                  <a:pt x="118" y="360"/>
                </a:lnTo>
                <a:lnTo>
                  <a:pt x="118" y="358"/>
                </a:lnTo>
                <a:lnTo>
                  <a:pt x="94" y="336"/>
                </a:lnTo>
                <a:lnTo>
                  <a:pt x="79" y="325"/>
                </a:lnTo>
                <a:lnTo>
                  <a:pt x="66" y="321"/>
                </a:lnTo>
                <a:lnTo>
                  <a:pt x="58" y="321"/>
                </a:lnTo>
                <a:lnTo>
                  <a:pt x="49" y="325"/>
                </a:lnTo>
                <a:lnTo>
                  <a:pt x="41" y="330"/>
                </a:lnTo>
                <a:lnTo>
                  <a:pt x="28" y="334"/>
                </a:lnTo>
                <a:lnTo>
                  <a:pt x="13" y="336"/>
                </a:lnTo>
                <a:lnTo>
                  <a:pt x="0" y="314"/>
                </a:lnTo>
                <a:lnTo>
                  <a:pt x="2" y="297"/>
                </a:lnTo>
                <a:lnTo>
                  <a:pt x="17" y="280"/>
                </a:lnTo>
                <a:lnTo>
                  <a:pt x="41" y="267"/>
                </a:lnTo>
                <a:lnTo>
                  <a:pt x="66" y="256"/>
                </a:lnTo>
                <a:lnTo>
                  <a:pt x="92" y="248"/>
                </a:lnTo>
                <a:lnTo>
                  <a:pt x="114" y="241"/>
                </a:lnTo>
                <a:lnTo>
                  <a:pt x="127" y="237"/>
                </a:lnTo>
                <a:lnTo>
                  <a:pt x="125" y="213"/>
                </a:lnTo>
                <a:lnTo>
                  <a:pt x="116" y="196"/>
                </a:lnTo>
                <a:lnTo>
                  <a:pt x="105" y="185"/>
                </a:lnTo>
                <a:lnTo>
                  <a:pt x="92" y="181"/>
                </a:lnTo>
                <a:lnTo>
                  <a:pt x="77" y="179"/>
                </a:lnTo>
                <a:lnTo>
                  <a:pt x="60" y="177"/>
                </a:lnTo>
                <a:lnTo>
                  <a:pt x="43" y="177"/>
                </a:lnTo>
                <a:lnTo>
                  <a:pt x="28" y="172"/>
                </a:lnTo>
                <a:lnTo>
                  <a:pt x="26" y="168"/>
                </a:lnTo>
                <a:lnTo>
                  <a:pt x="26" y="162"/>
                </a:lnTo>
                <a:lnTo>
                  <a:pt x="26" y="155"/>
                </a:lnTo>
                <a:lnTo>
                  <a:pt x="26" y="151"/>
                </a:lnTo>
                <a:lnTo>
                  <a:pt x="43" y="129"/>
                </a:lnTo>
                <a:lnTo>
                  <a:pt x="58" y="112"/>
                </a:lnTo>
                <a:lnTo>
                  <a:pt x="71" y="99"/>
                </a:lnTo>
                <a:lnTo>
                  <a:pt x="86" y="91"/>
                </a:lnTo>
                <a:lnTo>
                  <a:pt x="99" y="89"/>
                </a:lnTo>
                <a:lnTo>
                  <a:pt x="116" y="93"/>
                </a:lnTo>
                <a:lnTo>
                  <a:pt x="135" y="104"/>
                </a:lnTo>
                <a:lnTo>
                  <a:pt x="159" y="123"/>
                </a:lnTo>
                <a:lnTo>
                  <a:pt x="163" y="123"/>
                </a:lnTo>
                <a:lnTo>
                  <a:pt x="170" y="123"/>
                </a:lnTo>
                <a:lnTo>
                  <a:pt x="174" y="123"/>
                </a:lnTo>
                <a:lnTo>
                  <a:pt x="178" y="123"/>
                </a:lnTo>
                <a:lnTo>
                  <a:pt x="185" y="110"/>
                </a:lnTo>
                <a:lnTo>
                  <a:pt x="196" y="86"/>
                </a:lnTo>
                <a:lnTo>
                  <a:pt x="211" y="58"/>
                </a:lnTo>
                <a:lnTo>
                  <a:pt x="228" y="33"/>
                </a:lnTo>
                <a:lnTo>
                  <a:pt x="245" y="11"/>
                </a:lnTo>
                <a:lnTo>
                  <a:pt x="262" y="0"/>
                </a:lnTo>
                <a:lnTo>
                  <a:pt x="277" y="7"/>
                </a:lnTo>
                <a:lnTo>
                  <a:pt x="288" y="33"/>
                </a:lnTo>
                <a:lnTo>
                  <a:pt x="273" y="48"/>
                </a:lnTo>
                <a:lnTo>
                  <a:pt x="265" y="63"/>
                </a:lnTo>
                <a:lnTo>
                  <a:pt x="256" y="82"/>
                </a:lnTo>
                <a:lnTo>
                  <a:pt x="252" y="106"/>
                </a:lnTo>
                <a:lnTo>
                  <a:pt x="265" y="114"/>
                </a:lnTo>
                <a:lnTo>
                  <a:pt x="275" y="121"/>
                </a:lnTo>
                <a:lnTo>
                  <a:pt x="286" y="127"/>
                </a:lnTo>
                <a:lnTo>
                  <a:pt x="295" y="132"/>
                </a:lnTo>
                <a:lnTo>
                  <a:pt x="305" y="132"/>
                </a:lnTo>
                <a:lnTo>
                  <a:pt x="316" y="129"/>
                </a:lnTo>
                <a:lnTo>
                  <a:pt x="329" y="123"/>
                </a:lnTo>
                <a:lnTo>
                  <a:pt x="344" y="112"/>
                </a:lnTo>
                <a:lnTo>
                  <a:pt x="353" y="112"/>
                </a:lnTo>
                <a:lnTo>
                  <a:pt x="361" y="112"/>
                </a:lnTo>
                <a:lnTo>
                  <a:pt x="370" y="112"/>
                </a:lnTo>
                <a:lnTo>
                  <a:pt x="381" y="114"/>
                </a:lnTo>
                <a:lnTo>
                  <a:pt x="381" y="123"/>
                </a:lnTo>
                <a:lnTo>
                  <a:pt x="383" y="134"/>
                </a:lnTo>
                <a:lnTo>
                  <a:pt x="383" y="142"/>
                </a:lnTo>
                <a:lnTo>
                  <a:pt x="383" y="151"/>
                </a:lnTo>
                <a:lnTo>
                  <a:pt x="355" y="164"/>
                </a:lnTo>
                <a:lnTo>
                  <a:pt x="338" y="175"/>
                </a:lnTo>
                <a:lnTo>
                  <a:pt x="329" y="192"/>
                </a:lnTo>
                <a:lnTo>
                  <a:pt x="325" y="222"/>
                </a:lnTo>
                <a:lnTo>
                  <a:pt x="327" y="222"/>
                </a:lnTo>
                <a:lnTo>
                  <a:pt x="333" y="224"/>
                </a:lnTo>
                <a:lnTo>
                  <a:pt x="342" y="226"/>
                </a:lnTo>
                <a:lnTo>
                  <a:pt x="353" y="228"/>
                </a:lnTo>
                <a:lnTo>
                  <a:pt x="364" y="231"/>
                </a:lnTo>
                <a:lnTo>
                  <a:pt x="377" y="235"/>
                </a:lnTo>
                <a:lnTo>
                  <a:pt x="387" y="239"/>
                </a:lnTo>
                <a:lnTo>
                  <a:pt x="398" y="246"/>
                </a:lnTo>
                <a:lnTo>
                  <a:pt x="398" y="254"/>
                </a:lnTo>
                <a:lnTo>
                  <a:pt x="398" y="261"/>
                </a:lnTo>
                <a:lnTo>
                  <a:pt x="396" y="265"/>
                </a:lnTo>
                <a:lnTo>
                  <a:pt x="392" y="271"/>
                </a:lnTo>
                <a:lnTo>
                  <a:pt x="349" y="274"/>
                </a:lnTo>
                <a:lnTo>
                  <a:pt x="318" y="278"/>
                </a:lnTo>
                <a:lnTo>
                  <a:pt x="297" y="289"/>
                </a:lnTo>
                <a:lnTo>
                  <a:pt x="284" y="304"/>
                </a:lnTo>
                <a:lnTo>
                  <a:pt x="277" y="325"/>
                </a:lnTo>
                <a:lnTo>
                  <a:pt x="275" y="353"/>
                </a:lnTo>
                <a:lnTo>
                  <a:pt x="275" y="390"/>
                </a:lnTo>
                <a:lnTo>
                  <a:pt x="273" y="433"/>
                </a:lnTo>
                <a:lnTo>
                  <a:pt x="265" y="433"/>
                </a:lnTo>
                <a:lnTo>
                  <a:pt x="256" y="433"/>
                </a:lnTo>
                <a:lnTo>
                  <a:pt x="249" y="433"/>
                </a:lnTo>
                <a:lnTo>
                  <a:pt x="243" y="433"/>
                </a:lnTo>
                <a:lnTo>
                  <a:pt x="239" y="454"/>
                </a:lnTo>
                <a:lnTo>
                  <a:pt x="232" y="491"/>
                </a:lnTo>
                <a:lnTo>
                  <a:pt x="221" y="523"/>
                </a:lnTo>
                <a:lnTo>
                  <a:pt x="209" y="532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0"/>
          <p:cNvSpPr/>
          <p:nvPr/>
        </p:nvSpPr>
        <p:spPr>
          <a:xfrm>
            <a:off x="1935000" y="3384720"/>
            <a:ext cx="78120" cy="136440"/>
          </a:xfrm>
          <a:custGeom>
            <a:avLst/>
            <a:gdLst>
              <a:gd name="textAreaLeft" fmla="*/ 0 w 78120"/>
              <a:gd name="textAreaRight" fmla="*/ 78480 w 781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49" h="86">
                <a:moveTo>
                  <a:pt x="37" y="86"/>
                </a:moveTo>
                <a:lnTo>
                  <a:pt x="32" y="77"/>
                </a:lnTo>
                <a:lnTo>
                  <a:pt x="26" y="56"/>
                </a:lnTo>
                <a:lnTo>
                  <a:pt x="13" y="30"/>
                </a:lnTo>
                <a:lnTo>
                  <a:pt x="0" y="0"/>
                </a:lnTo>
                <a:lnTo>
                  <a:pt x="24" y="2"/>
                </a:lnTo>
                <a:lnTo>
                  <a:pt x="34" y="10"/>
                </a:lnTo>
                <a:lnTo>
                  <a:pt x="41" y="28"/>
                </a:lnTo>
                <a:lnTo>
                  <a:pt x="49" y="58"/>
                </a:lnTo>
                <a:lnTo>
                  <a:pt x="47" y="73"/>
                </a:lnTo>
                <a:lnTo>
                  <a:pt x="45" y="81"/>
                </a:lnTo>
                <a:lnTo>
                  <a:pt x="41" y="86"/>
                </a:lnTo>
                <a:lnTo>
                  <a:pt x="37" y="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1"/>
          <p:cNvSpPr/>
          <p:nvPr/>
        </p:nvSpPr>
        <p:spPr>
          <a:xfrm>
            <a:off x="4618080" y="3151080"/>
            <a:ext cx="141120" cy="189000"/>
          </a:xfrm>
          <a:custGeom>
            <a:avLst/>
            <a:gdLst>
              <a:gd name="textAreaLeft" fmla="*/ 0 w 141120"/>
              <a:gd name="textAreaRight" fmla="*/ 141480 w 14112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89" h="119">
                <a:moveTo>
                  <a:pt x="31" y="119"/>
                </a:moveTo>
                <a:lnTo>
                  <a:pt x="7" y="89"/>
                </a:lnTo>
                <a:lnTo>
                  <a:pt x="0" y="58"/>
                </a:lnTo>
                <a:lnTo>
                  <a:pt x="7" y="30"/>
                </a:lnTo>
                <a:lnTo>
                  <a:pt x="24" y="11"/>
                </a:lnTo>
                <a:lnTo>
                  <a:pt x="43" y="0"/>
                </a:lnTo>
                <a:lnTo>
                  <a:pt x="63" y="5"/>
                </a:lnTo>
                <a:lnTo>
                  <a:pt x="80" y="26"/>
                </a:lnTo>
                <a:lnTo>
                  <a:pt x="89" y="67"/>
                </a:lnTo>
                <a:lnTo>
                  <a:pt x="78" y="89"/>
                </a:lnTo>
                <a:lnTo>
                  <a:pt x="69" y="104"/>
                </a:lnTo>
                <a:lnTo>
                  <a:pt x="54" y="112"/>
                </a:lnTo>
                <a:lnTo>
                  <a:pt x="3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2"/>
          <p:cNvSpPr/>
          <p:nvPr/>
        </p:nvSpPr>
        <p:spPr>
          <a:xfrm>
            <a:off x="4667400" y="3203640"/>
            <a:ext cx="54000" cy="98280"/>
          </a:xfrm>
          <a:custGeom>
            <a:avLst/>
            <a:gdLst>
              <a:gd name="textAreaLeft" fmla="*/ 0 w 54000"/>
              <a:gd name="textAreaRight" fmla="*/ 54360 w 5400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62">
                <a:moveTo>
                  <a:pt x="6" y="62"/>
                </a:moveTo>
                <a:lnTo>
                  <a:pt x="2" y="49"/>
                </a:lnTo>
                <a:lnTo>
                  <a:pt x="0" y="36"/>
                </a:lnTo>
                <a:lnTo>
                  <a:pt x="0" y="25"/>
                </a:lnTo>
                <a:lnTo>
                  <a:pt x="2" y="12"/>
                </a:lnTo>
                <a:lnTo>
                  <a:pt x="10" y="6"/>
                </a:lnTo>
                <a:lnTo>
                  <a:pt x="15" y="2"/>
                </a:lnTo>
                <a:lnTo>
                  <a:pt x="23" y="0"/>
                </a:lnTo>
                <a:lnTo>
                  <a:pt x="34" y="2"/>
                </a:lnTo>
                <a:lnTo>
                  <a:pt x="34" y="19"/>
                </a:lnTo>
                <a:lnTo>
                  <a:pt x="32" y="32"/>
                </a:lnTo>
                <a:lnTo>
                  <a:pt x="25" y="45"/>
                </a:lnTo>
                <a:lnTo>
                  <a:pt x="15" y="62"/>
                </a:lnTo>
                <a:lnTo>
                  <a:pt x="12" y="62"/>
                </a:lnTo>
                <a:lnTo>
                  <a:pt x="10" y="62"/>
                </a:lnTo>
                <a:lnTo>
                  <a:pt x="6" y="62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3"/>
          <p:cNvSpPr/>
          <p:nvPr/>
        </p:nvSpPr>
        <p:spPr>
          <a:xfrm>
            <a:off x="4676760" y="2765520"/>
            <a:ext cx="219240" cy="252360"/>
          </a:xfrm>
          <a:custGeom>
            <a:avLst/>
            <a:gdLst>
              <a:gd name="textAreaLeft" fmla="*/ 0 w 219240"/>
              <a:gd name="textAreaRight" fmla="*/ 219600 w 2192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38" h="159">
                <a:moveTo>
                  <a:pt x="13" y="159"/>
                </a:moveTo>
                <a:lnTo>
                  <a:pt x="6" y="131"/>
                </a:lnTo>
                <a:lnTo>
                  <a:pt x="2" y="114"/>
                </a:lnTo>
                <a:lnTo>
                  <a:pt x="0" y="103"/>
                </a:lnTo>
                <a:lnTo>
                  <a:pt x="0" y="93"/>
                </a:lnTo>
                <a:lnTo>
                  <a:pt x="13" y="82"/>
                </a:lnTo>
                <a:lnTo>
                  <a:pt x="28" y="69"/>
                </a:lnTo>
                <a:lnTo>
                  <a:pt x="43" y="56"/>
                </a:lnTo>
                <a:lnTo>
                  <a:pt x="62" y="41"/>
                </a:lnTo>
                <a:lnTo>
                  <a:pt x="80" y="26"/>
                </a:lnTo>
                <a:lnTo>
                  <a:pt x="95" y="15"/>
                </a:lnTo>
                <a:lnTo>
                  <a:pt x="110" y="4"/>
                </a:lnTo>
                <a:lnTo>
                  <a:pt x="123" y="0"/>
                </a:lnTo>
                <a:lnTo>
                  <a:pt x="127" y="11"/>
                </a:lnTo>
                <a:lnTo>
                  <a:pt x="131" y="22"/>
                </a:lnTo>
                <a:lnTo>
                  <a:pt x="133" y="35"/>
                </a:lnTo>
                <a:lnTo>
                  <a:pt x="138" y="54"/>
                </a:lnTo>
                <a:lnTo>
                  <a:pt x="129" y="62"/>
                </a:lnTo>
                <a:lnTo>
                  <a:pt x="121" y="71"/>
                </a:lnTo>
                <a:lnTo>
                  <a:pt x="112" y="80"/>
                </a:lnTo>
                <a:lnTo>
                  <a:pt x="101" y="88"/>
                </a:lnTo>
                <a:lnTo>
                  <a:pt x="88" y="99"/>
                </a:lnTo>
                <a:lnTo>
                  <a:pt x="69" y="114"/>
                </a:lnTo>
                <a:lnTo>
                  <a:pt x="45" y="134"/>
                </a:lnTo>
                <a:lnTo>
                  <a:pt x="13" y="159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4"/>
          <p:cNvSpPr/>
          <p:nvPr/>
        </p:nvSpPr>
        <p:spPr>
          <a:xfrm>
            <a:off x="4413240" y="2836800"/>
            <a:ext cx="100080" cy="171360"/>
          </a:xfrm>
          <a:custGeom>
            <a:avLst/>
            <a:gdLst>
              <a:gd name="textAreaLeft" fmla="*/ 0 w 100080"/>
              <a:gd name="textAreaRight" fmla="*/ 100440 w 1000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63" h="108">
                <a:moveTo>
                  <a:pt x="13" y="108"/>
                </a:moveTo>
                <a:lnTo>
                  <a:pt x="4" y="95"/>
                </a:lnTo>
                <a:lnTo>
                  <a:pt x="0" y="80"/>
                </a:lnTo>
                <a:lnTo>
                  <a:pt x="4" y="65"/>
                </a:lnTo>
                <a:lnTo>
                  <a:pt x="9" y="50"/>
                </a:lnTo>
                <a:lnTo>
                  <a:pt x="17" y="37"/>
                </a:lnTo>
                <a:lnTo>
                  <a:pt x="28" y="24"/>
                </a:lnTo>
                <a:lnTo>
                  <a:pt x="37" y="11"/>
                </a:lnTo>
                <a:lnTo>
                  <a:pt x="43" y="0"/>
                </a:lnTo>
                <a:lnTo>
                  <a:pt x="56" y="5"/>
                </a:lnTo>
                <a:lnTo>
                  <a:pt x="63" y="17"/>
                </a:lnTo>
                <a:lnTo>
                  <a:pt x="58" y="35"/>
                </a:lnTo>
                <a:lnTo>
                  <a:pt x="52" y="56"/>
                </a:lnTo>
                <a:lnTo>
                  <a:pt x="41" y="76"/>
                </a:lnTo>
                <a:lnTo>
                  <a:pt x="28" y="93"/>
                </a:lnTo>
                <a:lnTo>
                  <a:pt x="20" y="104"/>
                </a:lnTo>
                <a:lnTo>
                  <a:pt x="13" y="108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5"/>
          <p:cNvSpPr/>
          <p:nvPr/>
        </p:nvSpPr>
        <p:spPr>
          <a:xfrm>
            <a:off x="4222800" y="1949400"/>
            <a:ext cx="696960" cy="1065240"/>
          </a:xfrm>
          <a:custGeom>
            <a:avLst/>
            <a:gdLst>
              <a:gd name="textAreaLeft" fmla="*/ 0 w 696960"/>
              <a:gd name="textAreaRight" fmla="*/ 697320 w 696960"/>
              <a:gd name="textAreaTop" fmla="*/ 0 h 1065240"/>
              <a:gd name="textAreaBottom" fmla="*/ 1065240 h 1065240"/>
            </a:gdLst>
            <a:ahLst/>
            <a:rect l="textAreaLeft" t="textAreaTop" r="textAreaRight" b="textAreaBottom"/>
            <a:pathLst>
              <a:path w="439" h="671">
                <a:moveTo>
                  <a:pt x="204" y="648"/>
                </a:moveTo>
                <a:lnTo>
                  <a:pt x="198" y="604"/>
                </a:lnTo>
                <a:lnTo>
                  <a:pt x="187" y="561"/>
                </a:lnTo>
                <a:lnTo>
                  <a:pt x="172" y="518"/>
                </a:lnTo>
                <a:lnTo>
                  <a:pt x="155" y="475"/>
                </a:lnTo>
                <a:lnTo>
                  <a:pt x="146" y="454"/>
                </a:lnTo>
                <a:lnTo>
                  <a:pt x="140" y="432"/>
                </a:lnTo>
                <a:lnTo>
                  <a:pt x="131" y="413"/>
                </a:lnTo>
                <a:lnTo>
                  <a:pt x="124" y="391"/>
                </a:lnTo>
                <a:lnTo>
                  <a:pt x="124" y="389"/>
                </a:lnTo>
                <a:lnTo>
                  <a:pt x="116" y="344"/>
                </a:lnTo>
                <a:lnTo>
                  <a:pt x="112" y="312"/>
                </a:lnTo>
                <a:lnTo>
                  <a:pt x="107" y="292"/>
                </a:lnTo>
                <a:lnTo>
                  <a:pt x="105" y="284"/>
                </a:lnTo>
                <a:lnTo>
                  <a:pt x="122" y="290"/>
                </a:lnTo>
                <a:lnTo>
                  <a:pt x="99" y="295"/>
                </a:lnTo>
                <a:lnTo>
                  <a:pt x="81" y="297"/>
                </a:lnTo>
                <a:lnTo>
                  <a:pt x="68" y="299"/>
                </a:lnTo>
                <a:lnTo>
                  <a:pt x="58" y="299"/>
                </a:lnTo>
                <a:lnTo>
                  <a:pt x="49" y="299"/>
                </a:lnTo>
                <a:lnTo>
                  <a:pt x="40" y="299"/>
                </a:lnTo>
                <a:lnTo>
                  <a:pt x="32" y="299"/>
                </a:lnTo>
                <a:lnTo>
                  <a:pt x="21" y="299"/>
                </a:lnTo>
                <a:lnTo>
                  <a:pt x="8" y="297"/>
                </a:lnTo>
                <a:lnTo>
                  <a:pt x="4" y="286"/>
                </a:lnTo>
                <a:lnTo>
                  <a:pt x="2" y="280"/>
                </a:lnTo>
                <a:lnTo>
                  <a:pt x="0" y="275"/>
                </a:lnTo>
                <a:lnTo>
                  <a:pt x="0" y="269"/>
                </a:lnTo>
                <a:lnTo>
                  <a:pt x="0" y="264"/>
                </a:lnTo>
                <a:lnTo>
                  <a:pt x="0" y="252"/>
                </a:lnTo>
                <a:lnTo>
                  <a:pt x="10" y="247"/>
                </a:lnTo>
                <a:lnTo>
                  <a:pt x="38" y="228"/>
                </a:lnTo>
                <a:lnTo>
                  <a:pt x="60" y="206"/>
                </a:lnTo>
                <a:lnTo>
                  <a:pt x="77" y="185"/>
                </a:lnTo>
                <a:lnTo>
                  <a:pt x="90" y="161"/>
                </a:lnTo>
                <a:lnTo>
                  <a:pt x="99" y="137"/>
                </a:lnTo>
                <a:lnTo>
                  <a:pt x="105" y="109"/>
                </a:lnTo>
                <a:lnTo>
                  <a:pt x="109" y="79"/>
                </a:lnTo>
                <a:lnTo>
                  <a:pt x="114" y="45"/>
                </a:lnTo>
                <a:lnTo>
                  <a:pt x="116" y="26"/>
                </a:lnTo>
                <a:lnTo>
                  <a:pt x="118" y="0"/>
                </a:lnTo>
                <a:lnTo>
                  <a:pt x="122" y="2"/>
                </a:lnTo>
                <a:lnTo>
                  <a:pt x="131" y="4"/>
                </a:lnTo>
                <a:lnTo>
                  <a:pt x="137" y="6"/>
                </a:lnTo>
                <a:lnTo>
                  <a:pt x="142" y="8"/>
                </a:lnTo>
                <a:lnTo>
                  <a:pt x="157" y="13"/>
                </a:lnTo>
                <a:lnTo>
                  <a:pt x="170" y="17"/>
                </a:lnTo>
                <a:lnTo>
                  <a:pt x="180" y="19"/>
                </a:lnTo>
                <a:lnTo>
                  <a:pt x="196" y="23"/>
                </a:lnTo>
                <a:lnTo>
                  <a:pt x="215" y="28"/>
                </a:lnTo>
                <a:lnTo>
                  <a:pt x="241" y="32"/>
                </a:lnTo>
                <a:lnTo>
                  <a:pt x="273" y="38"/>
                </a:lnTo>
                <a:lnTo>
                  <a:pt x="318" y="47"/>
                </a:lnTo>
                <a:lnTo>
                  <a:pt x="335" y="51"/>
                </a:lnTo>
                <a:lnTo>
                  <a:pt x="335" y="69"/>
                </a:lnTo>
                <a:lnTo>
                  <a:pt x="333" y="88"/>
                </a:lnTo>
                <a:lnTo>
                  <a:pt x="329" y="105"/>
                </a:lnTo>
                <a:lnTo>
                  <a:pt x="323" y="125"/>
                </a:lnTo>
                <a:lnTo>
                  <a:pt x="316" y="142"/>
                </a:lnTo>
                <a:lnTo>
                  <a:pt x="308" y="161"/>
                </a:lnTo>
                <a:lnTo>
                  <a:pt x="301" y="178"/>
                </a:lnTo>
                <a:lnTo>
                  <a:pt x="297" y="196"/>
                </a:lnTo>
                <a:lnTo>
                  <a:pt x="297" y="213"/>
                </a:lnTo>
                <a:lnTo>
                  <a:pt x="284" y="196"/>
                </a:lnTo>
                <a:lnTo>
                  <a:pt x="303" y="200"/>
                </a:lnTo>
                <a:lnTo>
                  <a:pt x="314" y="200"/>
                </a:lnTo>
                <a:lnTo>
                  <a:pt x="323" y="193"/>
                </a:lnTo>
                <a:lnTo>
                  <a:pt x="333" y="185"/>
                </a:lnTo>
                <a:lnTo>
                  <a:pt x="338" y="178"/>
                </a:lnTo>
                <a:lnTo>
                  <a:pt x="344" y="172"/>
                </a:lnTo>
                <a:lnTo>
                  <a:pt x="351" y="165"/>
                </a:lnTo>
                <a:lnTo>
                  <a:pt x="359" y="159"/>
                </a:lnTo>
                <a:lnTo>
                  <a:pt x="370" y="155"/>
                </a:lnTo>
                <a:lnTo>
                  <a:pt x="381" y="150"/>
                </a:lnTo>
                <a:lnTo>
                  <a:pt x="396" y="146"/>
                </a:lnTo>
                <a:lnTo>
                  <a:pt x="411" y="146"/>
                </a:lnTo>
                <a:lnTo>
                  <a:pt x="422" y="146"/>
                </a:lnTo>
                <a:lnTo>
                  <a:pt x="428" y="157"/>
                </a:lnTo>
                <a:lnTo>
                  <a:pt x="435" y="170"/>
                </a:lnTo>
                <a:lnTo>
                  <a:pt x="439" y="185"/>
                </a:lnTo>
                <a:lnTo>
                  <a:pt x="439" y="198"/>
                </a:lnTo>
                <a:lnTo>
                  <a:pt x="437" y="213"/>
                </a:lnTo>
                <a:lnTo>
                  <a:pt x="426" y="236"/>
                </a:lnTo>
                <a:lnTo>
                  <a:pt x="411" y="256"/>
                </a:lnTo>
                <a:lnTo>
                  <a:pt x="394" y="271"/>
                </a:lnTo>
                <a:lnTo>
                  <a:pt x="381" y="280"/>
                </a:lnTo>
                <a:lnTo>
                  <a:pt x="389" y="262"/>
                </a:lnTo>
                <a:lnTo>
                  <a:pt x="389" y="267"/>
                </a:lnTo>
                <a:lnTo>
                  <a:pt x="391" y="273"/>
                </a:lnTo>
                <a:lnTo>
                  <a:pt x="391" y="277"/>
                </a:lnTo>
                <a:lnTo>
                  <a:pt x="394" y="284"/>
                </a:lnTo>
                <a:lnTo>
                  <a:pt x="396" y="295"/>
                </a:lnTo>
                <a:lnTo>
                  <a:pt x="398" y="305"/>
                </a:lnTo>
                <a:lnTo>
                  <a:pt x="400" y="316"/>
                </a:lnTo>
                <a:lnTo>
                  <a:pt x="400" y="329"/>
                </a:lnTo>
                <a:lnTo>
                  <a:pt x="400" y="333"/>
                </a:lnTo>
                <a:lnTo>
                  <a:pt x="398" y="338"/>
                </a:lnTo>
                <a:lnTo>
                  <a:pt x="400" y="335"/>
                </a:lnTo>
                <a:lnTo>
                  <a:pt x="398" y="348"/>
                </a:lnTo>
                <a:lnTo>
                  <a:pt x="396" y="378"/>
                </a:lnTo>
                <a:lnTo>
                  <a:pt x="391" y="434"/>
                </a:lnTo>
                <a:lnTo>
                  <a:pt x="387" y="518"/>
                </a:lnTo>
                <a:lnTo>
                  <a:pt x="387" y="525"/>
                </a:lnTo>
                <a:lnTo>
                  <a:pt x="381" y="531"/>
                </a:lnTo>
                <a:lnTo>
                  <a:pt x="370" y="542"/>
                </a:lnTo>
                <a:lnTo>
                  <a:pt x="357" y="553"/>
                </a:lnTo>
                <a:lnTo>
                  <a:pt x="344" y="564"/>
                </a:lnTo>
                <a:lnTo>
                  <a:pt x="331" y="572"/>
                </a:lnTo>
                <a:lnTo>
                  <a:pt x="316" y="583"/>
                </a:lnTo>
                <a:lnTo>
                  <a:pt x="301" y="594"/>
                </a:lnTo>
                <a:lnTo>
                  <a:pt x="286" y="602"/>
                </a:lnTo>
                <a:lnTo>
                  <a:pt x="271" y="613"/>
                </a:lnTo>
                <a:lnTo>
                  <a:pt x="280" y="602"/>
                </a:lnTo>
                <a:lnTo>
                  <a:pt x="273" y="622"/>
                </a:lnTo>
                <a:lnTo>
                  <a:pt x="262" y="641"/>
                </a:lnTo>
                <a:lnTo>
                  <a:pt x="249" y="656"/>
                </a:lnTo>
                <a:lnTo>
                  <a:pt x="230" y="665"/>
                </a:lnTo>
                <a:lnTo>
                  <a:pt x="206" y="671"/>
                </a:lnTo>
                <a:lnTo>
                  <a:pt x="204" y="6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36"/>
          <p:cNvSpPr/>
          <p:nvPr/>
        </p:nvSpPr>
        <p:spPr>
          <a:xfrm>
            <a:off x="4253040" y="1994040"/>
            <a:ext cx="631800" cy="979200"/>
          </a:xfrm>
          <a:custGeom>
            <a:avLst/>
            <a:gdLst>
              <a:gd name="textAreaLeft" fmla="*/ 0 w 631800"/>
              <a:gd name="textAreaRight" fmla="*/ 632160 w 631800"/>
              <a:gd name="textAreaTop" fmla="*/ 0 h 979200"/>
              <a:gd name="textAreaBottom" fmla="*/ 979560 h 979200"/>
            </a:gdLst>
            <a:ahLst/>
            <a:rect l="textAreaLeft" t="textAreaTop" r="textAreaRight" b="textAreaBottom"/>
            <a:pathLst>
              <a:path w="398" h="617">
                <a:moveTo>
                  <a:pt x="205" y="617"/>
                </a:moveTo>
                <a:lnTo>
                  <a:pt x="200" y="583"/>
                </a:lnTo>
                <a:lnTo>
                  <a:pt x="194" y="551"/>
                </a:lnTo>
                <a:lnTo>
                  <a:pt x="185" y="516"/>
                </a:lnTo>
                <a:lnTo>
                  <a:pt x="172" y="484"/>
                </a:lnTo>
                <a:lnTo>
                  <a:pt x="161" y="449"/>
                </a:lnTo>
                <a:lnTo>
                  <a:pt x="149" y="419"/>
                </a:lnTo>
                <a:lnTo>
                  <a:pt x="138" y="387"/>
                </a:lnTo>
                <a:lnTo>
                  <a:pt x="127" y="357"/>
                </a:lnTo>
                <a:lnTo>
                  <a:pt x="116" y="292"/>
                </a:lnTo>
                <a:lnTo>
                  <a:pt x="110" y="260"/>
                </a:lnTo>
                <a:lnTo>
                  <a:pt x="105" y="247"/>
                </a:lnTo>
                <a:lnTo>
                  <a:pt x="101" y="241"/>
                </a:lnTo>
                <a:lnTo>
                  <a:pt x="77" y="245"/>
                </a:lnTo>
                <a:lnTo>
                  <a:pt x="60" y="247"/>
                </a:lnTo>
                <a:lnTo>
                  <a:pt x="45" y="249"/>
                </a:lnTo>
                <a:lnTo>
                  <a:pt x="37" y="249"/>
                </a:lnTo>
                <a:lnTo>
                  <a:pt x="28" y="249"/>
                </a:lnTo>
                <a:lnTo>
                  <a:pt x="19" y="249"/>
                </a:lnTo>
                <a:lnTo>
                  <a:pt x="13" y="249"/>
                </a:lnTo>
                <a:lnTo>
                  <a:pt x="4" y="249"/>
                </a:lnTo>
                <a:lnTo>
                  <a:pt x="2" y="245"/>
                </a:lnTo>
                <a:lnTo>
                  <a:pt x="0" y="243"/>
                </a:lnTo>
                <a:lnTo>
                  <a:pt x="0" y="239"/>
                </a:lnTo>
                <a:lnTo>
                  <a:pt x="0" y="236"/>
                </a:lnTo>
                <a:lnTo>
                  <a:pt x="34" y="213"/>
                </a:lnTo>
                <a:lnTo>
                  <a:pt x="60" y="189"/>
                </a:lnTo>
                <a:lnTo>
                  <a:pt x="77" y="163"/>
                </a:lnTo>
                <a:lnTo>
                  <a:pt x="93" y="135"/>
                </a:lnTo>
                <a:lnTo>
                  <a:pt x="101" y="105"/>
                </a:lnTo>
                <a:lnTo>
                  <a:pt x="108" y="73"/>
                </a:lnTo>
                <a:lnTo>
                  <a:pt x="112" y="38"/>
                </a:lnTo>
                <a:lnTo>
                  <a:pt x="116" y="0"/>
                </a:lnTo>
                <a:lnTo>
                  <a:pt x="131" y="4"/>
                </a:lnTo>
                <a:lnTo>
                  <a:pt x="144" y="8"/>
                </a:lnTo>
                <a:lnTo>
                  <a:pt x="155" y="10"/>
                </a:lnTo>
                <a:lnTo>
                  <a:pt x="172" y="15"/>
                </a:lnTo>
                <a:lnTo>
                  <a:pt x="192" y="19"/>
                </a:lnTo>
                <a:lnTo>
                  <a:pt x="217" y="23"/>
                </a:lnTo>
                <a:lnTo>
                  <a:pt x="252" y="32"/>
                </a:lnTo>
                <a:lnTo>
                  <a:pt x="297" y="41"/>
                </a:lnTo>
                <a:lnTo>
                  <a:pt x="291" y="75"/>
                </a:lnTo>
                <a:lnTo>
                  <a:pt x="276" y="112"/>
                </a:lnTo>
                <a:lnTo>
                  <a:pt x="263" y="150"/>
                </a:lnTo>
                <a:lnTo>
                  <a:pt x="258" y="187"/>
                </a:lnTo>
                <a:lnTo>
                  <a:pt x="284" y="193"/>
                </a:lnTo>
                <a:lnTo>
                  <a:pt x="301" y="191"/>
                </a:lnTo>
                <a:lnTo>
                  <a:pt x="316" y="185"/>
                </a:lnTo>
                <a:lnTo>
                  <a:pt x="327" y="174"/>
                </a:lnTo>
                <a:lnTo>
                  <a:pt x="338" y="163"/>
                </a:lnTo>
                <a:lnTo>
                  <a:pt x="351" y="150"/>
                </a:lnTo>
                <a:lnTo>
                  <a:pt x="368" y="144"/>
                </a:lnTo>
                <a:lnTo>
                  <a:pt x="392" y="140"/>
                </a:lnTo>
                <a:lnTo>
                  <a:pt x="398" y="155"/>
                </a:lnTo>
                <a:lnTo>
                  <a:pt x="398" y="168"/>
                </a:lnTo>
                <a:lnTo>
                  <a:pt x="396" y="180"/>
                </a:lnTo>
                <a:lnTo>
                  <a:pt x="392" y="193"/>
                </a:lnTo>
                <a:lnTo>
                  <a:pt x="383" y="206"/>
                </a:lnTo>
                <a:lnTo>
                  <a:pt x="372" y="217"/>
                </a:lnTo>
                <a:lnTo>
                  <a:pt x="362" y="226"/>
                </a:lnTo>
                <a:lnTo>
                  <a:pt x="349" y="234"/>
                </a:lnTo>
                <a:lnTo>
                  <a:pt x="351" y="249"/>
                </a:lnTo>
                <a:lnTo>
                  <a:pt x="355" y="264"/>
                </a:lnTo>
                <a:lnTo>
                  <a:pt x="360" y="282"/>
                </a:lnTo>
                <a:lnTo>
                  <a:pt x="362" y="301"/>
                </a:lnTo>
                <a:lnTo>
                  <a:pt x="360" y="305"/>
                </a:lnTo>
                <a:lnTo>
                  <a:pt x="357" y="327"/>
                </a:lnTo>
                <a:lnTo>
                  <a:pt x="353" y="383"/>
                </a:lnTo>
                <a:lnTo>
                  <a:pt x="349" y="488"/>
                </a:lnTo>
                <a:lnTo>
                  <a:pt x="336" y="499"/>
                </a:lnTo>
                <a:lnTo>
                  <a:pt x="323" y="510"/>
                </a:lnTo>
                <a:lnTo>
                  <a:pt x="310" y="521"/>
                </a:lnTo>
                <a:lnTo>
                  <a:pt x="297" y="531"/>
                </a:lnTo>
                <a:lnTo>
                  <a:pt x="284" y="540"/>
                </a:lnTo>
                <a:lnTo>
                  <a:pt x="269" y="551"/>
                </a:lnTo>
                <a:lnTo>
                  <a:pt x="254" y="559"/>
                </a:lnTo>
                <a:lnTo>
                  <a:pt x="239" y="568"/>
                </a:lnTo>
                <a:lnTo>
                  <a:pt x="235" y="581"/>
                </a:lnTo>
                <a:lnTo>
                  <a:pt x="228" y="596"/>
                </a:lnTo>
                <a:lnTo>
                  <a:pt x="217" y="611"/>
                </a:lnTo>
                <a:lnTo>
                  <a:pt x="205" y="617"/>
                </a:lnTo>
                <a:close/>
              </a:path>
            </a:pathLst>
          </a:custGeom>
          <a:solidFill>
            <a:srgbClr val="e8b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37"/>
          <p:cNvSpPr/>
          <p:nvPr/>
        </p:nvSpPr>
        <p:spPr>
          <a:xfrm>
            <a:off x="4505400" y="2457360"/>
            <a:ext cx="162000" cy="246240"/>
          </a:xfrm>
          <a:custGeom>
            <a:avLst/>
            <a:gdLst>
              <a:gd name="textAreaLeft" fmla="*/ 0 w 162000"/>
              <a:gd name="textAreaRight" fmla="*/ 162360 w 162000"/>
              <a:gd name="textAreaTop" fmla="*/ 0 h 246240"/>
              <a:gd name="textAreaBottom" fmla="*/ 246240 h 246240"/>
            </a:gdLst>
            <a:ahLst/>
            <a:rect l="textAreaLeft" t="textAreaTop" r="textAreaRight" b="textAreaBottom"/>
            <a:pathLst>
              <a:path w="102" h="155">
                <a:moveTo>
                  <a:pt x="58" y="155"/>
                </a:moveTo>
                <a:lnTo>
                  <a:pt x="52" y="153"/>
                </a:lnTo>
                <a:lnTo>
                  <a:pt x="48" y="153"/>
                </a:lnTo>
                <a:lnTo>
                  <a:pt x="46" y="153"/>
                </a:lnTo>
                <a:lnTo>
                  <a:pt x="43" y="151"/>
                </a:lnTo>
                <a:lnTo>
                  <a:pt x="24" y="110"/>
                </a:lnTo>
                <a:lnTo>
                  <a:pt x="13" y="76"/>
                </a:lnTo>
                <a:lnTo>
                  <a:pt x="5" y="41"/>
                </a:lnTo>
                <a:lnTo>
                  <a:pt x="0" y="3"/>
                </a:lnTo>
                <a:lnTo>
                  <a:pt x="5" y="3"/>
                </a:lnTo>
                <a:lnTo>
                  <a:pt x="7" y="0"/>
                </a:lnTo>
                <a:lnTo>
                  <a:pt x="11" y="0"/>
                </a:lnTo>
                <a:lnTo>
                  <a:pt x="13" y="0"/>
                </a:lnTo>
                <a:lnTo>
                  <a:pt x="26" y="24"/>
                </a:lnTo>
                <a:lnTo>
                  <a:pt x="33" y="58"/>
                </a:lnTo>
                <a:lnTo>
                  <a:pt x="43" y="95"/>
                </a:lnTo>
                <a:lnTo>
                  <a:pt x="58" y="130"/>
                </a:lnTo>
                <a:lnTo>
                  <a:pt x="78" y="102"/>
                </a:lnTo>
                <a:lnTo>
                  <a:pt x="80" y="69"/>
                </a:lnTo>
                <a:lnTo>
                  <a:pt x="82" y="39"/>
                </a:lnTo>
                <a:lnTo>
                  <a:pt x="93" y="9"/>
                </a:lnTo>
                <a:lnTo>
                  <a:pt x="102" y="48"/>
                </a:lnTo>
                <a:lnTo>
                  <a:pt x="95" y="102"/>
                </a:lnTo>
                <a:lnTo>
                  <a:pt x="80" y="145"/>
                </a:lnTo>
                <a:lnTo>
                  <a:pt x="58" y="1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8"/>
          <p:cNvSpPr/>
          <p:nvPr/>
        </p:nvSpPr>
        <p:spPr>
          <a:xfrm>
            <a:off x="4356000" y="1655640"/>
            <a:ext cx="676440" cy="777960"/>
          </a:xfrm>
          <a:custGeom>
            <a:avLst/>
            <a:gdLst>
              <a:gd name="textAreaLeft" fmla="*/ 0 w 676440"/>
              <a:gd name="textAreaRight" fmla="*/ 676800 w 67644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426" h="490">
                <a:moveTo>
                  <a:pt x="318" y="490"/>
                </a:moveTo>
                <a:lnTo>
                  <a:pt x="314" y="477"/>
                </a:lnTo>
                <a:lnTo>
                  <a:pt x="312" y="469"/>
                </a:lnTo>
                <a:lnTo>
                  <a:pt x="312" y="462"/>
                </a:lnTo>
                <a:lnTo>
                  <a:pt x="312" y="456"/>
                </a:lnTo>
                <a:lnTo>
                  <a:pt x="331" y="439"/>
                </a:lnTo>
                <a:lnTo>
                  <a:pt x="344" y="419"/>
                </a:lnTo>
                <a:lnTo>
                  <a:pt x="353" y="398"/>
                </a:lnTo>
                <a:lnTo>
                  <a:pt x="353" y="376"/>
                </a:lnTo>
                <a:lnTo>
                  <a:pt x="348" y="357"/>
                </a:lnTo>
                <a:lnTo>
                  <a:pt x="335" y="342"/>
                </a:lnTo>
                <a:lnTo>
                  <a:pt x="316" y="331"/>
                </a:lnTo>
                <a:lnTo>
                  <a:pt x="290" y="327"/>
                </a:lnTo>
                <a:lnTo>
                  <a:pt x="277" y="342"/>
                </a:lnTo>
                <a:lnTo>
                  <a:pt x="262" y="357"/>
                </a:lnTo>
                <a:lnTo>
                  <a:pt x="247" y="372"/>
                </a:lnTo>
                <a:lnTo>
                  <a:pt x="232" y="387"/>
                </a:lnTo>
                <a:lnTo>
                  <a:pt x="228" y="385"/>
                </a:lnTo>
                <a:lnTo>
                  <a:pt x="226" y="385"/>
                </a:lnTo>
                <a:lnTo>
                  <a:pt x="221" y="385"/>
                </a:lnTo>
                <a:lnTo>
                  <a:pt x="217" y="383"/>
                </a:lnTo>
                <a:lnTo>
                  <a:pt x="226" y="342"/>
                </a:lnTo>
                <a:lnTo>
                  <a:pt x="245" y="299"/>
                </a:lnTo>
                <a:lnTo>
                  <a:pt x="262" y="258"/>
                </a:lnTo>
                <a:lnTo>
                  <a:pt x="267" y="223"/>
                </a:lnTo>
                <a:lnTo>
                  <a:pt x="224" y="219"/>
                </a:lnTo>
                <a:lnTo>
                  <a:pt x="178" y="215"/>
                </a:lnTo>
                <a:lnTo>
                  <a:pt x="131" y="206"/>
                </a:lnTo>
                <a:lnTo>
                  <a:pt x="88" y="195"/>
                </a:lnTo>
                <a:lnTo>
                  <a:pt x="51" y="180"/>
                </a:lnTo>
                <a:lnTo>
                  <a:pt x="23" y="155"/>
                </a:lnTo>
                <a:lnTo>
                  <a:pt x="4" y="118"/>
                </a:lnTo>
                <a:lnTo>
                  <a:pt x="0" y="71"/>
                </a:lnTo>
                <a:lnTo>
                  <a:pt x="19" y="43"/>
                </a:lnTo>
                <a:lnTo>
                  <a:pt x="47" y="21"/>
                </a:lnTo>
                <a:lnTo>
                  <a:pt x="79" y="8"/>
                </a:lnTo>
                <a:lnTo>
                  <a:pt x="114" y="2"/>
                </a:lnTo>
                <a:lnTo>
                  <a:pt x="152" y="0"/>
                </a:lnTo>
                <a:lnTo>
                  <a:pt x="191" y="0"/>
                </a:lnTo>
                <a:lnTo>
                  <a:pt x="230" y="6"/>
                </a:lnTo>
                <a:lnTo>
                  <a:pt x="267" y="13"/>
                </a:lnTo>
                <a:lnTo>
                  <a:pt x="310" y="36"/>
                </a:lnTo>
                <a:lnTo>
                  <a:pt x="346" y="58"/>
                </a:lnTo>
                <a:lnTo>
                  <a:pt x="374" y="79"/>
                </a:lnTo>
                <a:lnTo>
                  <a:pt x="396" y="105"/>
                </a:lnTo>
                <a:lnTo>
                  <a:pt x="411" y="133"/>
                </a:lnTo>
                <a:lnTo>
                  <a:pt x="422" y="170"/>
                </a:lnTo>
                <a:lnTo>
                  <a:pt x="426" y="213"/>
                </a:lnTo>
                <a:lnTo>
                  <a:pt x="426" y="267"/>
                </a:lnTo>
                <a:lnTo>
                  <a:pt x="424" y="286"/>
                </a:lnTo>
                <a:lnTo>
                  <a:pt x="417" y="316"/>
                </a:lnTo>
                <a:lnTo>
                  <a:pt x="409" y="353"/>
                </a:lnTo>
                <a:lnTo>
                  <a:pt x="398" y="393"/>
                </a:lnTo>
                <a:lnTo>
                  <a:pt x="383" y="432"/>
                </a:lnTo>
                <a:lnTo>
                  <a:pt x="366" y="465"/>
                </a:lnTo>
                <a:lnTo>
                  <a:pt x="344" y="486"/>
                </a:lnTo>
                <a:lnTo>
                  <a:pt x="318" y="490"/>
                </a:lnTo>
                <a:close/>
              </a:path>
            </a:pathLst>
          </a:cu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9"/>
          <p:cNvSpPr/>
          <p:nvPr/>
        </p:nvSpPr>
        <p:spPr>
          <a:xfrm>
            <a:off x="4540320" y="2082960"/>
            <a:ext cx="44280" cy="172800"/>
          </a:xfrm>
          <a:custGeom>
            <a:avLst/>
            <a:gdLst>
              <a:gd name="textAreaLeft" fmla="*/ 0 w 44280"/>
              <a:gd name="textAreaRight" fmla="*/ 44640 w 44280"/>
              <a:gd name="textAreaTop" fmla="*/ 0 h 172800"/>
              <a:gd name="textAreaBottom" fmla="*/ 173160 h 172800"/>
            </a:gdLst>
            <a:ahLst/>
            <a:rect l="textAreaLeft" t="textAreaTop" r="textAreaRight" b="textAreaBottom"/>
            <a:pathLst>
              <a:path w="28" h="109">
                <a:moveTo>
                  <a:pt x="13" y="107"/>
                </a:moveTo>
                <a:lnTo>
                  <a:pt x="8" y="99"/>
                </a:lnTo>
                <a:lnTo>
                  <a:pt x="6" y="86"/>
                </a:lnTo>
                <a:lnTo>
                  <a:pt x="4" y="58"/>
                </a:lnTo>
                <a:lnTo>
                  <a:pt x="0" y="4"/>
                </a:lnTo>
                <a:lnTo>
                  <a:pt x="4" y="2"/>
                </a:lnTo>
                <a:lnTo>
                  <a:pt x="6" y="0"/>
                </a:lnTo>
                <a:lnTo>
                  <a:pt x="11" y="0"/>
                </a:lnTo>
                <a:lnTo>
                  <a:pt x="19" y="0"/>
                </a:lnTo>
                <a:lnTo>
                  <a:pt x="24" y="17"/>
                </a:lnTo>
                <a:lnTo>
                  <a:pt x="28" y="45"/>
                </a:lnTo>
                <a:lnTo>
                  <a:pt x="28" y="77"/>
                </a:lnTo>
                <a:lnTo>
                  <a:pt x="28" y="103"/>
                </a:lnTo>
                <a:lnTo>
                  <a:pt x="21" y="107"/>
                </a:lnTo>
                <a:lnTo>
                  <a:pt x="17" y="107"/>
                </a:lnTo>
                <a:lnTo>
                  <a:pt x="15" y="109"/>
                </a:lnTo>
                <a:lnTo>
                  <a:pt x="13" y="1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40"/>
          <p:cNvSpPr/>
          <p:nvPr/>
        </p:nvSpPr>
        <p:spPr>
          <a:xfrm>
            <a:off x="4468680" y="2065320"/>
            <a:ext cx="36720" cy="174600"/>
          </a:xfrm>
          <a:custGeom>
            <a:avLst/>
            <a:gdLst>
              <a:gd name="textAreaLeft" fmla="*/ 0 w 36720"/>
              <a:gd name="textAreaRight" fmla="*/ 37080 w 36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23" h="110">
                <a:moveTo>
                  <a:pt x="8" y="108"/>
                </a:moveTo>
                <a:lnTo>
                  <a:pt x="4" y="105"/>
                </a:lnTo>
                <a:lnTo>
                  <a:pt x="2" y="105"/>
                </a:lnTo>
                <a:lnTo>
                  <a:pt x="2" y="103"/>
                </a:lnTo>
                <a:lnTo>
                  <a:pt x="0" y="103"/>
                </a:lnTo>
                <a:lnTo>
                  <a:pt x="0" y="80"/>
                </a:lnTo>
                <a:lnTo>
                  <a:pt x="0" y="54"/>
                </a:lnTo>
                <a:lnTo>
                  <a:pt x="0" y="30"/>
                </a:lnTo>
                <a:lnTo>
                  <a:pt x="0" y="4"/>
                </a:lnTo>
                <a:lnTo>
                  <a:pt x="2" y="2"/>
                </a:lnTo>
                <a:lnTo>
                  <a:pt x="4" y="0"/>
                </a:lnTo>
                <a:lnTo>
                  <a:pt x="8" y="0"/>
                </a:lnTo>
                <a:lnTo>
                  <a:pt x="15" y="0"/>
                </a:lnTo>
                <a:lnTo>
                  <a:pt x="19" y="17"/>
                </a:lnTo>
                <a:lnTo>
                  <a:pt x="23" y="45"/>
                </a:lnTo>
                <a:lnTo>
                  <a:pt x="23" y="77"/>
                </a:lnTo>
                <a:lnTo>
                  <a:pt x="23" y="103"/>
                </a:lnTo>
                <a:lnTo>
                  <a:pt x="15" y="108"/>
                </a:lnTo>
                <a:lnTo>
                  <a:pt x="10" y="108"/>
                </a:lnTo>
                <a:lnTo>
                  <a:pt x="8" y="110"/>
                </a:lnTo>
                <a:lnTo>
                  <a:pt x="8" y="1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41"/>
          <p:cNvSpPr/>
          <p:nvPr/>
        </p:nvSpPr>
        <p:spPr>
          <a:xfrm>
            <a:off x="2963880" y="2795760"/>
            <a:ext cx="177840" cy="236520"/>
          </a:xfrm>
          <a:custGeom>
            <a:avLst/>
            <a:gdLst>
              <a:gd name="textAreaLeft" fmla="*/ 0 w 177840"/>
              <a:gd name="textAreaRight" fmla="*/ 177840 w 1778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12" h="149">
                <a:moveTo>
                  <a:pt x="9" y="119"/>
                </a:moveTo>
                <a:lnTo>
                  <a:pt x="11" y="110"/>
                </a:lnTo>
                <a:lnTo>
                  <a:pt x="15" y="102"/>
                </a:lnTo>
                <a:lnTo>
                  <a:pt x="17" y="91"/>
                </a:lnTo>
                <a:lnTo>
                  <a:pt x="19" y="82"/>
                </a:lnTo>
                <a:lnTo>
                  <a:pt x="28" y="52"/>
                </a:lnTo>
                <a:lnTo>
                  <a:pt x="37" y="26"/>
                </a:lnTo>
                <a:lnTo>
                  <a:pt x="50" y="9"/>
                </a:lnTo>
                <a:lnTo>
                  <a:pt x="69" y="3"/>
                </a:lnTo>
                <a:lnTo>
                  <a:pt x="71" y="3"/>
                </a:lnTo>
                <a:lnTo>
                  <a:pt x="73" y="3"/>
                </a:lnTo>
                <a:lnTo>
                  <a:pt x="75" y="3"/>
                </a:lnTo>
                <a:lnTo>
                  <a:pt x="82" y="0"/>
                </a:lnTo>
                <a:lnTo>
                  <a:pt x="91" y="3"/>
                </a:lnTo>
                <a:lnTo>
                  <a:pt x="99" y="5"/>
                </a:lnTo>
                <a:lnTo>
                  <a:pt x="106" y="11"/>
                </a:lnTo>
                <a:lnTo>
                  <a:pt x="110" y="20"/>
                </a:lnTo>
                <a:lnTo>
                  <a:pt x="112" y="28"/>
                </a:lnTo>
                <a:lnTo>
                  <a:pt x="112" y="39"/>
                </a:lnTo>
                <a:lnTo>
                  <a:pt x="112" y="46"/>
                </a:lnTo>
                <a:lnTo>
                  <a:pt x="106" y="67"/>
                </a:lnTo>
                <a:lnTo>
                  <a:pt x="95" y="95"/>
                </a:lnTo>
                <a:lnTo>
                  <a:pt x="84" y="119"/>
                </a:lnTo>
                <a:lnTo>
                  <a:pt x="75" y="132"/>
                </a:lnTo>
                <a:lnTo>
                  <a:pt x="71" y="142"/>
                </a:lnTo>
                <a:lnTo>
                  <a:pt x="58" y="145"/>
                </a:lnTo>
                <a:lnTo>
                  <a:pt x="30" y="147"/>
                </a:lnTo>
                <a:lnTo>
                  <a:pt x="0" y="149"/>
                </a:lnTo>
                <a:lnTo>
                  <a:pt x="9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2"/>
          <p:cNvSpPr/>
          <p:nvPr/>
        </p:nvSpPr>
        <p:spPr>
          <a:xfrm>
            <a:off x="404640" y="609480"/>
            <a:ext cx="3807000" cy="247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Learning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Learn how to recognise and say 16 s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Learn how to say whether you like or dislike a particular sport and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3"/>
          <p:cNvGrpSpPr/>
          <p:nvPr/>
        </p:nvGrpSpPr>
        <p:grpSpPr>
          <a:xfrm>
            <a:off x="5435640" y="762120"/>
            <a:ext cx="3529080" cy="3723480"/>
            <a:chOff x="5435640" y="762120"/>
            <a:chExt cx="3529080" cy="3723480"/>
          </a:xfrm>
        </p:grpSpPr>
        <p:pic>
          <p:nvPicPr>
            <p:cNvPr id="93" name="Picture 44" descr="j0095744"/>
            <p:cNvPicPr/>
            <p:nvPr/>
          </p:nvPicPr>
          <p:blipFill>
            <a:blip r:embed="rId1"/>
            <a:stretch/>
          </p:blipFill>
          <p:spPr>
            <a:xfrm>
              <a:off x="5675400" y="762120"/>
              <a:ext cx="155736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WordArt 45"/>
            <p:cNvSpPr txBox="1"/>
            <p:nvPr/>
          </p:nvSpPr>
          <p:spPr>
            <a:xfrm>
              <a:off x="5435640" y="1341360"/>
              <a:ext cx="30765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success criteri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95" name="Text Box 46"/>
            <p:cNvSpPr/>
            <p:nvPr/>
          </p:nvSpPr>
          <p:spPr>
            <a:xfrm>
              <a:off x="5651640" y="2708280"/>
              <a:ext cx="3313080" cy="17773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Comic Sans MS"/>
                </a:rPr>
                <a:t>Name at least 10 spor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Comic Sans MS"/>
                </a:rPr>
                <a:t>Remember how to say </a:t>
              </a:r>
              <a:r>
                <a:rPr b="1" lang="en-GB" sz="2000" spc="-1" strike="noStrike">
                  <a:solidFill>
                    <a:srgbClr val="0000ff"/>
                  </a:solidFill>
                  <a:latin typeface="Comic Sans MS"/>
                </a:rPr>
                <a:t>I love, I like, I dislike </a:t>
              </a:r>
              <a:r>
                <a:rPr b="0" lang="en-GB" sz="2000" spc="-1" strike="noStrike">
                  <a:solidFill>
                    <a:srgbClr val="0000ff"/>
                  </a:solidFill>
                  <a:latin typeface="Comic Sans MS"/>
                </a:rPr>
                <a:t>and</a:t>
              </a:r>
              <a:r>
                <a:rPr b="1" lang="en-GB" sz="2000" spc="-1" strike="noStrike">
                  <a:solidFill>
                    <a:srgbClr val="0000ff"/>
                  </a:solidFill>
                  <a:latin typeface="Comic Sans MS"/>
                </a:rPr>
                <a:t> I hate </a:t>
              </a:r>
              <a:r>
                <a:rPr b="0" lang="en-GB" sz="2000" spc="-1" strike="noStrike">
                  <a:solidFill>
                    <a:srgbClr val="0000ff"/>
                  </a:solidFill>
                  <a:latin typeface="Comic Sans MS"/>
                </a:rPr>
                <a:t>and</a:t>
              </a:r>
              <a:r>
                <a:rPr b="1" lang="en-GB" sz="20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0" lang="en-GB" sz="2000" spc="-1" strike="noStrike">
                  <a:solidFill>
                    <a:srgbClr val="0000ff"/>
                  </a:solidFill>
                  <a:latin typeface="Comic Sans MS"/>
                </a:rPr>
                <a:t>at least 3 opin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WordArt 48"/>
          <p:cNvSpPr txBox="1"/>
          <p:nvPr/>
        </p:nvSpPr>
        <p:spPr>
          <a:xfrm>
            <a:off x="2050920" y="4581360"/>
            <a:ext cx="4897440" cy="22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33cc33"/>
                </a:solidFill>
                <a:latin typeface="Comic Sans MS"/>
              </a:rPr>
              <a:t>Les sports</a:t>
            </a:r>
            <a:endParaRPr b="0" lang="en-US" sz="1800" spc="1" strike="noStrike">
              <a:ln w="9360">
                <a:solidFill>
                  <a:srgbClr val="33cc33"/>
                </a:solidFill>
                <a:miter/>
              </a:ln>
              <a:solidFill>
                <a:srgbClr val="33cc33"/>
              </a:solidFill>
              <a:latin typeface="Comic Sans MS"/>
              <a:ea typeface="Comic Sans MS"/>
            </a:endParaRPr>
          </a:p>
        </p:txBody>
      </p:sp>
      <p:pic>
        <p:nvPicPr>
          <p:cNvPr id="97" name="Picture 49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0" descr="j0364154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79280" y="952560"/>
            <a:ext cx="32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340000" y="979560"/>
            <a:ext cx="32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478400" y="94932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340000" y="3033720"/>
            <a:ext cx="3110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79280" y="3032280"/>
            <a:ext cx="32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624720" y="91440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39640" y="9525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736720" y="9525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4478400" y="3035160"/>
            <a:ext cx="349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6624720" y="303516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4861080" y="952560"/>
            <a:ext cx="13665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020000" y="91440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539640" y="3033720"/>
            <a:ext cx="13683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2736720" y="30369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4859280" y="3035160"/>
            <a:ext cx="136692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7021440" y="30369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9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0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1"/>
          <p:cNvSpPr/>
          <p:nvPr/>
        </p:nvSpPr>
        <p:spPr>
          <a:xfrm>
            <a:off x="684360" y="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Look at the pictures and type into the boxes the correct sport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7"/>
          <p:cNvSpPr/>
          <p:nvPr/>
        </p:nvSpPr>
        <p:spPr>
          <a:xfrm>
            <a:off x="395280" y="5013360"/>
            <a:ext cx="806436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basket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ping-pong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foot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ten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roller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skat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volley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rug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8" descr="j0250159[1]"/>
          <p:cNvPicPr/>
          <p:nvPr/>
        </p:nvPicPr>
        <p:blipFill>
          <a:blip r:embed="rId3"/>
          <a:stretch/>
        </p:blipFill>
        <p:spPr>
          <a:xfrm>
            <a:off x="5003640" y="3213000"/>
            <a:ext cx="1152720" cy="854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9" descr="j0364392[1]"/>
          <p:cNvPicPr/>
          <p:nvPr/>
        </p:nvPicPr>
        <p:blipFill>
          <a:blip r:embed="rId4"/>
          <a:stretch/>
        </p:blipFill>
        <p:spPr>
          <a:xfrm>
            <a:off x="2987640" y="1052640"/>
            <a:ext cx="885960" cy="115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0" descr="j0396714[1]"/>
          <p:cNvPicPr/>
          <p:nvPr/>
        </p:nvPicPr>
        <p:blipFill>
          <a:blip r:embed="rId5"/>
          <a:stretch/>
        </p:blipFill>
        <p:spPr>
          <a:xfrm>
            <a:off x="755640" y="1125360"/>
            <a:ext cx="1008000" cy="871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1" descr="j0398283[1]"/>
          <p:cNvPicPr/>
          <p:nvPr/>
        </p:nvPicPr>
        <p:blipFill>
          <a:blip r:embed="rId6"/>
          <a:stretch/>
        </p:blipFill>
        <p:spPr>
          <a:xfrm>
            <a:off x="7236000" y="981000"/>
            <a:ext cx="979200" cy="1125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2" descr="j0250167[1]"/>
          <p:cNvPicPr/>
          <p:nvPr/>
        </p:nvPicPr>
        <p:blipFill>
          <a:blip r:embed="rId7"/>
          <a:stretch/>
        </p:blipFill>
        <p:spPr>
          <a:xfrm>
            <a:off x="2987640" y="3213000"/>
            <a:ext cx="1008000" cy="777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3" descr="j0238220[1]"/>
          <p:cNvPicPr/>
          <p:nvPr/>
        </p:nvPicPr>
        <p:blipFill>
          <a:blip r:embed="rId8"/>
          <a:stretch/>
        </p:blipFill>
        <p:spPr>
          <a:xfrm>
            <a:off x="5076720" y="1052640"/>
            <a:ext cx="957240" cy="974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4" descr="j0239521[1]"/>
          <p:cNvPicPr/>
          <p:nvPr/>
        </p:nvPicPr>
        <p:blipFill>
          <a:blip r:embed="rId9"/>
          <a:stretch/>
        </p:blipFill>
        <p:spPr>
          <a:xfrm>
            <a:off x="7236000" y="3141720"/>
            <a:ext cx="981000" cy="982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5" descr="j0396678[1]"/>
          <p:cNvPicPr/>
          <p:nvPr/>
        </p:nvPicPr>
        <p:blipFill>
          <a:blip r:embed="rId10"/>
          <a:stretch/>
        </p:blipFill>
        <p:spPr>
          <a:xfrm>
            <a:off x="611280" y="3213000"/>
            <a:ext cx="1128600" cy="957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6" descr="ani_thinkingcap"/>
          <p:cNvPicPr/>
          <p:nvPr/>
        </p:nvPicPr>
        <p:blipFill>
          <a:blip r:embed="rId11"/>
          <a:stretch/>
        </p:blipFill>
        <p:spPr>
          <a:xfrm>
            <a:off x="4378320" y="5877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79280" y="952560"/>
            <a:ext cx="32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340000" y="979560"/>
            <a:ext cx="32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478400" y="94932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195640" y="2997360"/>
            <a:ext cx="4554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3032280"/>
            <a:ext cx="503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6624720" y="91440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39640" y="9525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2736720" y="9525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4356000" y="3068640"/>
            <a:ext cx="471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6624720" y="303516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4861080" y="952560"/>
            <a:ext cx="13665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7020000" y="91440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539640" y="3033720"/>
            <a:ext cx="13683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6"/>
          <p:cNvSpPr/>
          <p:nvPr/>
        </p:nvSpPr>
        <p:spPr>
          <a:xfrm>
            <a:off x="2736720" y="30369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4859280" y="3035160"/>
            <a:ext cx="136692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7021440" y="30369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9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0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1"/>
          <p:cNvSpPr/>
          <p:nvPr/>
        </p:nvSpPr>
        <p:spPr>
          <a:xfrm>
            <a:off x="684360" y="-2700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Look at the pictures and type into the boxes the correct sport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7"/>
          <p:cNvSpPr/>
          <p:nvPr/>
        </p:nvSpPr>
        <p:spPr>
          <a:xfrm>
            <a:off x="322200" y="5013360"/>
            <a:ext cx="849780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VTT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a gymnastiqu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snooker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cycl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a natation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’équitation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judo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’athlétism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2" descr="j0250162[1]"/>
          <p:cNvPicPr/>
          <p:nvPr/>
        </p:nvPicPr>
        <p:blipFill>
          <a:blip r:embed="rId3"/>
          <a:stretch/>
        </p:blipFill>
        <p:spPr>
          <a:xfrm>
            <a:off x="755640" y="314172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3" descr=""/>
          <p:cNvPicPr/>
          <p:nvPr/>
        </p:nvPicPr>
        <p:blipFill>
          <a:blip r:embed="rId4"/>
          <a:stretch/>
        </p:blipFill>
        <p:spPr>
          <a:xfrm>
            <a:off x="5003640" y="1125360"/>
            <a:ext cx="1143000" cy="1000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4" descr="bs02101_"/>
          <p:cNvPicPr/>
          <p:nvPr/>
        </p:nvPicPr>
        <p:blipFill>
          <a:blip r:embed="rId5"/>
          <a:stretch/>
        </p:blipFill>
        <p:spPr>
          <a:xfrm>
            <a:off x="5003640" y="3213000"/>
            <a:ext cx="1150920" cy="863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5" descr="bd07554_[1]"/>
          <p:cNvPicPr/>
          <p:nvPr/>
        </p:nvPicPr>
        <p:blipFill>
          <a:blip r:embed="rId6"/>
          <a:stretch/>
        </p:blipFill>
        <p:spPr>
          <a:xfrm>
            <a:off x="2843280" y="1125360"/>
            <a:ext cx="1089000" cy="952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6" descr="j0198806[1]"/>
          <p:cNvPicPr/>
          <p:nvPr/>
        </p:nvPicPr>
        <p:blipFill>
          <a:blip r:embed="rId7"/>
          <a:stretch/>
        </p:blipFill>
        <p:spPr>
          <a:xfrm>
            <a:off x="611280" y="1268280"/>
            <a:ext cx="1203120" cy="671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7" descr=""/>
          <p:cNvPicPr/>
          <p:nvPr/>
        </p:nvPicPr>
        <p:blipFill>
          <a:blip r:embed="rId8"/>
          <a:stretch/>
        </p:blipFill>
        <p:spPr>
          <a:xfrm>
            <a:off x="7164360" y="981000"/>
            <a:ext cx="1038240" cy="1152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8" descr="bd13720_"/>
          <p:cNvPicPr/>
          <p:nvPr/>
        </p:nvPicPr>
        <p:blipFill>
          <a:blip r:embed="rId9"/>
          <a:stretch/>
        </p:blipFill>
        <p:spPr>
          <a:xfrm>
            <a:off x="7236000" y="3068640"/>
            <a:ext cx="1087200" cy="1222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9" descr=""/>
          <p:cNvPicPr/>
          <p:nvPr/>
        </p:nvPicPr>
        <p:blipFill>
          <a:blip r:embed="rId10"/>
          <a:stretch/>
        </p:blipFill>
        <p:spPr>
          <a:xfrm>
            <a:off x="2700360" y="3357720"/>
            <a:ext cx="1368360" cy="693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0" descr="ani_thinkingcap"/>
          <p:cNvPicPr/>
          <p:nvPr/>
        </p:nvPicPr>
        <p:blipFill>
          <a:blip r:embed="rId11"/>
          <a:stretch/>
        </p:blipFill>
        <p:spPr>
          <a:xfrm>
            <a:off x="4378320" y="5877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1042920" y="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Type in what each of these phrases mean in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28840" y="1125360"/>
          <a:ext cx="6095880" cy="51325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J’ad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J’a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Je n’aime p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Je détes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AutoShape 21"/>
          <p:cNvSpPr/>
          <p:nvPr/>
        </p:nvSpPr>
        <p:spPr>
          <a:xfrm>
            <a:off x="2124000" y="1844640"/>
            <a:ext cx="790560" cy="72252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520"/>
              <a:gd name="textAreaBottom" fmla="*/ 457560 h 722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2"/>
          <p:cNvSpPr/>
          <p:nvPr/>
        </p:nvSpPr>
        <p:spPr>
          <a:xfrm>
            <a:off x="2916360" y="1844640"/>
            <a:ext cx="790560" cy="72252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520"/>
              <a:gd name="textAreaBottom" fmla="*/ 457560 h 722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3"/>
          <p:cNvSpPr/>
          <p:nvPr/>
        </p:nvSpPr>
        <p:spPr>
          <a:xfrm>
            <a:off x="5581800" y="1844640"/>
            <a:ext cx="790560" cy="72252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520"/>
              <a:gd name="textAreaBottom" fmla="*/ 457560 h 722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5219640" y="4437000"/>
            <a:ext cx="790560" cy="72252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520"/>
              <a:gd name="textAreaBottom" fmla="*/ 457560 h 722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5"/>
          <p:cNvSpPr/>
          <p:nvPr/>
        </p:nvSpPr>
        <p:spPr>
          <a:xfrm>
            <a:off x="6012000" y="4437000"/>
            <a:ext cx="790560" cy="72252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520"/>
              <a:gd name="textAreaBottom" fmla="*/ 457560 h 722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6"/>
          <p:cNvSpPr/>
          <p:nvPr/>
        </p:nvSpPr>
        <p:spPr>
          <a:xfrm>
            <a:off x="2556000" y="4437000"/>
            <a:ext cx="790560" cy="72252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520"/>
              <a:gd name="textAreaBottom" fmla="*/ 457560 h 722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7"/>
          <p:cNvSpPr/>
          <p:nvPr/>
        </p:nvSpPr>
        <p:spPr>
          <a:xfrm flipV="1">
            <a:off x="2268360" y="4508280"/>
            <a:ext cx="1224000" cy="4316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8"/>
          <p:cNvSpPr/>
          <p:nvPr/>
        </p:nvSpPr>
        <p:spPr>
          <a:xfrm>
            <a:off x="2411280" y="4508640"/>
            <a:ext cx="1081080" cy="4330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9"/>
          <p:cNvSpPr/>
          <p:nvPr/>
        </p:nvSpPr>
        <p:spPr>
          <a:xfrm flipV="1">
            <a:off x="5003640" y="4508640"/>
            <a:ext cx="1943280" cy="50472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4508640"/>
            <a:ext cx="1944720" cy="4330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5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6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7" descr="ani_thinkingcap"/>
          <p:cNvPicPr/>
          <p:nvPr/>
        </p:nvPicPr>
        <p:blipFill>
          <a:blip r:embed="rId3"/>
          <a:stretch/>
        </p:blipFill>
        <p:spPr>
          <a:xfrm rot="21375600">
            <a:off x="394920" y="549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5"/>
          <p:cNvSpPr/>
          <p:nvPr/>
        </p:nvSpPr>
        <p:spPr>
          <a:xfrm>
            <a:off x="684360" y="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Look at the pictures and write sentences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6"/>
          <p:cNvSpPr/>
          <p:nvPr/>
        </p:nvSpPr>
        <p:spPr>
          <a:xfrm>
            <a:off x="4716360" y="119700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7"/>
          <p:cNvSpPr/>
          <p:nvPr/>
        </p:nvSpPr>
        <p:spPr>
          <a:xfrm>
            <a:off x="3203640" y="119700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20"/>
          <p:cNvSpPr txBox="1"/>
          <p:nvPr/>
        </p:nvSpPr>
        <p:spPr>
          <a:xfrm>
            <a:off x="539640" y="2708280"/>
            <a:ext cx="567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ccent SF"/>
              </a:rPr>
              <a:t>e.g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ccent SF"/>
              <a:ea typeface="Accent SF"/>
            </a:endParaRPr>
          </a:p>
        </p:txBody>
      </p:sp>
      <p:pic>
        <p:nvPicPr>
          <p:cNvPr id="178" name="Picture 27" descr="j0287289"/>
          <p:cNvPicPr/>
          <p:nvPr/>
        </p:nvPicPr>
        <p:blipFill>
          <a:blip r:embed="rId3"/>
          <a:stretch/>
        </p:blipFill>
        <p:spPr>
          <a:xfrm rot="408000">
            <a:off x="4709880" y="6087960"/>
            <a:ext cx="358560" cy="7653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29"/>
          <p:cNvSpPr/>
          <p:nvPr/>
        </p:nvSpPr>
        <p:spPr>
          <a:xfrm>
            <a:off x="4716360" y="378936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0"/>
          <p:cNvSpPr/>
          <p:nvPr/>
        </p:nvSpPr>
        <p:spPr>
          <a:xfrm>
            <a:off x="3203640" y="378936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1" descr="j0396714[1]"/>
          <p:cNvPicPr/>
          <p:nvPr/>
        </p:nvPicPr>
        <p:blipFill>
          <a:blip r:embed="rId4"/>
          <a:stretch/>
        </p:blipFill>
        <p:spPr>
          <a:xfrm>
            <a:off x="4932360" y="1413000"/>
            <a:ext cx="1008000" cy="87156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32"/>
          <p:cNvSpPr/>
          <p:nvPr/>
        </p:nvSpPr>
        <p:spPr>
          <a:xfrm>
            <a:off x="3635280" y="1557360"/>
            <a:ext cx="790560" cy="72216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160"/>
              <a:gd name="textAreaBottom" fmla="*/ 457200 h 7221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3"/>
          <p:cNvSpPr/>
          <p:nvPr/>
        </p:nvSpPr>
        <p:spPr>
          <a:xfrm>
            <a:off x="3635280" y="4149720"/>
            <a:ext cx="790560" cy="72216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160"/>
              <a:gd name="textAreaBottom" fmla="*/ 457200 h 7221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4" descr="j0250159[1]"/>
          <p:cNvPicPr/>
          <p:nvPr/>
        </p:nvPicPr>
        <p:blipFill>
          <a:blip r:embed="rId5"/>
          <a:stretch/>
        </p:blipFill>
        <p:spPr>
          <a:xfrm>
            <a:off x="4859280" y="4005360"/>
            <a:ext cx="1152720" cy="853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5" descr="ani_thinkingcap"/>
          <p:cNvPicPr/>
          <p:nvPr/>
        </p:nvPicPr>
        <p:blipFill>
          <a:blip r:embed="rId6"/>
          <a:stretch/>
        </p:blipFill>
        <p:spPr>
          <a:xfrm rot="21375600">
            <a:off x="394920" y="549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5"/>
          <p:cNvSpPr/>
          <p:nvPr/>
        </p:nvSpPr>
        <p:spPr>
          <a:xfrm>
            <a:off x="684360" y="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Look at the pictures and write sentences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4716360" y="119700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3203640" y="119700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9" descr="j0287289"/>
          <p:cNvPicPr/>
          <p:nvPr/>
        </p:nvPicPr>
        <p:blipFill>
          <a:blip r:embed="rId3"/>
          <a:stretch/>
        </p:blipFill>
        <p:spPr>
          <a:xfrm rot="408000">
            <a:off x="4709880" y="6087960"/>
            <a:ext cx="358560" cy="7653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21"/>
          <p:cNvSpPr/>
          <p:nvPr/>
        </p:nvSpPr>
        <p:spPr>
          <a:xfrm>
            <a:off x="4716360" y="378936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2"/>
          <p:cNvSpPr/>
          <p:nvPr/>
        </p:nvSpPr>
        <p:spPr>
          <a:xfrm>
            <a:off x="3203640" y="378936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4"/>
          <p:cNvSpPr/>
          <p:nvPr/>
        </p:nvSpPr>
        <p:spPr>
          <a:xfrm>
            <a:off x="3276720" y="1268280"/>
            <a:ext cx="790560" cy="72252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520"/>
              <a:gd name="textAreaBottom" fmla="*/ 457560 h 722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5"/>
          <p:cNvSpPr/>
          <p:nvPr/>
        </p:nvSpPr>
        <p:spPr>
          <a:xfrm>
            <a:off x="3635280" y="4149720"/>
            <a:ext cx="790560" cy="72216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160"/>
              <a:gd name="textAreaBottom" fmla="*/ 457200 h 7221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7"/>
          <p:cNvSpPr/>
          <p:nvPr/>
        </p:nvSpPr>
        <p:spPr>
          <a:xfrm flipV="1">
            <a:off x="3564000" y="4149360"/>
            <a:ext cx="1008000" cy="6476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8"/>
          <p:cNvSpPr/>
          <p:nvPr/>
        </p:nvSpPr>
        <p:spPr>
          <a:xfrm>
            <a:off x="3851280" y="1700280"/>
            <a:ext cx="790560" cy="72216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160"/>
              <a:gd name="textAreaBottom" fmla="*/ 457200 h 7221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9"/>
          <p:cNvSpPr/>
          <p:nvPr/>
        </p:nvSpPr>
        <p:spPr>
          <a:xfrm>
            <a:off x="3419640" y="4149720"/>
            <a:ext cx="1152360" cy="6476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2" descr=""/>
          <p:cNvPicPr/>
          <p:nvPr/>
        </p:nvPicPr>
        <p:blipFill>
          <a:blip r:embed="rId4"/>
          <a:stretch/>
        </p:blipFill>
        <p:spPr>
          <a:xfrm>
            <a:off x="4932360" y="3860640"/>
            <a:ext cx="1038240" cy="1152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3" descr=""/>
          <p:cNvPicPr/>
          <p:nvPr/>
        </p:nvPicPr>
        <p:blipFill>
          <a:blip r:embed="rId5"/>
          <a:stretch/>
        </p:blipFill>
        <p:spPr>
          <a:xfrm>
            <a:off x="4788000" y="1557360"/>
            <a:ext cx="1368360" cy="693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4" descr="ani_thinkingcap"/>
          <p:cNvPicPr/>
          <p:nvPr/>
        </p:nvPicPr>
        <p:blipFill>
          <a:blip r:embed="rId6"/>
          <a:stretch/>
        </p:blipFill>
        <p:spPr>
          <a:xfrm rot="21375600">
            <a:off x="394920" y="549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5"/>
          <p:cNvSpPr/>
          <p:nvPr/>
        </p:nvSpPr>
        <p:spPr>
          <a:xfrm>
            <a:off x="684360" y="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Look at the pictures and write sentences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6"/>
          <p:cNvSpPr/>
          <p:nvPr/>
        </p:nvSpPr>
        <p:spPr>
          <a:xfrm>
            <a:off x="4716360" y="119700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3203640" y="119700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8" descr="j0287289"/>
          <p:cNvPicPr/>
          <p:nvPr/>
        </p:nvPicPr>
        <p:blipFill>
          <a:blip r:embed="rId3"/>
          <a:stretch/>
        </p:blipFill>
        <p:spPr>
          <a:xfrm rot="408000">
            <a:off x="4709880" y="6087960"/>
            <a:ext cx="358560" cy="7653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0"/>
          <p:cNvSpPr/>
          <p:nvPr/>
        </p:nvSpPr>
        <p:spPr>
          <a:xfrm>
            <a:off x="4716360" y="378936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3203640" y="378936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2"/>
          <p:cNvSpPr/>
          <p:nvPr/>
        </p:nvSpPr>
        <p:spPr>
          <a:xfrm>
            <a:off x="3276720" y="1268280"/>
            <a:ext cx="790560" cy="72252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520"/>
              <a:gd name="textAreaBottom" fmla="*/ 457560 h 722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3"/>
          <p:cNvSpPr/>
          <p:nvPr/>
        </p:nvSpPr>
        <p:spPr>
          <a:xfrm>
            <a:off x="3635280" y="4149720"/>
            <a:ext cx="790560" cy="72216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160"/>
              <a:gd name="textAreaBottom" fmla="*/ 457200 h 7221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5"/>
          <p:cNvSpPr/>
          <p:nvPr/>
        </p:nvSpPr>
        <p:spPr>
          <a:xfrm>
            <a:off x="3851280" y="1700280"/>
            <a:ext cx="790560" cy="72216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160"/>
              <a:gd name="textAreaBottom" fmla="*/ 457200 h 7221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5"/>
          <p:cNvSpPr/>
          <p:nvPr/>
        </p:nvSpPr>
        <p:spPr>
          <a:xfrm>
            <a:off x="3276720" y="1268280"/>
            <a:ext cx="1295280" cy="100836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 flipV="1">
            <a:off x="3348000" y="1341360"/>
            <a:ext cx="1224000" cy="9352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7" descr="j0398283[1]"/>
          <p:cNvPicPr/>
          <p:nvPr/>
        </p:nvPicPr>
        <p:blipFill>
          <a:blip r:embed="rId4"/>
          <a:stretch/>
        </p:blipFill>
        <p:spPr>
          <a:xfrm>
            <a:off x="4932360" y="1268280"/>
            <a:ext cx="979560" cy="1125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8" descr="bd07554_[1]"/>
          <p:cNvPicPr/>
          <p:nvPr/>
        </p:nvPicPr>
        <p:blipFill>
          <a:blip r:embed="rId5"/>
          <a:stretch/>
        </p:blipFill>
        <p:spPr>
          <a:xfrm>
            <a:off x="4859280" y="3933720"/>
            <a:ext cx="1089000" cy="952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9" descr="ani_thinkingcap"/>
          <p:cNvPicPr/>
          <p:nvPr/>
        </p:nvPicPr>
        <p:blipFill>
          <a:blip r:embed="rId6"/>
          <a:stretch/>
        </p:blipFill>
        <p:spPr>
          <a:xfrm rot="21375600">
            <a:off x="394920" y="549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0"/>
          <p:cNvSpPr/>
          <p:nvPr/>
        </p:nvSpPr>
        <p:spPr>
          <a:xfrm>
            <a:off x="395280" y="221292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excell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95280" y="280836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sup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395280" y="338472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intéressa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395280" y="397980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nu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395280" y="453708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ennuyeu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395280" y="511344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dangereu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1403280" y="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Type in what each of these opinions mean in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7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8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32"/>
          <p:cNvSpPr/>
          <p:nvPr/>
        </p:nvSpPr>
        <p:spPr>
          <a:xfrm rot="21396600">
            <a:off x="3189960" y="1274760"/>
            <a:ext cx="2390760" cy="520560"/>
          </a:xfrm>
          <a:prstGeom prst="rect">
            <a:avLst/>
          </a:prstGeom>
          <a:solidFill>
            <a:srgbClr val="ffff99"/>
          </a:solidFill>
          <a:ln w="25560">
            <a:solidFill>
              <a:srgbClr val="33cc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C’est = I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3" descr="MCj04244780000[1]"/>
          <p:cNvPicPr/>
          <p:nvPr/>
        </p:nvPicPr>
        <p:blipFill>
          <a:blip r:embed="rId3"/>
          <a:stretch/>
        </p:blipFill>
        <p:spPr>
          <a:xfrm>
            <a:off x="2484360" y="5950080"/>
            <a:ext cx="862200" cy="907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4" descr="MCj04238420000[1]"/>
          <p:cNvPicPr/>
          <p:nvPr/>
        </p:nvPicPr>
        <p:blipFill>
          <a:blip r:embed="rId4"/>
          <a:stretch/>
        </p:blipFill>
        <p:spPr>
          <a:xfrm>
            <a:off x="5867280" y="5950080"/>
            <a:ext cx="839880" cy="907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5" descr="ani_thinkingcap"/>
          <p:cNvPicPr/>
          <p:nvPr/>
        </p:nvPicPr>
        <p:blipFill>
          <a:blip r:embed="rId5"/>
          <a:stretch/>
        </p:blipFill>
        <p:spPr>
          <a:xfrm rot="21375600">
            <a:off x="394920" y="549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23:27:49Z</dcterms:created>
  <dc:creator>The City school</dc:creator>
  <dc:description/>
  <dc:language>en-US</dc:language>
  <cp:lastModifiedBy>ICt Department</cp:lastModifiedBy>
  <dcterms:modified xsi:type="dcterms:W3CDTF">2010-01-15T20:05:13Z</dcterms:modified>
  <cp:revision>24</cp:revision>
  <dc:subject/>
  <dc:title>Les sports</dc:title>
</cp:coreProperties>
</file>